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F32F-591F-408D-B495-C0931D30D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91A7-D9C4-40E5-973E-8E6BF0C5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CD34-4ED4-463F-BE19-A4121C4D4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3B52-EFFA-4CB3-B183-AE589F32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8C20-B898-4A17-A257-EA90EAAC7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24B9-8A16-4727-9AB1-0ABBF938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CA57-40F6-471E-BE28-32BE920E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16F4-D62F-4E20-B837-E4105D19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8FDC-FC3D-437A-89A5-08851BF8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4613-E6CC-4020-8B1B-28A45417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2105-B213-4F7E-AF1D-365BCCD2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BA96-A398-4220-B2B8-5350F802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E444-ED63-439C-A5EE-2BF342B3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BB60-5D3C-45A1-85E0-CAC71AA9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721D-49F3-4CA8-95CD-F4B753EE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4E2C-DCE2-4CC6-AA19-54C7F0A0E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4EAA-EFE4-4FFF-9446-A41BA722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AE04-89FE-4342-AACA-E1F492F7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2CD7-7F3C-46C7-97B9-233DD7EC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3EB7-2285-4A96-ACA3-5D6E537A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4B0A-7655-4BCC-B9E8-EAF43F68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82EE-B3AF-40E0-83E0-D4EA9A29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DE2E-E1F3-437C-92E7-A0F36B72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B679-4390-4560-A38C-68ABFD17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A292-B520-4A96-9686-5805A19B0D2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FEA0-0856-4B20-AB17-D2974315563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9:54Z</dcterms:modified>
  <cp:revision>22</cp:revision>
  <dc:subject/>
  <dc:title>Slide 1</dc:title>
</cp:coreProperties>
</file>