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0138-C4EE-4A4A-8205-18B39952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5B1-66ED-4E05-8A55-33955A9B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DA29-8568-4A17-8058-F1E3B3DF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0A64-6CB2-450B-B6D4-99BAC3FB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540F-8357-4681-8D9D-BE87BE86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886D-91E1-4EED-9C09-A7B6D403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AB96-91DC-427A-9D96-55A8BA01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B921-9EBC-4F2A-8416-687E92DA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A6158-9B23-4A09-810F-073F5494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8D70-EEBE-455D-9BA9-B019C647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47E9-DD78-4757-AA88-4786538B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B6F-9FA3-45F0-A367-B8871C40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AC09-17DE-4EE5-879C-910E1469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16A3-D437-4D42-88A4-83DD755A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B4EB-4B46-4638-A5CC-EE493C5F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DD3A-48A1-4D34-AE7E-5EA83226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5C94-69FF-453F-A4AD-EEC91A42D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B8D0-6814-4DA8-A369-C4EC5EDC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AD19-B1B9-4D0B-AF77-77E401BE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865-8AFC-445C-96D7-DC92F4D3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FF73-60BD-4AA9-B0BD-049A8B37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677-9B34-40B6-A42D-1493483B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80B2-90AD-44F0-82DD-93DD5BE8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7ADC-9C57-4CC2-B37E-029B6083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A918-3408-49F6-8515-70FFF1CB924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EEEF-6550-481B-9DF2-13091870D0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5:16Z</dcterms:modified>
  <cp:revision>23</cp:revision>
  <dc:subject/>
  <dc:title>Slide 1</dc:title>
</cp:coreProperties>
</file>