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75EB-6BD0-4B79-84A1-39F8665FD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C7C8-95C9-4AD9-A97B-820BD31D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0C5A-B042-43FF-B763-64A7C96EB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7235-EE4D-4DBB-95E0-6EB57CA9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86A1-29B9-43A3-A80D-A8F77874D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BE72-B3E2-4822-A74E-C402A9F7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544B-E683-417C-99EC-A3835C66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3AB5-0A87-43FB-BBAA-74823BA9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2AD9-9FA2-499B-81A6-C6BA4D05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1DA0-A202-434D-B66F-58B84527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5BD5-C95F-49A1-A015-6D2670F1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4D4D-331C-439B-805C-1D2523CB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FEC0-8013-4E14-B276-0BA5A54B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F76C-D5D8-4724-B5C4-52C95D6C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8575-4300-4AE2-87D7-1C99FE83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E073-C294-4273-B8BA-C871C2464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6655-0B1C-42D4-9A09-BF2C69E6B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F46B-7831-4A06-B9EA-6331BF28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29AB-EACB-4A97-A658-42FC2C48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2553-A4DD-4543-9623-6AAD9633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B70B-73B1-49EA-8C6C-4F4E8F47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DF0B-EFB5-4E45-8C92-15A5256F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31C7-8865-4E16-885D-167BD4D0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A4D5-9FA5-481A-A1AA-0DC770AF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93FD-5B1D-4320-8E07-B0005A3ED49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E002-30CF-4B8E-A363-284E9403162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5:16Z</dcterms:modified>
  <cp:revision>23</cp:revision>
  <dc:subject/>
  <dc:title>Slide 1</dc:title>
</cp:coreProperties>
</file>