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86B02-76CC-49BF-ABAD-BDF67C97B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50560" y="3964320"/>
            <a:ext cx="843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A6C0A-B827-466B-A0A4-22EAE5FF5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5056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344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02338-E02E-4014-A0C1-F930BF555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02840" y="160020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55480" y="160020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50560" y="396432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02840" y="396432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55480" y="396432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89DD5-9F16-444E-8E5B-A8EF041EC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C429F-B43E-43DB-8508-751D2AD32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B4301-5BFA-4C7D-89C7-26BB77C86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69B20-A4A4-468F-9B98-BE271580B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378A5-F66C-409E-8C1A-C90596967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8454E-BD3B-4F98-AE4E-A8FFBA59D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59920"/>
            <a:ext cx="8447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54F12-B13A-4059-922D-9A3A4406D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5056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460A5-F3D6-4196-B4E1-89A06301F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CBC49-06B7-41B6-B4AE-A10C17F78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344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1C6DF-46F6-420E-B27C-D58EAA4BA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50560" y="3964320"/>
            <a:ext cx="843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5EBD9-6E12-48A3-824F-ADD440024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50560" y="3964320"/>
            <a:ext cx="843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E51FD-EE5C-442E-9372-2C006CDA3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5056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344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0EDDF-13F5-4645-BC2A-8F5EE0F30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02840" y="160020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55480" y="160020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50560" y="396432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02840" y="396432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55480" y="396432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C6FDE-B858-4051-A138-3370E4BC0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4B15C-788A-4CFF-B7DF-D8B7FD79F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3DD9C-D614-4352-A267-3A59CCAD6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A7CB8-9D12-4DD2-BAD5-533117E21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59920"/>
            <a:ext cx="8447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044EB-51D6-4F21-BC23-34ECBE2B2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5056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2CA38-2640-42A6-A162-869A3AC58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344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B246B-B0E7-4FFD-B340-0E56ADC90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50560" y="3964320"/>
            <a:ext cx="843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A3CA4-8E04-41AD-8E3E-E11943E9C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09A36-3861-4993-A68F-A7F617744D79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1557000"/>
            <a:ext cx="547200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BD51E-50B9-4E93-B73A-DC3CA7C0BC5B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32000" y="1557000"/>
            <a:ext cx="547200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66920" y="3715920"/>
            <a:ext cx="5510160" cy="9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7T13:14:40Z</dcterms:modified>
  <cp:revision>23</cp:revision>
  <dc:subject/>
  <dc:title>Slide 1</dc:title>
</cp:coreProperties>
</file>