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55A0-B07A-4C64-A66A-20D2EED8A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2BDB-B802-4351-AFAD-9B49BC235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49B3-FD81-4229-B6A0-C5B34B31F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0284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5548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056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0284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5548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E5F9-5DD6-412D-BE82-A99D22A0B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7A819-B08B-40CD-8EDA-96E409E26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B8376-AE3D-4934-909D-074442712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50712-33AF-42C0-8C23-14FB967B5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1C87F-0BC2-495D-8A0F-0909A9A92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F5950-CD94-40AD-A047-1FC59CCEB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59920"/>
            <a:ext cx="8447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4459E-CD6F-4F5B-BB5E-C9F34C32C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6038D-1E5D-45F2-8937-9D3AF73DB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0696-D95D-4D75-BF7C-44BBE415F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363AA-640E-494B-9AAD-1177CDBDF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D504F-4034-4E1B-A29F-18B4237FC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D79AD-0289-4D53-A9F7-CED956B8B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98653-8A48-41E2-A71D-45C5A429E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0284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5548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5056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0284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5548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1175F-FB24-4A78-BB99-F98559EFA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53BC-1F49-40E0-B4EB-41534D34C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9C47-CF4C-4965-AF12-592268FD9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DE13-AF8A-4F25-89C2-831719E39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59920"/>
            <a:ext cx="8447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241E-6012-4F9B-BBC3-B220E7A89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AF3E-8B47-4EF6-9A8F-2AE2E57E3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9887-5359-4C3D-B5E2-5817019DF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9E36-F7FD-44D0-92EF-7CD0D02D6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BE1DC-1FE5-453A-BA7C-F0554039CEB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C06E4-E66D-4864-90FF-43CD500E17F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920" y="3715920"/>
            <a:ext cx="551016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7T13:14:40Z</dcterms:modified>
  <cp:revision>23</cp:revision>
  <dc:subject/>
  <dc:title>Slide 1</dc:title>
</cp:coreProperties>
</file>