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E43A-E24F-4480-AD3D-1A7559529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C192-9398-4391-9177-929D264E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BB7C-A043-4594-A949-E93C0EC59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4B7B-EF1C-4810-8CE0-4C2B42183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684D-FFD3-4BF2-BAFD-AF2FACDC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CE8A-9904-4E05-931A-7020D673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9BFE-943D-43DC-9CCF-E7300EF6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B59C-3FCA-4510-B5F1-5D9406BB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CCCD-ACB8-4FEA-BD90-D30EE61B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FDC7-C390-4593-97CB-C1CB5AA5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3D58-38E0-47D9-BF7C-C67FF4DC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8677-6542-4C0C-BBB6-AD0B9EF1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1E1E-91D3-43FD-8580-0AFF50CD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3055-EF0F-4F0B-8E27-D57645D4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28D1-FB82-4612-9E48-86CA85E4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1E63-36D5-4826-A399-6302B88B8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FC1F-09B4-4089-B03A-000195F0D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ED74-1E3B-4EDF-946D-166F64A5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0204-AE9B-4A95-A4A0-59FA3B89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C452-5960-4015-A098-48FD9C1E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2B69-1CEE-4938-9EED-F4611A98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E385-8C41-48AC-B777-2D0E7B37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81A8-1E64-41DB-B9E9-86B20DF7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9BA5-8EF1-4230-8D73-6A8F4959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CC05-4D83-4188-8AD8-C5AC3A40F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575F-4793-44CD-9D56-B3F671942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5:17Z</dcterms:modified>
  <cp:revision>19</cp:revision>
  <dc:subject/>
  <dc:title>Slide 1</dc:title>
</cp:coreProperties>
</file>