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9CA4-5AA5-41C6-92C3-E456867C1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A428-C6A5-4D8D-88C8-BB9FBBC5E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0928-71BC-43C9-9DBE-56C18C7E4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538D-3B71-4680-98B0-95F82F8F9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3566E-1BF4-47E0-93A8-CA70DFD97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BF693-FCBF-4A9F-A319-442E9F1F5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95EF6-A14D-4B1C-9B77-8DAA98F0B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9C575-73DF-4E8A-94F2-937958F11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A749F-FE91-47A5-85E6-5104024C5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CE926-0674-459F-AE3A-03E4F026E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29DEB-1C21-4A85-8774-66AB4EAC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1147-E9C9-4DD3-8DEE-626C59E88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8C571-4A5E-4B93-8DC6-AF96E849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732D9-0EE8-4002-B147-C389C9D3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27F1F-B535-4F34-B1D7-2515EF2A0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DC7C8-A82B-4741-809F-D6677DF89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651E6-708F-4B31-A0A8-5A1FB3D1D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7613-C4C0-4E93-B0C4-749BD51D5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5EA7-7A0E-4A67-8919-5F04487CE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94E7-6C31-4357-BE5A-A5D5CA27C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3A35-83DE-4685-B4B3-3F20B4F4C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AF0B-C8BD-472D-96CF-9D457843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7B3F-B7F7-4D70-B62E-82D20186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BD62-975D-4295-B1AC-DC3D2691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810B4-266C-46EF-8505-77B9A70ED6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95280" y="1557000"/>
            <a:ext cx="66243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2A37C-45CF-45C9-A9EA-CDEBF0CA63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95280" y="1557000"/>
            <a:ext cx="66243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195280" y="3715920"/>
            <a:ext cx="66243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8:54Z</dcterms:modified>
  <cp:revision>19</cp:revision>
  <dc:subject/>
  <dc:title>Slide 1</dc:title>
</cp:coreProperties>
</file>