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FFF0-491F-4DE9-AB18-AF15375E8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401E-D1E4-4D3F-B45F-A0BF1262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9211-73FE-4E04-8A98-A2124D210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A335-C302-4490-8775-93BFAB11B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8FD5-1022-4F44-AD2B-66AB3E006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A709-A3FD-4421-87A0-3115D17F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482A-9693-481B-99A7-4F6AB176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A556-4304-42B4-9809-E0DA8423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37D6-D24C-4C2F-B067-1A164437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6801-4C8B-418D-9049-E9FDA0CB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A8FE-1DF9-4E32-B5F7-4529EA96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2807-0A6B-4A75-B12E-0028E4D0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78F9-7F83-4485-A60C-3ED41FD8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7911-7172-47BD-86BE-05062298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E035-CDCE-4209-B947-290B4A2F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725E-A7B6-4C3F-8FF1-223BA2606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5706-24C3-4B98-8B53-36894C8DA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F3E8-56BA-40B9-9F16-175403B1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4A94-B8AD-41A3-A333-CD09F479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D78F-381F-4FA2-9A25-A06DE411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45CF-796F-44C1-B2BF-788A8929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9934-4ADA-4849-B509-DD4527EC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1C6C-8977-41AC-B57C-68005F6D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C8A8-BB0E-4D90-B320-8132671D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6EC4-499A-4963-8739-637A5A224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3C0E-0651-4CA0-8659-C5C603C6B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95280" y="3715920"/>
            <a:ext cx="66243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8:54Z</dcterms:modified>
  <cp:revision>19</cp:revision>
  <dc:subject/>
  <dc:title>Slide 1</dc:title>
</cp:coreProperties>
</file>