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DF52-52BC-4911-83D9-79732F7F5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70D3-803E-4232-9CDE-F17449AB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95C2-5898-4D0C-9A49-CD0040C49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C3CD-4A06-4AA6-8F3B-FA7FEA8E2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AC09-4F49-4D95-A269-6B628B2E2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20A2-4799-4094-AC00-EFE7F3A5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F573-5F1E-476A-B2E8-AB1F3DB5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FD6E-04D7-43F3-8881-1C4D84C2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E5ED-AB38-42AB-A013-051AECA1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A3D6-6A0E-42C8-812D-82B868C8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1E96-BA37-4923-B015-CFD30A3B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52B2-8BB1-4183-B7F0-FAD3DC16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01A2-074A-4F67-A4DA-7A8899D4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2AFF-D54A-4B73-8FDC-F6AA6E92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87CC-C987-4131-A47E-3F639D8C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758C-D5C8-41AE-B685-50AEA7D47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4186-CB51-46FD-AF43-1F7A2A4F0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7B40-FA6D-4BFD-8B3D-BA2FA331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2930-EEA9-4552-AF67-316DDA46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142B-0A07-4573-B9AD-B0BE7593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8DA4-7DD1-4324-A1B8-407CBB88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FC2B-AC01-4F95-AF56-CF2F9670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0381-77E1-4CFF-B0A7-20610423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6E02-6041-40C6-A891-E3F64420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D01F-4FF5-4EA5-B650-0979B1F0F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16E1-6126-4AE8-8AE4-2D7A1D40F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715920"/>
            <a:ext cx="3205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2:46Z</dcterms:modified>
  <cp:revision>18</cp:revision>
  <dc:subject/>
  <dc:title>Slide 1</dc:title>
</cp:coreProperties>
</file>