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5F25-AA2D-45D3-9D5F-30D06848C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F35A-8A6A-46A3-A21C-3885171F9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D478-F76A-49AA-A0CF-5E7D947A8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E5D5-CB1C-497B-B986-B3A43380E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A6B57-1AAE-4349-AC8E-767DA0ADE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48450-F959-4198-AC8D-27F891786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84C97-3865-4A37-9081-5F0A8D0B6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B36F6-2743-440D-B08F-E2447D79E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7C31F-8280-4871-8321-BF0099E1B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E6F92-F24F-429E-8422-3E3986DAF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4B893-67AD-44F4-879B-F7CE6124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082E-2B75-4D4F-BACA-A8D35F42A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7938E-E15B-432C-A069-B548C396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65F4B-7C37-4728-9F11-A55922BC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58317-4DC4-47B5-A838-227419FA2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2A57E-02FA-44B8-9631-803A8C45F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6F19C-FA79-4B56-83BF-B5119BB73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51A6-B642-4D55-B188-8907C24EB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9E73-279D-4BFC-8FE6-EFBE498BF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F06B-0E6C-4AE8-80A4-B3E979E93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1589-5A50-45FF-B40D-AB15B58D1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AD41-F93D-418D-AEAD-85783C0C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EB30-C89F-4346-99EB-859B8B64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EEE2-EDF7-4B58-B1DC-3AF7A085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DE7BD-0FED-4A4C-967D-01AFE20A6B3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03640" y="1557000"/>
            <a:ext cx="4821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28E17-5875-4487-B4CB-A911D533E5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03640" y="1557000"/>
            <a:ext cx="4821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203280" y="3595680"/>
            <a:ext cx="482436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0:50Z</dcterms:modified>
  <cp:revision>20</cp:revision>
  <dc:subject/>
  <dc:title>Slide 1</dc:title>
</cp:coreProperties>
</file>