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620A-15CC-453C-8EB4-EAD6A85B1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414D-CD9D-4315-B720-455DF60C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9C42-E2A9-4A65-8BA8-EAC1FAE0C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001E-9C88-4F0B-BD7F-3C4F013D0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C7B0-5A08-4E89-8136-3C2E92BCA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6FA4-58A8-4106-A65D-C6FCEAE5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2DB7-5D06-4CE2-BD0F-EC811120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0A09-E9C0-4F19-B316-9020376F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2D6C-1CEB-4543-891B-C8293FD4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6D4F-CB8E-496E-8C99-FDDB932A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0605-481E-45CA-B043-9294DDA1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75CB-7587-4E91-8DB8-C7B61F72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2E0EE-18BA-4FB7-AFEE-92A35CF8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CDDC-D2B4-426F-ABE7-A76FDA0D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F733-1F0D-4E7C-A14D-79A2031A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5010-F004-405B-9F2C-36D8339B6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5BD0-D7AE-442B-825B-02FE11665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6237-9BD1-42BC-8569-E1252116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0D80-41BE-4379-A862-8CE593E7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B5B0-53DD-43CB-AD8F-7FEF221D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6442-798F-47A4-A1A2-73E100F9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ACB0-B35B-4F83-8719-8DD48A1E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EAB3-C438-48E7-9006-A9382916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CBA6-CA6C-49E6-B532-25D37805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59FC-773E-4D44-B27E-53C8FCE0324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6192-070E-42D3-8617-BB6FC1F97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03280" y="3595680"/>
            <a:ext cx="48243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0:50Z</dcterms:modified>
  <cp:revision>20</cp:revision>
  <dc:subject/>
  <dc:title>Slide 1</dc:title>
</cp:coreProperties>
</file>