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C102-1FD7-4B7E-B939-8685F81C1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D7D4-CC6A-4109-BA2E-ABE7F738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1424-1CE0-49AB-B973-4446C36A3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69ED-6CDE-485E-ACEC-BBF1BE13B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E0C4-6B05-46F4-8EAC-95C42227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0771-48C0-4A63-BFC1-78FB5928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3A82-0FAB-4EC8-BED4-41EB33B8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0B26-23B8-4C98-B823-1223620C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C1CD-FE8F-471B-B6E7-4E98F82B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48A8-4D86-49BF-BA7D-6058839D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A27A-18C4-450E-BEEA-2662B3C2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DA81-0C3C-4EBD-A37C-96336AAF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214E-C7A9-4961-8238-9FA12121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C311-F8AE-4AD9-9745-0198AB9C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6E6E-1766-4826-84B1-9E87AFAE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4F0E-5D54-4FB1-A9DA-A042351AD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1414-3D0C-4196-BC85-E74E7D926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9F61-81E9-4CC0-99C6-395232B8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0822-191F-4042-B2A0-16F34A21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CAC9-F06D-4725-A04C-44529BDD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B542-3D43-4793-A28D-55E73E0F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099D-7F94-4D4A-8B74-572B461A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DAA6-C99F-44DB-8392-D723C6CB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13EB-8927-4BF9-86AC-21CBF07F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CB26-08FA-45B2-90BB-357C58996A3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774B-4B67-4726-933B-02D139CCE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03280" y="3595680"/>
            <a:ext cx="48243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0:50Z</dcterms:modified>
  <cp:revision>20</cp:revision>
  <dc:subject/>
  <dc:title>Slide 1</dc:title>
</cp:coreProperties>
</file>