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142F6-0AE1-42F6-A59C-A9291CED0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19BCA-F49A-4AAC-886A-BBB3BF87F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32A68-F02E-4E9D-B15B-833143E86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4BCD5-2A8B-4084-91DB-6AE80D18D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334F2-91D8-49C5-8CBA-931C41D66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A7FCA-2249-44A5-B81F-0C1ED749A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E586F-6F52-4F30-8D51-0F0158B1C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BAE6B-5C67-4049-8A83-E1C67C907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62937-20F0-4A6D-99D8-E70CB4680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68360" y="-243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A1B48-3485-46A8-BF58-89EE7AE30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ADF61-01D5-4271-BB0E-C3D35DCF0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7524E-4400-438B-8262-8771662B1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0D973-4433-4424-8BCB-42FF17966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C2437-1001-40E9-B9E6-5AD95D942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465D2-7FF0-4FF9-8D9C-343951FE8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E8F6A-D7B7-4E9F-A02F-9C91DED69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25C9D-1142-493B-A48D-B81173A7E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FB0F6-2CD1-4FEE-8F86-BD3154D30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1EACE-B4A2-438A-8FE3-60328FFD1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9AA98-E7D9-4946-81C6-9CE673E73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243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CB619-DB74-4067-8A71-4A16DC1A2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E9D22-14DE-43D3-A177-56BE2BD86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E5DCF-8CB7-4D0F-A6BB-FBDB16CD8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3341C-6125-4EAF-BB39-641E70B96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E66E3-7E1B-4BB5-85AE-A008013930C8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1640" y="1557000"/>
            <a:ext cx="669276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A1ED9-D984-4543-BC2B-54D34D5BB1EB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31640" y="1557000"/>
            <a:ext cx="669276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66560" y="3285720"/>
            <a:ext cx="6661080" cy="9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27T13:13:44Z</dcterms:modified>
  <cp:revision>18</cp:revision>
  <dc:subject/>
  <dc:title>Slide 1</dc:title>
</cp:coreProperties>
</file>