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288FE-3D14-4A64-AB90-6408EC60A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907640" y="1600200"/>
            <a:ext cx="61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907640" y="3964320"/>
            <a:ext cx="61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07E36-01A2-4DA1-972F-BA26B5651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907640" y="1600200"/>
            <a:ext cx="299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9720" y="1600200"/>
            <a:ext cx="299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907640" y="3964320"/>
            <a:ext cx="299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9720" y="3964320"/>
            <a:ext cx="299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E409B-1954-49BB-9A81-0D07008ED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907640" y="1600200"/>
            <a:ext cx="1973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80520" y="1600200"/>
            <a:ext cx="1973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53400" y="1600200"/>
            <a:ext cx="1973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907640" y="3964320"/>
            <a:ext cx="1973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980520" y="3964320"/>
            <a:ext cx="1973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53400" y="3964320"/>
            <a:ext cx="1973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21454-6D02-401A-B8D6-339BC08DC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907640" y="1600200"/>
            <a:ext cx="6131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3B59C-31E8-4225-9AB3-B8E7637EF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907640" y="1600200"/>
            <a:ext cx="61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6B09F-95E3-4A50-B987-FFC04140E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07640" y="1600200"/>
            <a:ext cx="2991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9720" y="1600200"/>
            <a:ext cx="2991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29AC3-B4E0-4692-A125-85B8B50A5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91D17-AE3B-413A-A9A0-D72950974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916000" y="274320"/>
            <a:ext cx="561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B115E-7878-4338-97A6-4C688ECE7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907640" y="1600200"/>
            <a:ext cx="299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9720" y="1600200"/>
            <a:ext cx="2991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907640" y="3964320"/>
            <a:ext cx="299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D016F-6768-4881-9E7C-2D82EE1C1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907640" y="1600200"/>
            <a:ext cx="2991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720" y="1600200"/>
            <a:ext cx="299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9720" y="3964320"/>
            <a:ext cx="299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F9CD9-C79D-4C2E-9315-DC1A795D9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907640" y="1600200"/>
            <a:ext cx="299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9720" y="1600200"/>
            <a:ext cx="299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907640" y="3964320"/>
            <a:ext cx="61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7B013-7ECF-4393-B7CB-D8F7E1666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f2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907640" y="1600200"/>
            <a:ext cx="61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69576-A082-410D-BBDC-E123D2CFF4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907640" y="1600200"/>
            <a:ext cx="61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3T00:46:13Z</dcterms:created>
  <dc:creator>IMS</dc:creator>
  <dc:description/>
  <dc:language>en-US</dc:language>
  <cp:lastModifiedBy>IMS</cp:lastModifiedBy>
  <dcterms:modified xsi:type="dcterms:W3CDTF">2007-10-23T00:48:52Z</dcterms:modified>
  <cp:revision>1</cp:revision>
  <dc:subject/>
  <dc:title>Slide 1</dc:title>
</cp:coreProperties>
</file>