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22E-CBBA-4B0E-9497-FCD682BB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42C-3D93-4A88-B832-9B64152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28D-CB4F-4676-A0C7-821F923B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052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3400" y="160020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764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052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3400" y="396432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FE6-B40A-434D-A023-E52C81DE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9A2-6134-4A76-9079-A8A27FCA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06E-B8D9-4BBA-8AC5-F349F45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9A6-89FF-43EE-9E9E-694D7B87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763-99FA-4E86-8AC6-2445D27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0" y="274320"/>
            <a:ext cx="561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9FA-ADD6-4EDC-82AC-858DE4B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FB5-527B-4F1D-9201-B647E8B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720" y="396432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588-EECF-4B78-89A2-8D0D22F9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720" y="1600200"/>
            <a:ext cx="2991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7640" y="3964320"/>
            <a:ext cx="61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C0E-A5B4-4E1C-BB38-825D1D1E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f2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CECA-226E-4AA2-B8C3-EE8F217A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6000" y="27432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f2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7640" y="1600200"/>
            <a:ext cx="61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0:46:13Z</dcterms:created>
  <dc:creator>IMS</dc:creator>
  <dc:description/>
  <dc:language>en-US</dc:language>
  <cp:lastModifiedBy>IMS</cp:lastModifiedBy>
  <dcterms:modified xsi:type="dcterms:W3CDTF">2007-10-23T00:48:52Z</dcterms:modified>
  <cp:revision>1</cp:revision>
  <dc:subject/>
  <dc:title>Slide 1</dc:title>
</cp:coreProperties>
</file>