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D6FC-8767-4450-BF21-60AE27235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749C-6865-4B59-B031-2B201B41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DAC7-FEC0-4C3E-ABCF-52B2D46D8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0F25-B921-406F-ABD5-2F3433FC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52B5-79CC-40EE-929F-E2CA61478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F8FC-AD7A-444E-8E7E-976DF1B7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AA9C-D8FA-4A8F-A76C-5F332A92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EC07-F265-46F9-9F27-19EECF9A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F1A1-DACF-4481-A0FD-E2802323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AFBA-AF56-49F5-A615-D907DEEC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DA7A-32E1-43AD-B0AF-BDFBC454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656C-F032-4303-99A8-AB00ECEB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3041-DA10-45C1-ABFE-94C968F1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202B-C0BB-4011-A25D-2F8C9FE7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3A9C-4CC6-43CC-A887-B88E7065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3393-F87E-40A4-AA90-793F3BC3C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3AB9-22CE-4DFF-9924-FE17178C9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06DF-9DAF-43C4-9F1E-582EFD2A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74C4-C8C6-4144-B254-950F9588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DA4C-2BD2-4B0C-AFBC-4B0ABBB1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2BF8-4881-4BB3-AA37-158055AA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6E9E-45F6-4EFB-AFF4-3EA4117D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3321-4E32-40FD-B063-37E79F49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4A0D-7877-4222-B2A9-CBBC8DB8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C831-F2B4-4563-B0E9-3A51D5323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7BAF-87AC-469E-94DC-68167A9EB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2:03Z</dcterms:modified>
  <cp:revision>17</cp:revision>
  <dc:subject/>
  <dc:title>Slide 1</dc:title>
</cp:coreProperties>
</file>