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BCB05-7D29-4FE8-A134-58BEDABE5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B22B3-C7A7-4ACD-AA77-285846B5B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DD86C-023D-4A5F-A7C4-ADCD1AE0C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01BAE-3A50-4F24-8A07-6334F90D3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E28B4-099E-426D-820A-DDF0B2F18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AE182-B46C-48B9-A319-0A810094C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6D0E9-280F-4C06-872A-A476E6C43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A8FE6-AC33-4D3E-BBB6-19C4F0BAE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A51AD-5A27-4DD0-B3BE-7A32FCD0C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A1A26-D18F-485D-9E14-E20C97670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A9BB4-5861-4631-9BCC-1A472A6BB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41402-D9E4-4519-9229-21A2AA494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86073-93B3-4469-9BCA-C0F6991A6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B69DB-C156-431B-AEDC-4E356CB55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7CF1A-C50A-42C5-A644-439C07941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B8DE1-A332-45CD-AC99-48AF4F981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BBABC-AF2A-48DA-995E-C6E3586B4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599BB-7986-440C-96F3-64FEF6C44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88DBD-C3DF-4BD9-8808-890063E56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2CAC0-76E4-46E7-8BC1-4D799D4FF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DF523-FF36-4B63-BC94-BB0A0485C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8CC64-E927-42E4-9CD3-293AD8355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C9B05-42B6-403B-8712-DC2F5D2CD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9E2BD-2C67-4809-9EC8-62B8E8B9B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4B5F3-FC7C-4F5D-90D9-B7721957240C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08000" y="2060280"/>
            <a:ext cx="669312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24FA2-A1DB-48E5-BBC0-1B010AA016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908000" y="2060280"/>
            <a:ext cx="669312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942920" y="3789360"/>
            <a:ext cx="6661080" cy="9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17T18:49:04Z</dcterms:modified>
  <cp:revision>15</cp:revision>
  <dc:subject/>
  <dc:title>Slide 1</dc:title>
</cp:coreProperties>
</file>