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D28D-4E77-45B8-8686-09615BEE5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735B-A2A4-40CE-98FC-A24ED0AF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244D-32FC-4BDA-8940-2169C75A4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8BB5-44BC-4970-9188-EDB0ED9E0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9C5F-56C9-405B-9DC7-1D9717C9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F039-51EE-4920-968F-0F9DD4FB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6692-41E0-430A-8B17-558C9648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C71B-ACE8-45AA-B390-B4AE5EA8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CE74-54CE-4B08-B807-FD42EED0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FB57-616E-4A04-96D8-4056F72D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3A6C-3FB2-4405-859C-E735B8BA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9BA8-637B-45E9-ADF8-E2213778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0675-C7B5-4188-978F-58C4DC0F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969B-813A-4D7F-8D10-06F4158D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FA89-0230-46FC-B2F4-677BADD8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2A63-B721-4C62-B1DE-DF0B95098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940F-CF89-47EC-8FC4-05B69E194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72AD-83D5-45E2-9D52-F3444D9F1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BD31-E9DC-4744-8AA6-887A2286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10D4-5C11-4333-9EF5-9564F3C0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1CB7-A3B9-4A44-A478-4B8134CD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067E-A1F9-4B2C-9DDF-39F980DB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1BC6-B111-4E6D-B176-ED0B5967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A11E-C4C9-47F2-B3FF-2A64770E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AF27-6D85-4EC9-AC49-983764B7140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1A16-2DAD-4B8C-B2AD-AD779EB5AE7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1:07Z</dcterms:modified>
  <cp:revision>14</cp:revision>
  <dc:subject/>
  <dc:title>Slide 1</dc:title>
</cp:coreProperties>
</file>