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0539-1D39-4347-9CB1-50D454759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59EF-91E9-4AC9-8DC1-0E08DB989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959A-F6BA-458E-A721-A39572756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9953-6B7C-4D7E-9249-1FD2D18FE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7191B-7F31-4D6A-98D2-399639E8D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58718-207C-46A2-8229-74315E5E4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E188B-D4F7-4A21-9329-A9FDFC42A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0D525-0C53-454C-92AE-927C913E4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E3104-D2CB-4DCF-94D8-A7F01AEDD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5264E-BEDB-4C4B-9650-242E7029B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08B4D-EB0B-4394-B5F4-1DC6F315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5E8F-1433-4A52-AF7C-505A7332F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DF860-9571-4AAF-87A6-D621B19B0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821D2-EFBD-416B-A139-9B8720F2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5961F-6D24-401C-8079-A6F050843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4A869-81F9-4733-8867-F43201101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33DFB-7D5F-4883-B3A3-26237C0D1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02BA-3E77-4CEF-ABB9-3F1711306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A5CF-6B76-498E-953C-E010ADFEE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5B2A-EB22-4C63-99E2-1589CA34D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5B80-2E3E-475E-B0D2-C3C72E325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52F6-5E4B-488A-AF52-309F2AC3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A1C9-EB1B-4ACA-A01A-4D182888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2F61-74C4-411A-AC99-F97847A9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7FD02-6AC5-4436-9EE4-39D2B4A55FB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1177C-9325-457D-87AD-4E3D6C4458A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1:07Z</dcterms:modified>
  <cp:revision>14</cp:revision>
  <dc:subject/>
  <dc:title>Slide 1</dc:title>
</cp:coreProperties>
</file>