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B162-D0A5-46BE-B707-D85EECA87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6F78-0EEC-44EE-A276-EA870B67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41C3-BB11-43BC-BBA9-0979E8F51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10AA-0059-42F9-810D-B3BB90E67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76DA-AF0F-46CD-A50B-A8F81465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170B-1A44-43E9-8C12-C155C11B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B5EC-F4DF-4EF4-A39E-20A664D7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1555-2B9F-4483-850E-DE8E25F3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D608-D55F-48A3-99CD-5C2F1D45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749B-A107-4F4E-9571-F0DC5746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6929-02E2-4428-9B06-C81FAA8A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1F8E-0C23-4585-A05E-9C8C3724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97E7-5BCB-4B7C-8919-D1CFB9E9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EC8C-2984-4E16-962A-E03316C0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B48E-9BAF-44D2-AF33-C570BCB1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5BA6-7B05-49E3-96B9-7299C33B6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73EE-F9D1-4481-BD57-AD3532BC0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1D04-9E5A-4CF2-A5CF-A7047A52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B5D3-19CB-45FF-9A2B-E7544513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C664-AE20-43BD-A8E4-C51336A2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FCCD-B957-4CEE-8CEB-E22F3F1B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7516-9A66-4948-920C-3A5E6F26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36B5-231F-4CD3-BECE-403F2137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4D2F-F04F-471D-8A75-F2BD4D2B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AF94-87AF-43F4-95EC-8179F265D2B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0F10-DB35-4180-8141-7A2559CB9D1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1:07Z</dcterms:modified>
  <cp:revision>14</cp:revision>
  <dc:subject/>
  <dc:title>Slide 1</dc:title>
</cp:coreProperties>
</file>