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5D78-0960-4069-B47B-0D4CD50F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FB5D-6CB8-489C-BD9D-A94738F8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D789-A37C-489D-B972-5B1185BC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B2D9-9768-4A64-B186-367499E4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41D9-2724-4F8B-8807-2B1A24EF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1AB9-CA49-4F99-AB36-E3C2520B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34FC-6265-4455-9AB7-F0F8F7C9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7096-A15D-482A-A851-954B9943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9C53-8F59-46CC-B62C-EFF884A4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30FC-A8F3-4585-8987-D5FFC272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D175-5DC7-462C-8DA5-D39A506F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9B72-26EA-43B8-8769-D950DC39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25C1-5131-4928-959B-8023FF03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B19E-1CCF-4FD8-92EF-B7B4B1FE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8042-629E-4B92-96ED-5197FD86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233F-D1BC-44D7-ADEF-CF9E6D1E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D50B-7E98-41BF-8067-DA1428AE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BFB4-42A7-4952-9986-DBF8D8AA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790E-2BB6-441B-8B98-0E9FAD26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9444-E3D4-482A-96FD-2B82E4B9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312A-6C6B-4852-855C-C6F03665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DFA2-7C32-47F1-AF2B-FD8C00B6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0677-BAFD-4F24-A254-BD84FAD0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5D72-27BF-4913-9F59-D022930C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4E89-C3FD-4480-8EBC-69E3BACD7A5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F4C8-8BB2-4A04-B179-E1ED1B226B1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1:07Z</dcterms:modified>
  <cp:revision>14</cp:revision>
  <dc:subject/>
  <dc:title>Slide 1</dc:title>
</cp:coreProperties>
</file>