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52206-088F-44DC-AB24-BED076DF8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003EF-0036-45AA-9618-B65938C10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85F8A-F7A4-48C6-A68D-588A56420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9E019-879A-4776-BE77-2C044B7EF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B1D9E-464A-414E-9486-E2817ACB1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19D19-46B0-4CEC-B94A-6E9514753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60408-DFFF-4C92-9B0D-5D7831075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AE48C-7CEF-4068-9359-F4D5B1CF7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8C373-CCA9-45D6-BB1A-E9E1CB803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1BEDA-C09E-49B1-AC4A-4602EFC99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29DE0-24F1-4229-BD34-CD35B3109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CD3CD-0F55-41EF-9B9A-80D8D5A47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5E1CF-F927-4284-A223-E94982D3C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E802E-1DE8-425D-B08F-3A102262A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15144-CA61-4A0A-ADD1-D47B8B764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5AA92-6BE1-4EF6-9B18-C5DA1A670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5E3F8-1628-470E-877B-AA9F73770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8B751-3964-4F21-AA7D-E05C6AA21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C9226-ABEC-4770-90CE-18ED20FA9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3AFF4-65C8-4C5A-9F98-BF97BE95E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3F9FF-74C8-4311-B9D1-FC51FC537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5503C-86D4-44FE-8CA0-F7F75F36F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CB267-2A28-4CFC-B92F-B91444EC2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56A81-35DD-4E78-AE3C-F37FBD308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CC68C-5FB0-4D4D-9060-C8F5DED8D3FB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08000" y="2060280"/>
            <a:ext cx="669312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9CC4A-F0CE-4288-9EB6-929D1D746F0B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908000" y="2060280"/>
            <a:ext cx="669312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942920" y="3789360"/>
            <a:ext cx="6661080" cy="9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7T13:11:07Z</dcterms:modified>
  <cp:revision>14</cp:revision>
  <dc:subject/>
  <dc:title>Slide 1</dc:title>
</cp:coreProperties>
</file>