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67EA-321C-4DDB-BDA0-1F2C92129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2F1B-EF01-43D7-8249-3170521F1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581B-DCDF-44F1-8640-CE787D0DC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6C02-9841-4831-9D55-68FD6D4C7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0CA2E-8B83-40C0-B66C-4E6D8024B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CA2B7-CBF7-441D-9CD2-21E0BD7FF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D6E5E-E4E9-4822-A74F-D151305D3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6E320-1805-447A-8D9D-61C6B3D27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83C9C-AE1B-466D-845D-E98206AE6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16440"/>
            <a:ext cx="7920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6FFE3-C686-4C76-9F4F-4A11E1EC3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2EB04-CB16-40A9-8756-D2C65B5D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1351-2F39-46F7-88F4-11DDC547D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AE9AC-3074-4F19-96C4-15F88E28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0BDB4-3633-4501-B179-3CCA2ACB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0AC3C-3C5D-46A2-99F5-0F9606EBB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A9BB2-AA97-40BE-AF5E-2A1DD45BC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33B6B-E1BF-4D99-8FF6-A54D833D8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BEFC-09B9-40E0-A4A0-AE998DC6B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21CA-B765-400F-8BE0-28F8C3147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4823-F458-4C87-BA2F-A1177A47B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16440"/>
            <a:ext cx="7920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E300-1343-4FB8-8287-CB03DB9F2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8717-3AF7-49D4-BD9E-9CAA25CF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2197-6C50-4F9A-8389-05B21194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565B-8C55-42C2-9C21-1FF98DDA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85B92-AE22-45F8-BE8E-382C5E188B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DDE70-BF16-48A8-85A3-75DA609FFD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32000" y="220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09:32Z</dcterms:modified>
  <cp:revision>7</cp:revision>
  <dc:subject/>
  <dc:title>Slide 1</dc:title>
</cp:coreProperties>
</file>