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0896-C66B-456F-843B-5F78AFC7B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61E4-45D8-4848-A283-5B513930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FE7C-9509-4CEC-9841-12995A1FB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68C1-9AE1-4463-89D1-0A75A08AF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69FD-DE9C-456D-8207-47AE680CA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9F04-AD64-44AE-BC90-A46AABC3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0554-F360-4DFE-89A5-5F030C96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1CBB-E35A-4BFF-927E-A1D1E8F1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521A-A840-4718-96D4-B7659802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17D2-91F3-44C3-95EA-6AC8908E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179A-2B08-4E0B-893F-EFB7344E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C1C0-38EF-4F3D-905E-990AAECC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90E2-2360-4409-92D0-B10D5EED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DB54-7773-4562-9562-9724B7A5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DD09-5312-44DF-9987-3645CF04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24B3-894B-483A-A522-16219D968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A80A-4FD2-432A-A830-92799C357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6E03-29C9-477A-BCC0-2B79D54C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58D8-647F-4A16-9A00-060376AB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2430-23AE-4ECE-91B6-AA922D04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2BDE-10BB-4E5E-A35C-D3329ECB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DC22-1808-4F29-B728-4A3933A7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3227-86C9-4766-9E24-CBB2D330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56D3-9D60-4A25-B39E-7F924C5C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5762-4B4F-40C6-A6DA-1192AD9BC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17ED-4A41-4C70-AFEA-CCF6F9362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09:32Z</dcterms:modified>
  <cp:revision>7</cp:revision>
  <dc:subject/>
  <dc:title>Slide 1</dc:title>
</cp:coreProperties>
</file>