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5A82-CF2B-4FA8-AC9C-A1EE45D5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A260-487B-4E17-822D-FA592E06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A1E5-7A6B-4FB1-B543-9BC7D5FA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D217-F458-4604-A8C5-BB870604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571D-DC9C-433C-9F13-A33B9E47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647B-528E-4384-AB7C-9028682A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89DC-D310-4CF2-9260-9F3CFEBA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120F-5A56-4E5F-862A-CA7EEE11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22B8-F5C4-432A-A097-FFCD0F96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D00D-5917-499C-BF13-9DA87A6E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A73F-4D37-4E69-82AA-1CE9347C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4278-3F1D-4967-B4BF-60F50F97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DAD7-0E3E-425F-AAF8-3F024F254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720" y="1898640"/>
            <a:ext cx="478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66"/>
                </a:solidFill>
                <a:latin typeface="Arial"/>
              </a:rPr>
              <a:t>Matéria –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14972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66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121600" y="5877000"/>
            <a:ext cx="9144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9200" y="1916280"/>
            <a:ext cx="818352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xto pequ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16360" y="429264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8"/>
                </a:solidFill>
                <a:latin typeface="Arial"/>
              </a:rPr>
              <a:t>Desta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2072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480b2"/>
              </a:gs>
              <a:gs pos="100000">
                <a:srgbClr val="060c1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83664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e2820"/>
                </a:solidFill>
                <a:latin typeface="Arial"/>
              </a:rPr>
              <a:t>Título -Arial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18172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e2820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256536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1678800">
            <a:off x="1907640" y="2276280"/>
            <a:ext cx="5234040" cy="4292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87640" y="36450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8"/>
                </a:solidFill>
                <a:latin typeface="Arial"/>
              </a:rPr>
              <a:t>Dest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9:03:34Z</dcterms:created>
  <dc:creator>IMS</dc:creator>
  <dc:description/>
  <dc:language>en-US</dc:language>
  <cp:lastModifiedBy>IMS</cp:lastModifiedBy>
  <dcterms:modified xsi:type="dcterms:W3CDTF">2008-09-08T20:35:21Z</dcterms:modified>
  <cp:revision>4</cp:revision>
  <dc:subject/>
  <dc:title>Slide 1</dc:title>
</cp:coreProperties>
</file>