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286-031F-4260-BA2B-02836B2D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4D8-CD9A-46FA-9D47-494F1310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51D-CC05-4B8D-8037-3C3F0F18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DC02-2779-443F-95A0-CFE71360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593-BDA5-4D26-8265-3F1115B9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452F-4607-4E63-BB3A-9F0EFBA3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BF8-4AA6-44CB-9CC1-3919D35A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2554-36C7-4FBA-B9CA-82B44BBE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3546-DDFC-4B27-A29D-EEAC8A44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BC5-3848-45A1-833E-B7162764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EF91-0079-4926-A25F-E88231E7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2B8A-5BBA-4222-A149-238BA046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0263-3C45-472F-98C7-74328AEBD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720" y="1898640"/>
            <a:ext cx="47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66"/>
                </a:solidFill>
                <a:latin typeface="Arial"/>
              </a:rPr>
              <a:t>Matéria –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1497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66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21600" y="5877000"/>
            <a:ext cx="9144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9200" y="1916280"/>
            <a:ext cx="818352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xto pequ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4292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2072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480b2"/>
              </a:gs>
              <a:gs pos="100000">
                <a:srgbClr val="060c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e2820"/>
                </a:solidFill>
                <a:latin typeface="Arial"/>
              </a:rPr>
              <a:t>Título -Arial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18172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e2820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2565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1678800">
            <a:off x="1907640" y="2276280"/>
            <a:ext cx="5234040" cy="4292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87640" y="3645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9:03:34Z</dcterms:created>
  <dc:creator>IMS</dc:creator>
  <dc:description/>
  <dc:language>en-US</dc:language>
  <cp:lastModifiedBy>IMS</cp:lastModifiedBy>
  <dcterms:modified xsi:type="dcterms:W3CDTF">2008-09-08T20:35:21Z</dcterms:modified>
  <cp:revision>4</cp:revision>
  <dc:subject/>
  <dc:title>Slide 1</dc:title>
</cp:coreProperties>
</file>