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2CC-34A8-4DB7-AE1E-FCA585A9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C84-A980-464E-8763-7E612D2E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2FDC-D78E-40A6-AC10-C3F61218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05A-205E-4D77-92FF-EAD06C1D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AA5-9573-408D-8D91-95D850AE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756-610C-4186-A9D1-E35AB8E3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77D-0AF5-4EB7-B277-BB468DDA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A0BA-069C-40B7-BBCA-84917B3C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39D-3552-42D0-A557-B850A84D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4AF-A4D0-4B37-A04A-EB612E7F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6AA-D884-4501-A5CA-91B8255C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5BA-DCE1-4C80-9E68-793DDFC2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9B8F-6C62-4D87-BF51-AC21382E8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720" y="1898640"/>
            <a:ext cx="47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66"/>
                </a:solidFill>
                <a:latin typeface="Arial"/>
              </a:rPr>
              <a:t>Matéria –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149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66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21600" y="5877000"/>
            <a:ext cx="9144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9200" y="1916280"/>
            <a:ext cx="818352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xto pequ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4292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072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480b2"/>
              </a:gs>
              <a:gs pos="100000">
                <a:srgbClr val="060c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e2820"/>
                </a:solidFill>
                <a:latin typeface="Arial"/>
              </a:rPr>
              <a:t>Título -Arial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18172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e2820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256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678800">
            <a:off x="1907640" y="2276280"/>
            <a:ext cx="5234040" cy="4292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87640" y="3645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9:03:34Z</dcterms:created>
  <dc:creator>IMS</dc:creator>
  <dc:description/>
  <dc:language>en-US</dc:language>
  <cp:lastModifiedBy>IMS</cp:lastModifiedBy>
  <dcterms:modified xsi:type="dcterms:W3CDTF">2008-09-08T20:35:21Z</dcterms:modified>
  <cp:revision>4</cp:revision>
  <dc:subject/>
  <dc:title>Slide 1</dc:title>
</cp:coreProperties>
</file>