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DAEA-7116-4F37-B220-DD3D445F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2467-EA36-423D-999B-08BE3DA8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6A5A-6642-4DD0-B39C-0FC8E5D2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7D41-E43F-4B02-A6FC-F6FFCD4D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854-B7BD-43B4-B8D1-AA7131D0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9CAE-269C-4032-9BB8-C76FB3AF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D085-6AB3-4297-807E-F0C45425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B3F1-A8E4-42A1-8CDC-B4EEA733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1307-9D35-4378-A340-0BADFF71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67D5-D514-4E42-A663-DEFFED78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8546-7592-43B9-AD7D-D37A05FA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EA9A-88D5-4EBF-81F0-7296094C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F450-5613-4E81-AFB5-CE77D94D5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720" y="1898640"/>
            <a:ext cx="478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66"/>
                </a:solidFill>
                <a:latin typeface="Arial"/>
              </a:rPr>
              <a:t>Matéria –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14972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66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21600" y="5877000"/>
            <a:ext cx="9144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9200" y="1916280"/>
            <a:ext cx="818352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xto pequ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16360" y="429264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2072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480b2"/>
              </a:gs>
              <a:gs pos="100000">
                <a:srgbClr val="060c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83664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e2820"/>
                </a:solidFill>
                <a:latin typeface="Arial"/>
              </a:rPr>
              <a:t>Título -Arial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18172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e2820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2565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1678800">
            <a:off x="1907640" y="2276280"/>
            <a:ext cx="5234040" cy="4292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87640" y="3645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9:03:34Z</dcterms:created>
  <dc:creator>IMS</dc:creator>
  <dc:description/>
  <dc:language>en-US</dc:language>
  <cp:lastModifiedBy>IMS</cp:lastModifiedBy>
  <dcterms:modified xsi:type="dcterms:W3CDTF">2008-09-08T20:35:21Z</dcterms:modified>
  <cp:revision>4</cp:revision>
  <dc:subject/>
  <dc:title>Slide 1</dc:title>
</cp:coreProperties>
</file>