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0AD8-1844-4265-9290-89C7E217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1DE8-E8A1-4E2B-AD63-943E63C5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D845-7AE9-4354-8B46-9CD69A6B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472E-9C0F-4C2B-BED6-EBB6C6BA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9DC3-5036-476D-8A58-3338627E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BE22-C6A4-40F7-974A-5C47183F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B16F-744D-4AA9-96A1-04AB365D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5E0-347B-4BBA-BEC9-AE9B4B45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831E-21C3-4C90-9F98-AACE4EEC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37B6-81E1-4D0D-937F-16141CBB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7BAA-5B32-4E37-80B7-ED659EA1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A408-FA24-446E-A01C-C2C8979D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0121-F463-423B-BB97-4B60D11E7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91628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ffffff"/>
                </a:solidFill>
                <a:latin typeface="Arial"/>
              </a:rPr>
              <a:t>Curso –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28464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-24300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Título-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854360"/>
            <a:ext cx="684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48"/>
                </a:solidFill>
                <a:uFillTx/>
                <a:latin typeface="Arial"/>
              </a:rPr>
              <a:t>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860640"/>
            <a:ext cx="9144000" cy="2305080"/>
          </a:xfrm>
          <a:prstGeom prst="rect">
            <a:avLst/>
          </a:prstGeom>
          <a:solidFill>
            <a:srgbClr val="5a8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6360" y="115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Título-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400536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ta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8748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Texto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6040" y="217620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417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6200" y="55911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6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604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 rot="1051200">
            <a:off x="7768800" y="3860640"/>
            <a:ext cx="100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604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928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8840" y="33577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rof. 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24:17Z</dcterms:modified>
  <cp:revision>4</cp:revision>
  <dc:subject/>
  <dc:title>Slide 1</dc:title>
</cp:coreProperties>
</file>