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F3AB76-E9F4-460F-A006-8DBDC6CEA46D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31E5-8441-4CCE-AC4D-79EB748C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0E1B-9463-4C7C-82E1-1EC579ED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221-7CE9-46DF-B7F7-AD4CC8F5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0C1E-C17D-4AA9-9CED-F8F86790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CE04-2EEB-4E1A-87BB-2EACC5D3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FB1F-3E18-4D6E-A0C9-73175F34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F358-289A-497E-9EDD-21B254B8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C5C7-57F9-4A10-993F-7DF97856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F5A5-7DCE-438E-BB9B-3A5F06CD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9A7E-7EA4-4BD6-B336-327623AE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4211-799B-44B1-A484-E2CDC0DA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25BC-9E03-4304-B6FE-8C27E98F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53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76E4-9D17-458C-8FA8-6387D00E4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1844640"/>
            <a:ext cx="6264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660033"/>
                </a:solidFill>
                <a:latin typeface="Arial"/>
              </a:rPr>
              <a:t>Curso – Arial 36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5373720"/>
            <a:ext cx="8604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5589720"/>
            <a:ext cx="820908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Título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3284640"/>
            <a:ext cx="604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1844640"/>
            <a:ext cx="6553440" cy="3672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99192" dir="841805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Destaqu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10920" y="2491920"/>
            <a:ext cx="4464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tx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xttxtxtxtxtxtx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5238360" y="3140280"/>
            <a:ext cx="2671200" cy="2036520"/>
            <a:chOff x="5238360" y="3140280"/>
            <a:chExt cx="2671200" cy="2036520"/>
          </a:xfrm>
        </p:grpSpPr>
        <p:sp>
          <p:nvSpPr>
            <p:cNvPr id="94" name=""/>
            <p:cNvSpPr/>
            <p:nvPr/>
          </p:nvSpPr>
          <p:spPr>
            <a:xfrm rot="18953400">
              <a:off x="551988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775600">
              <a:off x="6594840" y="2987280"/>
              <a:ext cx="565920" cy="231408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8680 h 2314080"/>
                <a:gd name="textAreaBottom" fmla="*/ 1805400 h 23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00000" y="1771200"/>
            <a:ext cx="7499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 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2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3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4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6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7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ópico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349240" y="3140280"/>
            <a:ext cx="2671200" cy="2036520"/>
            <a:chOff x="5349240" y="3140280"/>
            <a:chExt cx="2671200" cy="2036520"/>
          </a:xfrm>
        </p:grpSpPr>
        <p:sp>
          <p:nvSpPr>
            <p:cNvPr id="99" name=""/>
            <p:cNvSpPr/>
            <p:nvPr/>
          </p:nvSpPr>
          <p:spPr>
            <a:xfrm rot="18953400">
              <a:off x="563076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775600">
              <a:off x="6705720" y="2987280"/>
              <a:ext cx="565920" cy="231444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9040 h 2314440"/>
                <a:gd name="textAreaBottom" fmla="*/ 180540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xto long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1771560"/>
            <a:ext cx="7993080" cy="4033800"/>
          </a:xfrm>
          <a:prstGeom prst="flowChartDocument">
            <a:avLst/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89604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3760" y="105264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31360" y="436392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99640" y="1988640"/>
            <a:ext cx="755964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itaçã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355640" y="1700280"/>
            <a:ext cx="42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om fot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1882800"/>
            <a:ext cx="3417840" cy="3417840"/>
          </a:xfrm>
          <a:prstGeom prst="rect">
            <a:avLst/>
          </a:prstGeom>
          <a:ln w="76320">
            <a:solidFill>
              <a:srgbClr val="99cc00"/>
            </a:solidFill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mpo para dúvida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2276280"/>
            <a:ext cx="489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ÚVIDAS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716360" y="3789360"/>
            <a:ext cx="1629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4" name=""/>
          <p:cNvSpPr txBox="1"/>
          <p:nvPr/>
        </p:nvSpPr>
        <p:spPr>
          <a:xfrm rot="20284200">
            <a:off x="6369120" y="3068640"/>
            <a:ext cx="7905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0033"/>
                </a:solidFill>
                <a:latin typeface="Arial"/>
              </a:rPr>
              <a:t>Boa Semana!</a:t>
            </a:r>
            <a:endParaRPr b="1" lang="en-US" sz="4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4360" y="2923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5300640"/>
            <a:ext cx="828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eferência de image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odas as imagens são originárias de banco de image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2:00:29Z</dcterms:created>
  <dc:creator>IMS</dc:creator>
  <dc:description/>
  <dc:language>en-US</dc:language>
  <cp:lastModifiedBy>IMS</cp:lastModifiedBy>
  <dcterms:modified xsi:type="dcterms:W3CDTF">2008-09-08T20:09:52Z</dcterms:modified>
  <cp:revision>43</cp:revision>
  <dc:subject/>
  <dc:title>Curso: Arial 48 neg.</dc:title>
</cp:coreProperties>
</file>