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5E5D85F-80A0-4D6C-9954-4F6B359F37E2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F940-52B6-4429-BB16-FF136F11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8CA9-7A6A-430E-A7C6-67F92A1B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EDAF-2A9F-4B00-98F9-502FA655F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5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61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5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61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29D9-82D4-43C5-9621-BF204C82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000" y="1989000"/>
            <a:ext cx="604836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E39C-1C33-4212-8061-1768383C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05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61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49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05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61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B738-11F5-4DCE-BD9D-A6A1227A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4B09-5317-4AC0-9F2B-2522BACC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23ED-4DFE-43E2-88F9-4CD71543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1989000"/>
            <a:ext cx="604836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F8FE-DA28-4EC1-A022-385BF39D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F13F-CAC5-4492-88FD-A8BB6B78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A7C5-C00E-4A41-857F-2A61EE3C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180B-C839-4293-8FCF-93E2F600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53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7A53-80C3-4CD0-B52B-8DE813F16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1844640"/>
            <a:ext cx="6264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660033"/>
                </a:solidFill>
                <a:latin typeface="Arial"/>
              </a:rPr>
              <a:t>Curso – Arial 36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5373720"/>
            <a:ext cx="8604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5589720"/>
            <a:ext cx="820908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Título – Arial 32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3284640"/>
            <a:ext cx="604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Prof. –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00000" y="1844640"/>
            <a:ext cx="6553440" cy="3672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eaeaea"/>
          </a:solidFill>
          <a:ln w="76320">
            <a:solidFill>
              <a:srgbClr val="99cc00"/>
            </a:solidFill>
            <a:miter/>
          </a:ln>
          <a:effectLst>
            <a:outerShdw dist="99192" dir="841805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Destaqu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10920" y="2491920"/>
            <a:ext cx="4464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tx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xttxtxtxtxtxtx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5238360" y="3140280"/>
            <a:ext cx="2671200" cy="2036520"/>
            <a:chOff x="5238360" y="3140280"/>
            <a:chExt cx="2671200" cy="2036520"/>
          </a:xfrm>
        </p:grpSpPr>
        <p:sp>
          <p:nvSpPr>
            <p:cNvPr id="94" name=""/>
            <p:cNvSpPr/>
            <p:nvPr/>
          </p:nvSpPr>
          <p:spPr>
            <a:xfrm rot="18953400">
              <a:off x="5519880" y="3930480"/>
              <a:ext cx="791280" cy="1130040"/>
            </a:xfrm>
            <a:custGeom>
              <a:avLst/>
              <a:gdLst>
                <a:gd name="textAreaLeft" fmla="*/ 173880 w 791280"/>
                <a:gd name="textAreaRight" fmla="*/ 617400 w 791280"/>
                <a:gd name="textAreaTop" fmla="*/ 248400 h 1130040"/>
                <a:gd name="textAreaBottom" fmla="*/ 881640 h 11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775600">
              <a:off x="6594840" y="2987280"/>
              <a:ext cx="565920" cy="2314080"/>
            </a:xfrm>
            <a:custGeom>
              <a:avLst/>
              <a:gdLst>
                <a:gd name="textAreaLeft" fmla="*/ 124200 w 565920"/>
                <a:gd name="textAreaRight" fmla="*/ 441720 w 565920"/>
                <a:gd name="textAreaTop" fmla="*/ 508680 h 2314080"/>
                <a:gd name="textAreaBottom" fmla="*/ 1805400 h 23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00000" y="1771200"/>
            <a:ext cx="7499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 1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2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3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4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5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6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7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ópicos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349240" y="3140280"/>
            <a:ext cx="2671200" cy="2036520"/>
            <a:chOff x="5349240" y="3140280"/>
            <a:chExt cx="2671200" cy="2036520"/>
          </a:xfrm>
        </p:grpSpPr>
        <p:sp>
          <p:nvSpPr>
            <p:cNvPr id="99" name=""/>
            <p:cNvSpPr/>
            <p:nvPr/>
          </p:nvSpPr>
          <p:spPr>
            <a:xfrm rot="18953400">
              <a:off x="5630760" y="3930480"/>
              <a:ext cx="791280" cy="1130040"/>
            </a:xfrm>
            <a:custGeom>
              <a:avLst/>
              <a:gdLst>
                <a:gd name="textAreaLeft" fmla="*/ 173880 w 791280"/>
                <a:gd name="textAreaRight" fmla="*/ 617400 w 791280"/>
                <a:gd name="textAreaTop" fmla="*/ 248400 h 1130040"/>
                <a:gd name="textAreaBottom" fmla="*/ 881640 h 11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775600">
              <a:off x="6705720" y="2987280"/>
              <a:ext cx="565920" cy="2314440"/>
            </a:xfrm>
            <a:custGeom>
              <a:avLst/>
              <a:gdLst>
                <a:gd name="textAreaLeft" fmla="*/ 124200 w 565920"/>
                <a:gd name="textAreaRight" fmla="*/ 441720 w 565920"/>
                <a:gd name="textAreaTop" fmla="*/ 509040 h 2314440"/>
                <a:gd name="textAreaBottom" fmla="*/ 1805400 h 23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exto long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1771560"/>
            <a:ext cx="7993080" cy="4033800"/>
          </a:xfrm>
          <a:prstGeom prst="flowChartDocument">
            <a:avLst/>
          </a:prstGeom>
          <a:solidFill>
            <a:srgbClr val="eaeaea"/>
          </a:solidFill>
          <a:ln w="76320">
            <a:solidFill>
              <a:srgbClr val="99cc00"/>
            </a:solidFill>
            <a:miter/>
          </a:ln>
          <a:effectLst>
            <a:outerShdw dist="89604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3760" y="1052640"/>
            <a:ext cx="72648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66"/>
                </a:solidFill>
                <a:latin typeface="Arial"/>
              </a:rPr>
              <a:t>“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31360" y="4363920"/>
            <a:ext cx="72648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99640" y="1988640"/>
            <a:ext cx="755964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itaçã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355640" y="1700280"/>
            <a:ext cx="424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om fot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9640" y="1882800"/>
            <a:ext cx="3417840" cy="3417840"/>
          </a:xfrm>
          <a:prstGeom prst="rect">
            <a:avLst/>
          </a:prstGeom>
          <a:ln w="76320">
            <a:solidFill>
              <a:srgbClr val="99cc00"/>
            </a:solidFill>
            <a:miter/>
          </a:ln>
          <a:effectLst>
            <a:outerShdw dist="107932" dir="81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empo para dúvidas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920" y="2276280"/>
            <a:ext cx="4897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ÚVIDAS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716360" y="3789360"/>
            <a:ext cx="1629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66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cc00"/>
                  </a:gs>
                  <a:gs pos="100000">
                    <a:srgbClr val="6699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4" name=""/>
          <p:cNvSpPr txBox="1"/>
          <p:nvPr/>
        </p:nvSpPr>
        <p:spPr>
          <a:xfrm rot="20284200">
            <a:off x="6369120" y="3068640"/>
            <a:ext cx="7905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0000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60033"/>
                </a:solidFill>
                <a:latin typeface="Arial"/>
              </a:rPr>
              <a:t>Boa Semana!</a:t>
            </a:r>
            <a:endParaRPr b="1" lang="en-US" sz="4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4360" y="2923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Prof. – Arial 32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5300640"/>
            <a:ext cx="828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Referência de image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Todas as imagens são originárias de banco de image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2:00:29Z</dcterms:created>
  <dc:creator>IMS</dc:creator>
  <dc:description/>
  <dc:language>en-US</dc:language>
  <cp:lastModifiedBy>IMS</cp:lastModifiedBy>
  <dcterms:modified xsi:type="dcterms:W3CDTF">2008-09-08T20:09:52Z</dcterms:modified>
  <cp:revision>43</cp:revision>
  <dc:subject/>
  <dc:title>Curso: Arial 48 neg.</dc:title>
</cp:coreProperties>
</file>