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DA734F9-D2DB-4E7E-A44F-55F04073F1EC}" type="slidenum"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5155-DCA0-461C-B50B-1F0AF0DFF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FE44-A0D6-41C8-B0B5-5934A6A9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0BC5-4CF0-4916-9206-31E2B34B4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5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61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5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61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A991-0060-48E7-AF16-30B5E843D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000" y="1989000"/>
            <a:ext cx="6048360" cy="56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0707-EF44-4AF2-955C-E5A1C8C6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05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61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49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05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61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7221-7F86-44AB-910D-DEAB55EC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42D7-2579-49ED-91F7-6BD22975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22EA-7659-41E1-B34C-365FBB24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1989000"/>
            <a:ext cx="6048360" cy="56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EBAC-E10A-4EAE-8D19-56791ADE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073E-CC44-4230-9E53-BEFC37C3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A7F1-F0AB-4074-8FC5-23F2E928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28A2-152C-459D-AB6C-786044E2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53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3B69-1B85-4207-852F-178BC0EED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1844640"/>
            <a:ext cx="6264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660033"/>
                </a:solidFill>
                <a:latin typeface="Arial"/>
              </a:rPr>
              <a:t>Curso – Arial 36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5373720"/>
            <a:ext cx="8604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4920" y="5589720"/>
            <a:ext cx="820908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Título – Arial 32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3284640"/>
            <a:ext cx="604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Prof. –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00000" y="1844640"/>
            <a:ext cx="6553440" cy="3672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eaeaea"/>
          </a:solidFill>
          <a:ln w="76320">
            <a:solidFill>
              <a:srgbClr val="99cc00"/>
            </a:solidFill>
            <a:miter/>
          </a:ln>
          <a:effectLst>
            <a:outerShdw dist="99192" dir="841805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Destaqu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10920" y="2491920"/>
            <a:ext cx="4464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tx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xttxtxtxtxtxtx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5238360" y="3140280"/>
            <a:ext cx="2671200" cy="2036520"/>
            <a:chOff x="5238360" y="3140280"/>
            <a:chExt cx="2671200" cy="2036520"/>
          </a:xfrm>
        </p:grpSpPr>
        <p:sp>
          <p:nvSpPr>
            <p:cNvPr id="94" name=""/>
            <p:cNvSpPr/>
            <p:nvPr/>
          </p:nvSpPr>
          <p:spPr>
            <a:xfrm rot="18953400">
              <a:off x="5519880" y="3930480"/>
              <a:ext cx="791280" cy="1130040"/>
            </a:xfrm>
            <a:custGeom>
              <a:avLst/>
              <a:gdLst>
                <a:gd name="textAreaLeft" fmla="*/ 173880 w 791280"/>
                <a:gd name="textAreaRight" fmla="*/ 617400 w 791280"/>
                <a:gd name="textAreaTop" fmla="*/ 248400 h 1130040"/>
                <a:gd name="textAreaBottom" fmla="*/ 881640 h 11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2775600">
              <a:off x="6594840" y="2987280"/>
              <a:ext cx="565920" cy="2314080"/>
            </a:xfrm>
            <a:custGeom>
              <a:avLst/>
              <a:gdLst>
                <a:gd name="textAreaLeft" fmla="*/ 124200 w 565920"/>
                <a:gd name="textAreaRight" fmla="*/ 441720 w 565920"/>
                <a:gd name="textAreaTop" fmla="*/ 508680 h 2314080"/>
                <a:gd name="textAreaBottom" fmla="*/ 1805400 h 23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00000" y="1771200"/>
            <a:ext cx="7499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 1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2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3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4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5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6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7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ópicos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349240" y="3140280"/>
            <a:ext cx="2671200" cy="2036520"/>
            <a:chOff x="5349240" y="3140280"/>
            <a:chExt cx="2671200" cy="2036520"/>
          </a:xfrm>
        </p:grpSpPr>
        <p:sp>
          <p:nvSpPr>
            <p:cNvPr id="99" name=""/>
            <p:cNvSpPr/>
            <p:nvPr/>
          </p:nvSpPr>
          <p:spPr>
            <a:xfrm rot="18953400">
              <a:off x="5630760" y="3930480"/>
              <a:ext cx="791280" cy="1130040"/>
            </a:xfrm>
            <a:custGeom>
              <a:avLst/>
              <a:gdLst>
                <a:gd name="textAreaLeft" fmla="*/ 173880 w 791280"/>
                <a:gd name="textAreaRight" fmla="*/ 617400 w 791280"/>
                <a:gd name="textAreaTop" fmla="*/ 248400 h 1130040"/>
                <a:gd name="textAreaBottom" fmla="*/ 881640 h 11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775600">
              <a:off x="6705720" y="2987280"/>
              <a:ext cx="565920" cy="2314440"/>
            </a:xfrm>
            <a:custGeom>
              <a:avLst/>
              <a:gdLst>
                <a:gd name="textAreaLeft" fmla="*/ 124200 w 565920"/>
                <a:gd name="textAreaRight" fmla="*/ 441720 w 565920"/>
                <a:gd name="textAreaTop" fmla="*/ 509040 h 2314440"/>
                <a:gd name="textAreaBottom" fmla="*/ 1805400 h 23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exto long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1280" y="1771560"/>
            <a:ext cx="7993080" cy="4033800"/>
          </a:xfrm>
          <a:prstGeom prst="flowChartDocument">
            <a:avLst/>
          </a:prstGeom>
          <a:solidFill>
            <a:srgbClr val="eaeaea"/>
          </a:solidFill>
          <a:ln w="76320">
            <a:solidFill>
              <a:srgbClr val="99cc00"/>
            </a:solidFill>
            <a:miter/>
          </a:ln>
          <a:effectLst>
            <a:outerShdw dist="89604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3760" y="1052640"/>
            <a:ext cx="72648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66"/>
                </a:solidFill>
                <a:latin typeface="Arial"/>
              </a:rPr>
              <a:t>“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731360" y="4363920"/>
            <a:ext cx="72648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99640" y="1988640"/>
            <a:ext cx="755964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itaçã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355640" y="1700280"/>
            <a:ext cx="4248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om fot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9640" y="1882800"/>
            <a:ext cx="3417840" cy="3417840"/>
          </a:xfrm>
          <a:prstGeom prst="rect">
            <a:avLst/>
          </a:prstGeom>
          <a:ln w="76320">
            <a:solidFill>
              <a:srgbClr val="99cc00"/>
            </a:solidFill>
            <a:miter/>
          </a:ln>
          <a:effectLst>
            <a:outerShdw dist="107932" dir="81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empo para dúvidas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920" y="2276280"/>
            <a:ext cx="4897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ÚVIDAS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716360" y="3789360"/>
            <a:ext cx="1629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6699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cc00"/>
                  </a:gs>
                  <a:gs pos="100000">
                    <a:srgbClr val="6699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4" name=""/>
          <p:cNvSpPr txBox="1"/>
          <p:nvPr/>
        </p:nvSpPr>
        <p:spPr>
          <a:xfrm rot="20284200">
            <a:off x="6369120" y="3068640"/>
            <a:ext cx="7905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0000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60033"/>
                </a:solidFill>
                <a:latin typeface="Arial"/>
              </a:rPr>
              <a:t>Boa Semana!</a:t>
            </a:r>
            <a:endParaRPr b="1" lang="en-US" sz="4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4360" y="292392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Prof. – Arial 32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5300640"/>
            <a:ext cx="828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Referência de image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Todas as imagens são originárias de banco de image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12:00:29Z</dcterms:created>
  <dc:creator>IMS</dc:creator>
  <dc:description/>
  <dc:language>en-US</dc:language>
  <cp:lastModifiedBy>IMS</cp:lastModifiedBy>
  <dcterms:modified xsi:type="dcterms:W3CDTF">2008-09-08T20:09:52Z</dcterms:modified>
  <cp:revision>43</cp:revision>
  <dc:subject/>
  <dc:title>Curso: Arial 48 neg.</dc:title>
</cp:coreProperties>
</file>