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4706-8176-4FD4-BE8C-BB027DD94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AD70-5A84-45F2-AF81-2914A52D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9C16-9495-47DB-A488-832291D9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7872-F379-41DA-8031-A850723A8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46CF-3387-45E1-8568-342C499D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7847-F7C6-43B0-9E94-849E453D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626A-1FDB-4DA7-BEF9-10C55C26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AB37-ED6E-41AC-9CC7-D71E3385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B4D9-0B70-42A2-BE00-F68084D4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E1D4-D144-47F5-A7C9-70C48E2B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896D-02B4-43F9-9887-C0EEA5EF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9F67-93BB-41D3-A8CF-716D0263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169A-D136-48AA-9F08-7DEC789EA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24Z</dcterms:modified>
  <cp:revision>5</cp:revision>
  <dc:subject/>
  <dc:title>Slide 1</dc:title>
</cp:coreProperties>
</file>