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152A-1984-4CC5-A9FC-4153692E3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B4AF-9E56-4353-A62E-98B8822C8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7D27-3F00-49C5-9A1B-1D53C0D56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0763-A73F-47BB-B3CF-6B9740323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FF0E-7BFD-4AE7-9530-3291D1056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10C3-E4DD-40C6-B695-DF55ACE69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89B4-C3A2-4CE7-B5DE-0AC50E82F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DCB4-DC11-4CEF-ADCE-3BF56B053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F4CC-33CA-49FB-B691-B6FD76394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9268-D868-4F0C-8F2F-5569C556F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51F4-15D4-4CD3-942A-ABE17893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23E4-35CA-465F-BC73-EBBD99F7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5E784-B6C6-4C7B-8E1A-D017DEF410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5:47:45Z</dcterms:created>
  <dc:creator>ricardo.scantamburlo</dc:creator>
  <dc:description/>
  <dc:language>en-US</dc:language>
  <cp:lastModifiedBy>ricardo.scantamburlo</cp:lastModifiedBy>
  <dcterms:modified xsi:type="dcterms:W3CDTF">2005-01-31T15:50:24Z</dcterms:modified>
  <cp:revision>5</cp:revision>
  <dc:subject/>
  <dc:title>Slide 1</dc:title>
</cp:coreProperties>
</file>