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37ED-75F1-4C3B-893E-1EF401B2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4071-A74B-4C46-A74C-52F7624A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259F-595A-4873-95D4-72C93F93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C795-38F8-4836-9D21-B268EE932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C79B-B675-46E9-AB50-1EFF5662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47DC-6D26-4769-86C1-A3F30EA5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373C-5571-4FB5-ADE5-53810592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7340-9F01-483D-8D45-1B843CAF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1A8B-8C00-429E-9B0F-D9707897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A7B9-1D4C-457D-B4E5-ACDD0166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787C-02EA-4DD9-9842-6EEA1713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4459-7B9D-475A-B74A-D49791AF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D5E6-B802-4F69-B9BB-E0651C084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01Z</dcterms:modified>
  <cp:revision>4</cp:revision>
  <dc:subject/>
  <dc:title>Slide 1</dc:title>
</cp:coreProperties>
</file>