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FABCE-83ED-48FF-BA3B-C0B68170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45830-0ED7-4D13-81B7-42DAF4E4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75F5E-4245-452B-9780-E3663A1E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CD315-6902-4A56-9D96-A369D59C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AB23A-4E0F-462B-B60B-61331C94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7BD4F-9908-4D1A-9294-705B22C8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CFBB1-D9F2-4487-A922-9F89AC81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65894-1C1E-4786-B9AF-3D0004E5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312A6-F7AA-4A6F-B2E4-F1BAFD64C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A7EE9-D742-4E72-9607-01E41D6B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54338-39C1-4B42-AC09-F02BB54C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418CC-5A13-413C-9DA9-F436C5BE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72416-B0E4-433D-AE69-00FE1C12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85B08-293A-43A3-BEBE-5BB60699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37342-AAA1-4B8E-8ED1-2E2755AB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165D3-32AE-4541-A71E-91288F47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0641F-C756-4084-9981-C0091DA6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50AAE-B23C-4FCD-A3A6-8DE64B6D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66B03-471D-4887-8C9C-D9B464DB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CD04E-3C0F-4EAF-8642-1231FBE1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FA35A-9481-4AC7-B62A-FF411615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23910-AC0A-4BFC-B201-200047815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1C860-ABBF-4843-B6D9-A4F80F2D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05EAC-53F3-4F0E-8923-0A078F4A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22632-3410-4B8D-9A9C-0D68AA75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B1946-3B4F-447E-B7A7-F12D4EAC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58B5C-B55F-4775-BC56-FCA1AF4D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6D538-2726-4DA3-A517-8C33AB33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6B4B0-65B5-49AD-ACA4-9FDEDFEB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C31CD-70B0-4F4F-915A-572124F2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C94BF-C1F4-4469-9CDE-73D4B870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8DAE6-A732-4391-A716-AD42627B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06849-E55A-4668-A535-DD36630F7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C0279-E22E-485A-9FE3-E83DC6773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447B9-B3BB-43FE-A658-01D8A018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8D173-5559-42DD-97A8-7AFA091E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555B2-2698-4186-8A73-1855FA55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FB4F4-A6BC-4532-A320-A3310B91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A2851-6D0D-4FC5-91E9-760C6187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52AD6-551D-4EF9-B99E-C1377EED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FC3F4-A604-440E-9A38-38DE0C98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49607-1F99-422B-BB4E-A8F8AEB3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395F2-E809-43D9-8E9B-EB0D0FF1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DED88-6F8A-45DC-B820-0B37BB01D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E4B8DD-A544-4566-A264-877194D36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10FA-D56F-4A41-8398-276EBBB4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DA92-AAAE-489D-8D31-5225B326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202D-06D4-42DB-A64D-76BE4F5D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ADA9-CCC9-4ECB-9BFC-8F4B843A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5DEE-93D2-4C5C-9530-421C8B9B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669B-A4C7-409A-AB03-C8571872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A50D-75B5-47B0-869F-06477E5A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9991-51BF-4F0B-9A49-96D0292F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6BF8-7B7C-4AE3-8FAA-D715C4B2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D4A1-D1BA-4395-B369-9B913BB0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AD2D-EAA4-4BC8-A4B0-5992A5C7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EDD6-DB97-40B0-AFED-251E9322F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0D47-5550-4FA7-BF99-5F46075B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733A-BAD7-42E1-A9F3-6274256C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9D11-FF93-4B56-AFCB-5085C629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532A-6D57-44C7-BA7F-F8193A7C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7AC1-63C3-49FB-8F96-5738F67D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4F29-E30E-4823-B2CD-8FFCB9D3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D90F-DD6E-4896-A64F-48D6E016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A509-B3DF-4B66-9809-4AE4E85E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DCE4-C440-4F01-B31B-024D72E3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374B-E935-4B89-BBAA-5801E0F7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BB02-8868-4425-9AB2-B95EFE880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F189-2AF7-4A4C-B6FA-E97D99087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91FE3-2AE4-4414-81C9-4C4F47D6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BEB4E-7D64-442A-939A-A72BCEB6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D022D-6FF4-49C0-B5E4-4049A9E2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71586-AE6C-4ABD-B748-6D44B2B6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9C712-AE32-4912-8B31-C04947AA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67851-60ED-47C0-B829-E58346E1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BD4B5-0B34-4C83-8847-29A28E7F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FA53F-A51F-4469-B136-0FB161F7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9CAEC-C5E1-4BCC-9961-937134C0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6340A-7A00-43CA-91E5-56E27E57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A3D31-2045-4C5A-B2BA-FA8CEC144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37651-5A6F-45E5-AC48-2561C2562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31CB4-A331-4410-B6CC-10F086E2D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A4E49-9BBE-4C6B-83D0-9BF6C7CD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57AC6-5DC6-491D-AD0D-77C942C5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AEB6C-CC25-44F5-ACB5-29A3E291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01522-929B-4623-81AD-E9251809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5742C-10FC-4E9E-9EE8-6E45D7E9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432A7-27BC-43E7-9D93-10D39B28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ECA42-46F1-4C07-A7F4-DB37FC6C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7A7FD-7D7D-4CB8-8730-51311D3E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EEC65-7C7B-4A51-A212-8A8269B0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C0DCD-37B6-441C-8C4F-3F3D9CB1A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123F0-F072-4F58-86A0-C8CC7EDE1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0B9C1-B06F-4E58-90FD-2586556D2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C5D49-A057-4CC1-8F80-BFC3349F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562D7-E90A-49F8-A5DD-454FAA4A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ABC97-AD95-41D4-AAA9-7DAD6C64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19716-AF91-46E0-BDFD-02C632BF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0FA43-ED3A-4015-B2FA-B37CB8D5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0D254-039F-459E-BE8D-5012745A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2EC03-CE60-4DCF-A975-7F6A8EF4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CDD40-F6D0-4DD9-AEE6-2D949613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975F1-CFD1-492F-B9FA-FA2E1E89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85B1D-0B3B-41DF-8E4C-95435F779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7F620-D470-464E-8BEB-D49AD5BF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E054A-90C9-4724-84F5-2C8546C6C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81D14-E686-402C-B013-40F022E1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A428F-EFF1-4231-85B7-2C4059B3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2F38B-119D-4308-A902-C9B2AE97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B3372-2B6C-4C6F-ABE3-D2831A1E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DED20-EB22-442D-ACB2-20A0D166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21DC6-6686-4857-9A53-FDACCFD7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0F832-8AA5-45D6-8865-29109A93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34799-68AB-443D-88D6-FDBA095F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2FB85-60E1-46BB-AA82-5010D89A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A2CCC-AE50-4473-AD2A-DBDF4169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BD875-B19C-45F8-9328-6F6EC162A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B65A4-140D-4344-AB7E-D03DA607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31FB0-A2AF-437D-8A7A-5E87FCE8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F49FC-9F13-463A-A170-8ADDDFAA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97B8-F9D8-42AC-A0CB-145B34A69F1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E966-A5A2-4156-9D8D-448A8C42E95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E4E2-8634-4311-A2E6-D149C4FF78F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2" descr="C:\Documents and Settings\Marcelo.Raimo\Desktop\layout_cap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6E3D-43FB-4767-BAAF-DF06334B086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78E8-CCE4-4D30-9EE3-700B8FB124B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20F6-C4F9-4AFC-B546-27E80F43102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8494-43E0-4169-BFB2-42541CC6763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2C3A-1BC4-43AF-9A16-90BEB2281B1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D208-E734-411E-B9E1-48CFBCA9140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5A47-282A-4BB2-8EEE-27CE7CF1C00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4:42Z</dcterms:created>
  <dc:creator>marcelo.raimo</dc:creator>
  <dc:description/>
  <dc:language>en-US</dc:language>
  <cp:lastModifiedBy>marcelo.raimo</cp:lastModifiedBy>
  <dcterms:modified xsi:type="dcterms:W3CDTF">2011-04-19T18:35:21Z</dcterms:modified>
  <cp:revision>1</cp:revision>
  <dc:subject/>
  <dc:title>Slide 1</dc:title>
</cp:coreProperties>
</file>