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74DEB-4F2C-4AEB-B9B4-13B9708B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6EB48-1DE4-4E0E-B6FD-B0DEF2E8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E249C-1B84-4A73-89E5-5782ACE8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570A0-B0E8-4480-B31B-8CEA6DD6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5F73B-666A-4BD9-AAEF-BFA63C1B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0FDDB-7E26-462D-A6BF-1A815D27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A9010-837B-467E-AE19-022E56BA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441A7-8F7A-4D90-9FA9-085F8F67D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A24B2-9F96-489D-B939-CD0C9D2C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D5BC6-DC82-48C3-B7B1-0B716DEB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0825A-5682-42BB-BA15-33693794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EEDCF-6392-4FF5-8297-CAAF8015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581AB-BA2A-4BC7-BD51-C6F3032A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A1F9F-8296-4990-8430-65D315FB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8C71C-01EE-42F7-89F3-FB89F161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27FBF-E77C-470A-86BC-519BF291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71BBC-75B6-4A2A-9F8D-69288EF1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F692E-F1F6-44EA-B0EC-9F37181F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E6962-34AF-4A8B-974A-9E043B0F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A17C2-BC0D-4FD3-A66F-678687CF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33933-2B15-44CA-987A-F8ADC340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D250A-8F52-4BC3-8867-09A2D21D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84105-F71B-4ADE-83F3-2150DD7B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DBFE1-06DD-4542-85AB-E4BC5098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99CD0-B645-4FC0-B674-2F7A80DA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184A9-3EB8-4906-B0EE-F9624F16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34B38-2E01-4DC0-9772-53D9CB97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F69D6-5876-4782-B341-720DB02F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1313D-9987-4E94-8748-A0B37922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B0983-7CEC-4D20-BF2E-BC8B8293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A3125-C7D2-445B-A69C-D38AD349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5FF13-D398-4E7F-BEB9-9F825DD8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B7A83-4017-4DA2-B098-FEAA23D4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A17BE-4711-410D-813D-ED2BBD58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33369-83D3-4FDF-86B2-228CA0A8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64836-01CB-4537-84DB-AC81AFA7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0CB59-6C83-4ABD-B5F3-E31F5B9A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E24FC-C0B5-4B2B-9C2D-A5A2DD08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7D75C-2452-4ECC-BEAE-ABB84052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BC605-3105-4F97-8972-C1D91013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79E05-30DE-4D6F-9107-00512965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C5FAF-61FC-452D-972B-47F04205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E780D-0514-4B84-B4ED-9B29A71A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DD37B-A619-4C8C-9C0E-A1EB3C45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1204C-E5B2-4002-91BB-FBFB6E85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3AA2-6A17-4E2E-9BE4-DE251A82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3B48-BDAA-4478-BFE1-3C3F453D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EA63-44A1-4329-8AFA-D6A200FD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33FF-6918-459E-88A8-DE7241B8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3E73-7E60-48AB-B6C0-3DD34389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1F59-3F10-4C95-887C-D6A6B6EA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417F-8959-4A8D-992E-F763B150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68E9-2BA1-4ACB-9351-D737CD59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5207-9C1B-429E-BAC6-8C1386DF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5C64-A4AA-4AB0-86EC-B82A24EF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4DA7-67F8-40A7-B209-7C540721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3F36-4C0D-4589-B696-F5657BA4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4DCC-E5EE-40F2-A1E9-30CF9875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2F5A-B50F-4C92-9299-D11B5617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6D5C-4FC7-4272-9907-D604E9A2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8F6C-25E4-4B9A-99B0-C2F584FB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57A8-E10E-406D-AC90-C8A86850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8298-B7B5-4ED4-BC74-FEF77718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2BB3-693E-4D6A-8DD8-73A8147F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58C8-0D27-49B1-9D24-3F1C1808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86C9-D031-4C54-AA8A-03FF6BAA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7777-3748-4B4B-A326-EF626BB1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E61F-5D50-4306-8C86-C4667597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7EB6-0342-4EF4-B6D4-DA088E83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ADC8A-3BCB-4DFA-9DE9-B4F55855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C118F-5F72-4490-97AB-7BF3A044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7F9F1-C57B-435A-9EE4-F9B91787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87B1F-D462-4F24-AE53-5405C242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559DB-FA35-475D-8E42-1097C1BE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DCCFB-FAAD-4FAE-A700-1A0B3DD6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32B20-A6B8-4149-A9AE-8B7B4A7D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62918-39D8-4F00-B71D-AA3D3FE3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187C5-4C26-4B43-828E-06FC19E1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DF142-07BD-4AC3-A3F4-6CB2162E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8641E-F08B-431F-AF95-80328FFE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32840-3D71-476F-8E2E-193654D7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D8859-324E-4BB1-BF27-0C5A38CA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AF066-0602-4191-B5D4-C100CF56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B58DB-44E9-4E9D-9AD3-AE75DF5A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9C975-3189-4F14-BB89-A77E18E5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213CC-98E0-4054-AF23-1A7DDAA8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8349D-C73A-43B0-8419-C2B1CAF9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2934A-FF84-4F43-9161-49BF6137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CA22B-75D7-46CD-A84B-1E97096A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A4289-917D-4102-A2DD-387647D4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22D08-55D8-4677-B6C8-79C36284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1FE5F-2227-47E4-8BAD-D33CFE52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73500-1D05-4A6D-BAF8-343FFB1C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742FF-B3A5-4B74-8D9C-16154324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AD36C-2E21-44E3-A82C-E44FD870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C329B-FD4A-47BF-B928-4AA9B1DB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813F8-D9C7-4C13-84E1-55C0268F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FF013-6D9E-497E-AF5A-56963112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461DF-1A00-4320-AB5E-623BBDD0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870D0-9339-40CB-B32D-32F6DC08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C9632-5630-4B39-98C2-6C69FFD3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39B6D-28AB-4171-B609-7F6EEC8B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C0F05-2BD5-4632-A8B2-C2A97F8D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88557-A20A-45B6-8BCA-53B18FBE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2639B-B0A5-4A19-A90F-AA47D3CC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E8301-AE95-47DE-9A1A-DD026254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C6B2B-C120-4836-AF03-85EC8B59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1F420-26A5-4995-A8B3-AC29DC84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4ED9D-C897-4CF7-9EE9-E6224B78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D610A-5BF9-4E9C-95B7-63E68BD6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E001B-71DD-4584-8CFF-8A9A844D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6BF54-F0BC-444D-B3BD-B96DC101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8A6AA-F635-4A37-9DDD-9BD789CA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50A1F-87B3-4FE8-BC63-B34BDC2A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8DB2D-4B8D-49E2-B829-1BA7434A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EC092-2B34-4C7A-8E02-EB3A5E9A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62C9D-1634-4047-9AD2-C16ABE1E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ED3A2-4592-4EA8-BAC3-43578F8F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671FC-776A-49BD-9498-2334544A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DB7C7-17A2-4763-AC30-BF5908FC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2795-E403-46D7-9E18-234A30646CF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DFBC-E634-4D1A-BF9F-62DB03A2933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3F41-6FB4-4CD8-80EB-98AE17EE2AF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C:\Documents and Settings\Marcelo.Raimo\Desktop\layout_cap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14E3-5753-4EEE-BEC6-0DCBBD08C10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E59C-AE71-4FC5-9CD8-5E1E245367D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28DC-7BB6-43B7-9A99-DD09A97606C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8D6C-ECA3-4AC2-BD13-C4B6BF56603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7BE0-11C4-4369-A1B7-5BFAAFE332D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1702-38CC-4F87-8015-F169ECE63D6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2E5C-650A-4C25-A609-95FB73B0F40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4:42Z</dcterms:created>
  <dc:creator>marcelo.raimo</dc:creator>
  <dc:description/>
  <dc:language>en-US</dc:language>
  <cp:lastModifiedBy>marcelo.raimo</cp:lastModifiedBy>
  <dcterms:modified xsi:type="dcterms:W3CDTF">2011-04-19T18:35:21Z</dcterms:modified>
  <cp:revision>1</cp:revision>
  <dc:subject/>
  <dc:title>Slide 1</dc:title>
</cp:coreProperties>
</file>