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EC078-9E5A-4029-9FC2-DB29B4E6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712B0-E67D-4246-8092-177EC26D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C44EE-7467-481F-81BB-657009E8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1943F-024B-4B61-855C-8EC0E694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077C3-B998-4F7F-8E0D-EC548FA1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D3A5E-7CAB-496A-BD85-DED4CE47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23D11-7669-40B0-B1B2-B48BE2BB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C10F1-88C6-495F-BF21-941F8942A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C4BE4-072A-4E20-8630-87F481636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FFF17-4F72-4560-9CDC-C6D4D1699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2DBEF-89CB-4BF0-B1E2-6ABE3AFD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39C5C-4D77-450B-A6F8-9E3AE264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721A8-D856-447A-9AD9-CBC24C9A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B6C15-E273-42F4-BB59-0816643F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F680E-9793-4188-A79E-59C1803D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FD082-19B4-452B-9002-B7191E6E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EDAB0-BEBC-4171-9FE7-CC92A764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02D52-25D9-4DEC-B6BA-F0B11EF2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C565F-E036-4301-8049-C9DCAC49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B8741-6273-45A7-B253-28D3821E6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D8802-7402-4AB5-B54D-C131A58CF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826076-345B-4FBC-AC8A-2C089B2B5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5BD9F-EE61-409F-B8A4-47FEA808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119854-8703-4901-8E5A-D9129271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D00C0-FF1B-4F16-ADCA-0CEEE875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31E791-F765-4770-AA53-C14923F5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09F230-9FA6-46B3-BA4A-E0EFE328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CE459-CB6F-4A98-B04E-EBBCB154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F01046-1F12-4076-8C8E-876D8E45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4B6F9-4959-43E7-A84C-DEA01E5C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1E6A39-933C-4403-B4C4-E8B83A17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C6731D-3094-486B-8B42-CF46AE733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B8ED3A-AD65-45F7-BBF9-48F0506E2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3AFE1C-4D10-464D-A37B-5E2FB8F66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D2A852-5D3D-4316-8838-673A1601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FD68B7-0AD9-4FCD-BA20-85DE9EED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7C8361-6A8A-4F2F-8338-8C9FC5FC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7AC8CC-4B41-4D50-8DE9-8DE535E8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5D0851-24AF-40D3-BC09-95C147EC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ACF3F0-F62C-4CD6-BEBE-6F2A9185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21944C-E9F3-4EA7-A4F3-0E6E4AEB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11EF0E-4773-484A-B838-9C0BBC74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778996-1D23-414A-972F-83B62D78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66D3A9-AAD5-416A-AE7E-7F99A8779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763882-4B41-454D-BD2C-883298530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93D4-532F-4147-99F5-2317149B1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7D44-496C-4459-8CA4-4F14A427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DC0E-5AAB-475E-9ACF-AF20B880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B71B-478E-4BE8-AC48-E5BA0AB3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4B55-DE02-4976-BC51-3DC2FA33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C059-098D-4870-9E33-258C7279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7480-EFA0-4671-8A0A-0AD9C70C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999E-4E7D-40F0-8173-385FFFFF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3FF8-D6A7-42D7-A365-76F9FDE9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6759-0492-4C33-9B7F-40FD92A4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CFCD-323B-45ED-ADC0-0FB0322A4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ED61-2339-4A3C-8F7D-C5EC5067E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080F-8007-42F2-A9CB-42BFB5360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8685-5D94-4B42-B02E-D9A170D9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D03C-0560-4E26-933B-30BE80DD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14FB8-7761-44CF-8E12-DCFD231D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9F2BC-1236-4756-A51A-C6AE6FF6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9E82-C508-4722-9293-71FCB74D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640C-D865-41EB-B84D-D00B5176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4683-A709-4E04-9A83-903E0093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9C6B5-CBEE-4FED-BD4B-2B97A79B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484A-208D-482A-9F1B-84A17732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B9AC-C3B3-4E45-96C5-042B3C9CE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94F4-80ED-440F-807F-2A209D9B8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E751A-80DB-4129-904C-EBDFDFD6B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2EFF1-4202-4D13-B1BB-11D1E415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5D899-5B36-4FAF-B830-0DD0E98F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BB3FD-BE5F-4B88-B318-5D50CD4D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51F8F-F10D-49E3-9AFE-17DC91A3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851B6-F3F4-469C-BA26-62D451B3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3BD47-5DA7-459E-A5A7-40C21227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34E28-279E-4266-9071-31F62EA2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99C00-DAEF-4B69-985A-C291CC50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FC405-DFAC-46B0-AAB7-024EDC22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54127-6BA6-4E41-87E8-7CC35AF7E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5CC20-99A4-4C86-8A45-A3F1E335B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212B9-45FD-4B91-832B-A7B3AAEF2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3896D-1EF8-4B67-BBC1-A7CFB066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68F39-B303-4938-85E0-FFBC984B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61138-8474-4D40-BDCC-00AE51CB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EAE33-4010-4BD7-A02B-E0F552B7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C0546-E2D2-4C5D-B4D9-29B12BD1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0F907-E0D9-42E2-8239-58556FFC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F7DEA-6354-43AA-AD38-AE51CE18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C4812-4231-4073-B42A-8CEC680E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0A1C1-CDA4-4DFA-81C8-5CAC467C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E89F9-E437-41A2-A172-49984FD1B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707F1-0CD2-42AE-AA40-9A126023F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EC5B7-4ABB-4600-9898-CE921F19A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A6230-BD7B-4F23-8124-416F6DE9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9EA28-F338-4259-AAF1-1AF242774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9E997-F7DF-40B9-A224-D1E4D292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0D900-271C-4F5D-B2CF-D633B481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89639-039F-445F-9E1F-4F4E9590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D7369-F901-45A1-B577-B488DDB4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9434B-6CEA-463A-9C6D-51854349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46819-2A18-4677-8B3A-165A41F2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48E57-31F9-4C47-82B8-3CF64E35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5ED49-F1D8-458E-A0DB-67469E1C6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52CBB-5313-4B85-B127-BE8C4CBF4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EF031-AD4E-42B0-8953-6A8F30175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221DD-CA3C-47DD-A05C-D409AEB1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B6320-FBD3-45DE-8F0D-D4773894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165D9-62CA-438E-B0CD-56C51CE3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59732-1D9E-4293-ADFC-9FF5B019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C615E-66F7-4B30-8F5B-A45F7BDB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757ED-2EBF-4ADB-AE20-965531E9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62EE9-DF48-45AC-B5C1-3EC91502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87883-AE3B-41DF-951E-E3D8FF2C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F3767-BC9D-4622-8C76-634149FD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3FAFD-26CD-440E-B373-5E78795B1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F5F36-79F2-46B6-80D5-CAF43C249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6E99F-C8EB-4D83-B4BC-676FFC853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CF7D3-2AC6-481F-8F07-5E54C586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30DB8-13FF-4F1A-A9B9-3BC7F551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1067-911A-4A57-B096-D7B9A04D130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0418-154A-4F1A-93C3-046F46BB760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ACA0-AB7A-4A61-ACB1-C7FB6F5CA9B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C:\Documents and Settings\Marcelo.Raimo\Desktop\pps\tarjas\tarja-vermelha.png"/>
          <p:cNvPicPr/>
          <p:nvPr/>
        </p:nvPicPr>
        <p:blipFill>
          <a:blip r:embed="rId4"/>
          <a:stretch/>
        </p:blipFill>
        <p:spPr>
          <a:xfrm>
            <a:off x="-50760" y="1521000"/>
            <a:ext cx="9325080" cy="142380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cf21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f5353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C1D7-223C-4472-BED1-21B89659685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46A3-7E14-4C76-A07E-489167FEFE2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B227-C701-402D-883D-A78E0B63B15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641D-B933-4AB5-AF69-0FCF4E50A32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E17A-9817-4A26-A169-64E60F8B93A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8C40-4793-4CFB-BDC5-99882EF3275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DD26-6D82-4AC3-81AA-7C1B9B04D6A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3" descr="C:\Documents and Settings\Marcelo.Raimo\Desktop\pps\tarjas\barra-vermelha.png"/>
          <p:cNvPicPr/>
          <p:nvPr/>
        </p:nvPicPr>
        <p:blipFill>
          <a:blip r:embed="rId1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C:\Documents and Settings\Marcelo.Raimo\Desktop\pps\tarjas\tarja-vermelha.png"/>
          <p:cNvPicPr/>
          <p:nvPr/>
        </p:nvPicPr>
        <p:blipFill>
          <a:blip r:embed="rId2"/>
          <a:stretch/>
        </p:blipFill>
        <p:spPr>
          <a:xfrm>
            <a:off x="-50760" y="1521000"/>
            <a:ext cx="9325080" cy="142380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cf21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f5353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95280" y="183672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ark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tarjas\barra-vermelha.png"/>
          <p:cNvPicPr/>
          <p:nvPr/>
        </p:nvPicPr>
        <p:blipFill>
          <a:blip r:embed="rId1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2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826920" y="1981080"/>
            <a:ext cx="79218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eta para a direita 7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cf21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2" descr="C:\Documents and Settings\Marcelo.Raimo\Desktop\pps\tarjas\tarja-vermelha.png"/>
          <p:cNvPicPr/>
          <p:nvPr/>
        </p:nvPicPr>
        <p:blipFill>
          <a:blip r:embed="rId2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507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28:23Z</dcterms:created>
  <dc:creator>marcelo.raimo</dc:creator>
  <dc:description/>
  <dc:language>en-US</dc:language>
  <cp:lastModifiedBy>marcelo.raimo</cp:lastModifiedBy>
  <dcterms:modified xsi:type="dcterms:W3CDTF">2011-04-19T19:01:28Z</dcterms:modified>
  <cp:revision>4</cp:revision>
  <dc:subject/>
  <dc:title>Slide 1</dc:title>
</cp:coreProperties>
</file>