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02030-50CB-4E68-9159-A44A4433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70666-8116-4F68-96F9-D3EC24B1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70060-7D3C-4C6B-9AFB-F227AAC6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BE9D3-310C-4578-B119-272D2BEC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2D34D-2B99-4E17-A3A1-C80938C8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E1912-DD53-4A8E-8D99-4461812F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0361D-4637-4AF7-98AE-B3C4987A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1F0CF-CCBF-4EF7-8D80-797EF2E3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F70A9-B2DD-4657-9A5D-595FE0C4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CB521-D572-4845-B36F-29F6CE239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FA34B-1ABD-4052-A43B-FFCDB36A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D6F5C-6662-4A34-88F5-3E5F6358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6A15B-32F0-416B-A452-25FA54FB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C4BB9-5940-4701-B05B-17CB4976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E8B95-7718-4C54-95EB-B127D770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884C7-55AC-4C93-A74A-51F2446C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75075-2DEB-4681-A743-6EBBCE35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DF518-6ED8-4B1F-B296-816B4432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E813D-B742-4EBB-8C6C-5EA7EC90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D38BC-9F02-4711-9DB8-03841646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F392F-FB08-4D8F-BC20-B0339EFAE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73DEE-9C98-4CD5-908E-A3E89A88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5358F-A8CF-4960-8548-DD8990A1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57608-525D-4241-BBC7-83A26232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5836E-36B3-4E79-BEC2-5572D372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1CE37-6274-4159-A079-6C6A5CA3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E5B77-8912-4750-AD02-4E536702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06E9D-A50B-49CF-BA1D-9420BA47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8CC4A-BBB5-4403-864A-12B0B5A6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90817-91F4-41EF-929E-A147A60C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C8474-1F2A-4F61-ACBF-1A804E22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EFCFC-51F6-465D-86E7-55115EEA4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FADF3-9181-4B6C-9527-3EF61F16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4F78E-719E-4615-BC74-0AEC1A9CC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44A93-C5B3-44F6-91B4-7A98C3C9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8C8E1-2D4D-407B-9D7D-8C4500C9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A0097-E0D6-466E-A955-DD88F1C1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CE920-F80A-4A1E-8E80-1175E9DC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8D4DA1-8C6A-4DA7-93BA-212C3B93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D1AF0-550B-45F4-9A79-CC357492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9CF50-D84B-4E0B-9C6D-03650D47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E7DBD-C3DC-4E63-9617-C9BE3FB4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6C1459-90C2-4CF8-8A50-272DCE81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3D2CA0-77D6-4D1E-9374-50ECF515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808C0-B7CA-4A08-AE36-A888C2BC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95C1-683E-4322-AB60-196034C45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A1AD-524E-4A60-9026-798175F6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806F-D57C-4CBC-8624-995E240F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9A6F-C826-4536-BBBA-A7BC159C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BEB1-2AF1-434B-B02C-BD933E55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D437-7414-4A3B-AF15-F96E4F24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8521-E76C-4086-8B60-24F35FE5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5E48-D233-40A0-9B70-9FA150FF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5C5E-F445-4EF6-B235-C608E53D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E209-EEAA-4C50-B8BD-3F47DE1B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435F-0DBF-42F7-B00C-5B298E066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7C97-D48F-4DB5-86FB-A708501B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6150-7116-488E-894A-91E36BC4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CCD9-B1BC-43DC-98E3-45BCFC5C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CBC9-7DCD-4716-A15A-3B113C2D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8DE1-E075-4968-99CC-D6130DC2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8DDB-63F1-4AB8-A40A-44062429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8926-F129-488D-8532-8AB59887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6212-ED43-48ED-9BF4-6701E23C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C3A1-AA8C-48E3-8ADC-42E0661C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1DE8-8532-43EE-887D-A2865B10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1C35-5533-44E9-822F-8F2EBA0B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397D-C766-429E-BD30-59A82EB7A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60E5-7A2A-4834-86E0-85F3023DB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E236E-4769-4F5C-AA8C-29BB18947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C4520-D94E-492E-8758-242DD541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F7EE8-EF19-4DC9-94E9-C1976A7E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AC06D-BDDC-4664-B5FD-83D4EA60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418F6-41A1-4406-9F2C-40CC1863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7F773-B82F-45EC-9A65-264406AC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CD21C-FE68-475D-BC91-4E8577BF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39F3E-ADFF-499A-AD62-2D00F477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CE7D5-FA4F-41AB-98BC-B681BC06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C3571-3052-43FA-B46C-2C391C59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5BF83-EC40-467C-A326-7A5FD9A79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C8D26-92DC-4577-B0EE-B3711977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2E6F6-52D0-4BAD-90FA-FCAB1673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CF876-C3EC-4FB8-8480-454EA8F6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08DD6-122D-4E5B-A6E3-E2D60E10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E6F37-EEEF-4FE8-B7C1-7BAE542C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BBC82-6A42-4C77-831F-AF374FDB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5AC9C-1F84-4690-8BAC-A2B4FCF4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96CD7-442F-486D-991F-0067A48C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97D64-691D-459D-9B4C-D25DCB69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953CA-18E6-456F-AB37-3FBDF318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F8A61-3344-4275-B280-7F8DD611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38C98-4A5A-4C48-BEAA-B28587C5A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28979-22ED-41E8-A5E7-559F9902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573DD-DC0F-46C3-9AC0-B98D4F42B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64C27-F5BB-4C72-9397-18B55976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22749-B56F-45B8-B8E7-8417303F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773FE-1FCC-44E4-8FFB-ACD6286D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B081D-55BD-46C9-9C59-00A42A0D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EB211-24A0-4BB7-94A8-5B680E1B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9A2C1-CD29-4A85-BCC3-CF211BE0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874E4-8F5B-47E2-BAD8-C27DAF09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A63AA-BC8F-48CF-9538-9497BE3B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2AE64-4C81-4BCA-B051-F3FDFAAB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DD177-D279-49F3-A246-1179EF481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99902-509F-43D6-B42D-42AA3928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C2392-4D7B-4425-B84A-F9388BC2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85AB1-9697-4B04-9133-7B914494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A0958-5705-4CCA-A5BE-E369279A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150DF-E8F5-4589-9E49-88AD4AB6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3C974-A63B-44D7-9D31-A9FF85B9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5159A-BEF9-4D72-BA3C-09FF31A3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504FF-4875-46C7-9196-1133B962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B1E73-DAD7-4E63-A577-36660893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6EC4C-63E1-47EA-B445-52720278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FEAD2-DDBD-4428-9462-888A0EB0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106DE-2A14-4D87-BBA7-575420E6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CEFF6-F301-434B-98CE-95927D66B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0A611-F8EF-47C9-BA31-D9107D16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01776-0CF5-4463-8880-BE621061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BB7C8-C7E8-4064-B07E-41974ADC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6CC3-C807-4F9A-9F0B-915B1570748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2ECE-C891-4016-94E6-B78EAFE5C82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20AE-F570-4971-A3B7-0D05BFB8D58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vermelha.png"/>
          <p:cNvPicPr/>
          <p:nvPr/>
        </p:nvPicPr>
        <p:blipFill>
          <a:blip r:embed="rId4"/>
          <a:stretch/>
        </p:blipFill>
        <p:spPr>
          <a:xfrm>
            <a:off x="-50760" y="1521000"/>
            <a:ext cx="9325080" cy="14238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f535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C46C-22A8-46E7-8B76-F2168363AD3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DB5A-535C-42E7-AABB-30EC349FA75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2054-D936-428E-8952-CB53DD67166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41A0-8E5B-4AE4-92E3-09DB076FA47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C2AD-2935-49D2-A486-48EF628D824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50C5-FEA8-4B46-A18F-0D9258E8AA8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21EF-FAAF-47EC-A15A-8EA1B32A073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barra-vermelha.png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tarja-vermelha.png"/>
          <p:cNvPicPr/>
          <p:nvPr/>
        </p:nvPicPr>
        <p:blipFill>
          <a:blip r:embed="rId2"/>
          <a:stretch/>
        </p:blipFill>
        <p:spPr>
          <a:xfrm>
            <a:off x="-50760" y="1521000"/>
            <a:ext cx="9325080" cy="1423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f535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95280" y="18367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barra-vermelha.png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2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826920" y="1981080"/>
            <a:ext cx="7921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eta para a direita 7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2" descr="C:\Documents and Settings\Marcelo.Raimo\Desktop\pps\tarjas\tarja-vermelha.png"/>
          <p:cNvPicPr/>
          <p:nvPr/>
        </p:nvPicPr>
        <p:blipFill>
          <a:blip r:embed="rId2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8:23Z</dcterms:created>
  <dc:creator>marcelo.raimo</dc:creator>
  <dc:description/>
  <dc:language>en-US</dc:language>
  <cp:lastModifiedBy>marcelo.raimo</cp:lastModifiedBy>
  <dcterms:modified xsi:type="dcterms:W3CDTF">2011-04-19T19:01:28Z</dcterms:modified>
  <cp:revision>4</cp:revision>
  <dc:subject/>
  <dc:title>Slide 1</dc:title>
</cp:coreProperties>
</file>