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A9CEAD-36DD-49B7-B8F6-4409FE9BA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044616-682F-4908-98FB-43CA2CD19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4A5363-431A-4158-B65A-9FE6AAB7C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2F9F5C-DC8C-48E2-A2E5-125840618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7CC6BA-FC57-451A-8F74-41F91DE75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7A1E5C-E177-4ADE-82C2-56ED7D03A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64E689-258B-429C-B287-5D38039E7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F338F8-4290-4B8A-A76A-C65B6702C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D3E561-6175-4907-9992-26F35D43D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CE186A-9E2F-479F-8160-EA2E42759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DD585A-CB74-4640-B54B-D892C18C3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221BBA-7AF0-4B5C-8A51-9DD82A798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FA5901-055B-467B-8A52-1B78937D9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DC69FE-B43C-4C8C-8C45-37CCC0C5B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669AA5-AA74-481B-91C7-F55434926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F39FED-89CB-4AB9-91AD-98D261DDF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E03F3C-832E-4A60-AC12-8A3EA19DF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866953-6B7F-417E-8826-5B95E47CE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2B611C-601E-4557-ABDB-3243BBDAF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AC21AD-BF9B-4C3E-AE64-9A463D2BD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C6B196-4259-411E-A8AA-CC0DA9C91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2EFE65-251C-4C6E-87F9-5DB4A7DB4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0ABEF1-9DA8-451F-9580-6674188AB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6F5EFB-3154-474B-BA81-57A9B16C1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FC82B0-B150-474C-A738-6735BB674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BE2F78-09F5-42B3-9337-0145A1B5B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4C9635-4E81-4435-9641-B16647DF7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714E50-A006-4908-963D-CCD1ADB24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1FE54E-F9D7-4B66-87E5-77BAC84FB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3B53C3-CE82-4A26-A39B-74E703159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CB9B7C-0942-415D-8717-33CE29FE0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9A1038-9EF1-4997-A444-CBEAA2237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2F0197-FE8E-4F93-A31A-06ADEBF1E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482F86-6382-4568-9844-81B04773D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DB5170-F954-4082-95C9-45E1D2603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FF0CBA-0A99-4DA8-A904-4B57F26F6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9BF0D5-44D3-4638-9335-C05FE16C6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56DA05-EB50-4E56-A8C1-1D77D80F1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4B7440-C90A-4A46-8104-B942193A7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83A067-9790-4329-B7D8-68AE74FFB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EEC44B-6B23-4C4C-8337-BCD26374F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3D76F5-F912-4ECB-8654-FC96BC6E4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128D26-99B8-435C-ACF0-95E95B567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C851E4-16B8-4827-850C-24FDEA9AA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C1BE1B-56E9-4D9A-8C29-004BD23FE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1CEF-0469-42F5-B24A-05A1B28E1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97F2-6688-4945-88F6-B2EC2EE40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5663-D674-47D0-A44D-C615EE8C1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F315-3042-4592-BDEA-905FCA007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0F38-C830-4591-8379-C6CB018B5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297F-6052-4DF1-8981-1057AC043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3D24-4487-4CDA-832A-E5372C1C5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3A04-2349-40E6-B33B-F2E5ABA99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4E7C-AFAD-4148-AFA0-786AB5EF8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68CA-3476-4B8C-A5E2-7C3A57E78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9EC0-A0F7-423C-9467-644CC58EE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1AC4-AF10-403F-81DA-5F19CA719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43B81-0286-4B92-A148-CE66A9F29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E7BE3-38C0-4641-875C-E0F46FE54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27F35-08B3-4B3E-BC0A-E97ADB853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2881A-6900-4419-A546-6A31C812D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087A7-AE10-4266-AFD6-7A86BC291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FA948-9267-42BE-8AFF-9BC0FD56C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1C890-AA02-433C-A3CF-3A5817ADC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CC206-7085-4ED5-88E9-D188F0CA6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69595-0DC8-4C04-8493-1E9A216B3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74AAE-4F9B-41AB-B0BF-E19E536C7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17588-2C0E-485C-A5A3-841E7CAF2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DD146-C39B-4F4B-9D43-2108A5714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50C6EE-0160-4D27-80A7-00DC9F853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805202-20B5-45CD-98DB-5B9744299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C40532-273F-46E0-A9E4-A94A32D5A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3C70B7-7070-426A-84FB-EF4FBD272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EC76DF-D3C3-4C94-921F-523A0BF6D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2833D4-015C-4C95-BBCD-DA3A32CD6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2BAB7C-C82B-428C-AA02-61FF6D420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EC5180-8AA8-439D-A30A-6C8C14E30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4D1E1E-2888-447B-9870-6C5E876F3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87E0B5-DBE5-40B0-B944-9886A65BB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C4A0BE-E3B2-4624-AE66-3FA522A08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800113-7675-409A-B74F-642A730AC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0BF624-3411-4F72-BD03-BF600920F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D1B552-EFC7-4579-AEF4-3012471EE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6FD7DC-CC16-4272-A659-293224B13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56D1A5-99BA-4E7D-9E0E-D6C672B10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ABE0F9-AACB-4F52-AA3F-31F59AC02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75C228-5687-4C7E-8BE1-08C0D7575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0A35B2-CFE6-4982-A693-5A44A47CE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07B2EE-BB5D-464A-902E-E71733D01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EA7065-A0CB-45D9-B80F-768DDE50D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C74591-AE71-43EC-AFD2-FEC0EC7DD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96C5E1-5D41-47C8-8C9E-AF5F5F9F6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E2F497-40E9-426C-B1F7-FA4EF43EC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03D377-8588-4942-9A90-2579841B0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0CD89A-A69E-41BB-ACA3-B71C017B7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4645D6-4B55-4A0B-B74F-840EB542A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89D92B-C4AA-48DB-BAAF-45EF86F01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C56074-EAF6-43FF-9ACB-B94026DE5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244DA7-C108-40DF-AFE0-A6A25A29C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8A4942-D099-4032-BD78-8535E19C6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74FB67-573F-4F31-85F1-479D43E0E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13CA4C-988D-49E0-833E-880D4D6FC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4EE193-6712-4918-AB8A-BA45807E4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E96830-080C-4410-A686-EA117BA07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5BB423-D831-48BC-8F93-7DB85F1AF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CA86F5-0158-408A-AAFC-46DE473FA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524F49-F5F0-456F-8D04-F7C213359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8065D4-FDDD-4A39-9ADA-748408D54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1EE84E-617F-4F4F-AB6D-C1D16C1FF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86EC95-DD21-46CB-8D78-C2EA173AC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7F1160-5746-402C-8933-CAD0A8251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A9D594-3D72-4AF1-A8FC-531F210F8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403BEE-9FFF-4DEE-A994-FBF166977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DDA597-298B-4EC1-9356-959A0ADAF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28969A-3C47-42FC-B9C5-48F86367D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13D99D-9529-4CFF-9F2A-F8AA49B99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BAC372-7859-434E-A878-051B9E5E0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F6D3D9-1566-46B0-965A-244E71720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3E4954-41D7-4FA5-9C2E-746A52D86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C96FAC-C97F-45D7-91C5-FE711DFC9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C:\Documents and Settings\Marcelo.Raimo\Desktop\pps\tarjas\barra-vermelha.png"/>
          <p:cNvPicPr/>
          <p:nvPr/>
        </p:nvPicPr>
        <p:blipFill>
          <a:blip r:embed="rId2"/>
          <a:stretch/>
        </p:blipFill>
        <p:spPr>
          <a:xfrm>
            <a:off x="0" y="-12060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C:\Documents and Settings\Marcelo.Raimo\Desktop\pps\tarjas\tarja-vermelha.png"/>
          <p:cNvPicPr/>
          <p:nvPr/>
        </p:nvPicPr>
        <p:blipFill>
          <a:blip r:embed="rId3"/>
          <a:stretch/>
        </p:blipFill>
        <p:spPr>
          <a:xfrm>
            <a:off x="-127080" y="6402240"/>
            <a:ext cx="9325080" cy="1424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3" descr="C:\Documents and Settings\Marcelo.Raimo\Desktop\pps\tarjas\barra-vermelha.png"/>
          <p:cNvPicPr/>
          <p:nvPr/>
        </p:nvPicPr>
        <p:blipFill>
          <a:blip r:embed="rId2"/>
          <a:stretch/>
        </p:blipFill>
        <p:spPr>
          <a:xfrm>
            <a:off x="0" y="-12060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2" descr="C:\Documents and Settings\Marcelo.Raimo\Desktop\pps\tarjas\tarja-vermelha.png"/>
          <p:cNvPicPr/>
          <p:nvPr/>
        </p:nvPicPr>
        <p:blipFill>
          <a:blip r:embed="rId3"/>
          <a:stretch/>
        </p:blipFill>
        <p:spPr>
          <a:xfrm>
            <a:off x="-127080" y="6402240"/>
            <a:ext cx="9325080" cy="142416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D709B-C90F-44CC-8AB4-21AFD461BF35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3" descr="C:\Documents and Settings\Marcelo.Raimo\Desktop\pps\tarjas\barra-vermelha.png"/>
          <p:cNvPicPr/>
          <p:nvPr/>
        </p:nvPicPr>
        <p:blipFill>
          <a:blip r:embed="rId2"/>
          <a:stretch/>
        </p:blipFill>
        <p:spPr>
          <a:xfrm>
            <a:off x="0" y="-12060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2" descr="C:\Documents and Settings\Marcelo.Raimo\Desktop\pps\tarjas\tarja-vermelha.png"/>
          <p:cNvPicPr/>
          <p:nvPr/>
        </p:nvPicPr>
        <p:blipFill>
          <a:blip r:embed="rId3"/>
          <a:stretch/>
        </p:blipFill>
        <p:spPr>
          <a:xfrm>
            <a:off x="-127080" y="6402240"/>
            <a:ext cx="9325080" cy="142416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5DFAE-373B-4505-90AC-79CBE500DC5C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3" descr="C:\Documents and Settings\Marcelo.Raimo\Desktop\pps\tarjas\barra-vermelha.png"/>
          <p:cNvPicPr/>
          <p:nvPr/>
        </p:nvPicPr>
        <p:blipFill>
          <a:blip r:embed="rId2"/>
          <a:stretch/>
        </p:blipFill>
        <p:spPr>
          <a:xfrm>
            <a:off x="0" y="-12060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2" descr="C:\Documents and Settings\Marcelo.Raimo\Desktop\pps\tarjas\tarja-vermelha.png"/>
          <p:cNvPicPr/>
          <p:nvPr/>
        </p:nvPicPr>
        <p:blipFill>
          <a:blip r:embed="rId3"/>
          <a:stretch/>
        </p:blipFill>
        <p:spPr>
          <a:xfrm>
            <a:off x="-127080" y="6402240"/>
            <a:ext cx="9325080" cy="1424160"/>
          </a:xfrm>
          <a:prstGeom prst="rect">
            <a:avLst/>
          </a:prstGeom>
          <a:ln w="0">
            <a:noFill/>
          </a:ln>
        </p:spPr>
      </p:pic>
      <p:sp>
        <p:nvSpPr>
          <p:cNvPr id="45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EF778-07B7-40D0-A2B8-E8A4BAE5A092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3" descr="C:\Documents and Settings\Marcelo.Raimo\Desktop\pps\tarjas\barra-vermelha.png"/>
          <p:cNvPicPr/>
          <p:nvPr/>
        </p:nvPicPr>
        <p:blipFill>
          <a:blip r:embed="rId2"/>
          <a:stretch/>
        </p:blipFill>
        <p:spPr>
          <a:xfrm>
            <a:off x="0" y="-12060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2" descr="C:\Documents and Settings\Marcelo.Raimo\Desktop\pps\tarjas\tarja-vermelha.png"/>
          <p:cNvPicPr/>
          <p:nvPr/>
        </p:nvPicPr>
        <p:blipFill>
          <a:blip r:embed="rId3"/>
          <a:stretch/>
        </p:blipFill>
        <p:spPr>
          <a:xfrm>
            <a:off x="-127080" y="6402240"/>
            <a:ext cx="9325080" cy="142416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2" descr="C:\Documents and Settings\Marcelo.Raimo\Desktop\pps\tarjas\tarja-vermelha.png"/>
          <p:cNvPicPr/>
          <p:nvPr/>
        </p:nvPicPr>
        <p:blipFill>
          <a:blip r:embed="rId4"/>
          <a:stretch/>
        </p:blipFill>
        <p:spPr>
          <a:xfrm>
            <a:off x="-50760" y="1521000"/>
            <a:ext cx="9325080" cy="1423800"/>
          </a:xfrm>
          <a:prstGeom prst="rect">
            <a:avLst/>
          </a:prstGeom>
          <a:ln w="0">
            <a:noFill/>
          </a:ln>
        </p:spPr>
      </p:pic>
      <p:sp>
        <p:nvSpPr>
          <p:cNvPr id="41" name="Retângulo 4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cf21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tângulo 5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ff5353">
              <a:alpha val="8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3" descr="C:\Documents and Settings\Marcelo.Raimo\Desktop\pps\tarjas\barra-vermelha.png"/>
          <p:cNvPicPr/>
          <p:nvPr/>
        </p:nvPicPr>
        <p:blipFill>
          <a:blip r:embed="rId2"/>
          <a:stretch/>
        </p:blipFill>
        <p:spPr>
          <a:xfrm>
            <a:off x="0" y="-12060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C:\Documents and Settings\Marcelo.Raimo\Desktop\pps\tarjas\tarja-vermelha.png"/>
          <p:cNvPicPr/>
          <p:nvPr/>
        </p:nvPicPr>
        <p:blipFill>
          <a:blip r:embed="rId3"/>
          <a:stretch/>
        </p:blipFill>
        <p:spPr>
          <a:xfrm>
            <a:off x="-127080" y="6402240"/>
            <a:ext cx="9325080" cy="142416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2C8E4-AB00-4DB0-90C5-E09DC175FD9F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3" descr="C:\Documents and Settings\Marcelo.Raimo\Desktop\pps\tarjas\barra-vermelha.png"/>
          <p:cNvPicPr/>
          <p:nvPr/>
        </p:nvPicPr>
        <p:blipFill>
          <a:blip r:embed="rId2"/>
          <a:stretch/>
        </p:blipFill>
        <p:spPr>
          <a:xfrm>
            <a:off x="0" y="-12060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" descr="C:\Documents and Settings\Marcelo.Raimo\Desktop\pps\tarjas\tarja-vermelha.png"/>
          <p:cNvPicPr/>
          <p:nvPr/>
        </p:nvPicPr>
        <p:blipFill>
          <a:blip r:embed="rId3"/>
          <a:stretch/>
        </p:blipFill>
        <p:spPr>
          <a:xfrm>
            <a:off x="-127080" y="6402240"/>
            <a:ext cx="9325080" cy="142416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1D501-957D-484B-A866-0F01259264A1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3" descr="C:\Documents and Settings\Marcelo.Raimo\Desktop\pps\tarjas\barra-vermelha.png"/>
          <p:cNvPicPr/>
          <p:nvPr/>
        </p:nvPicPr>
        <p:blipFill>
          <a:blip r:embed="rId2"/>
          <a:stretch/>
        </p:blipFill>
        <p:spPr>
          <a:xfrm>
            <a:off x="0" y="-12060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" descr="C:\Documents and Settings\Marcelo.Raimo\Desktop\pps\tarjas\tarja-vermelha.png"/>
          <p:cNvPicPr/>
          <p:nvPr/>
        </p:nvPicPr>
        <p:blipFill>
          <a:blip r:embed="rId3"/>
          <a:stretch/>
        </p:blipFill>
        <p:spPr>
          <a:xfrm>
            <a:off x="-127080" y="6402240"/>
            <a:ext cx="9325080" cy="142416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BC61A-6F47-4AC8-9C71-D6B3764F89B1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3" descr="C:\Documents and Settings\Marcelo.Raimo\Desktop\pps\tarjas\barra-vermelha.png"/>
          <p:cNvPicPr/>
          <p:nvPr/>
        </p:nvPicPr>
        <p:blipFill>
          <a:blip r:embed="rId2"/>
          <a:stretch/>
        </p:blipFill>
        <p:spPr>
          <a:xfrm>
            <a:off x="0" y="-12060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" descr="C:\Documents and Settings\Marcelo.Raimo\Desktop\pps\tarjas\tarja-vermelha.png"/>
          <p:cNvPicPr/>
          <p:nvPr/>
        </p:nvPicPr>
        <p:blipFill>
          <a:blip r:embed="rId3"/>
          <a:stretch/>
        </p:blipFill>
        <p:spPr>
          <a:xfrm>
            <a:off x="-127080" y="6402240"/>
            <a:ext cx="9325080" cy="142416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BA8E0-B66A-40DE-808B-274CC80C45A1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3" descr="C:\Documents and Settings\Marcelo.Raimo\Desktop\pps\tarjas\barra-vermelha.png"/>
          <p:cNvPicPr/>
          <p:nvPr/>
        </p:nvPicPr>
        <p:blipFill>
          <a:blip r:embed="rId2"/>
          <a:stretch/>
        </p:blipFill>
        <p:spPr>
          <a:xfrm>
            <a:off x="0" y="-12060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2" descr="C:\Documents and Settings\Marcelo.Raimo\Desktop\pps\tarjas\tarja-vermelha.png"/>
          <p:cNvPicPr/>
          <p:nvPr/>
        </p:nvPicPr>
        <p:blipFill>
          <a:blip r:embed="rId3"/>
          <a:stretch/>
        </p:blipFill>
        <p:spPr>
          <a:xfrm>
            <a:off x="-127080" y="6402240"/>
            <a:ext cx="9325080" cy="142416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5A511-092F-41E2-A2E5-AB9D5AB0129B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3" descr="C:\Documents and Settings\Marcelo.Raimo\Desktop\pps\tarjas\barra-vermelha.png"/>
          <p:cNvPicPr/>
          <p:nvPr/>
        </p:nvPicPr>
        <p:blipFill>
          <a:blip r:embed="rId2"/>
          <a:stretch/>
        </p:blipFill>
        <p:spPr>
          <a:xfrm>
            <a:off x="0" y="-12060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2" descr="C:\Documents and Settings\Marcelo.Raimo\Desktop\pps\tarjas\tarja-vermelha.png"/>
          <p:cNvPicPr/>
          <p:nvPr/>
        </p:nvPicPr>
        <p:blipFill>
          <a:blip r:embed="rId3"/>
          <a:stretch/>
        </p:blipFill>
        <p:spPr>
          <a:xfrm>
            <a:off x="-127080" y="6402240"/>
            <a:ext cx="9325080" cy="142416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45E16-3E46-4A31-A987-71F75C3532DD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3" descr="C:\Documents and Settings\Marcelo.Raimo\Desktop\pps\tarjas\barra-vermelha.png"/>
          <p:cNvPicPr/>
          <p:nvPr/>
        </p:nvPicPr>
        <p:blipFill>
          <a:blip r:embed="rId2"/>
          <a:stretch/>
        </p:blipFill>
        <p:spPr>
          <a:xfrm>
            <a:off x="0" y="-12060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2" descr="C:\Documents and Settings\Marcelo.Raimo\Desktop\pps\tarjas\tarja-vermelha.png"/>
          <p:cNvPicPr/>
          <p:nvPr/>
        </p:nvPicPr>
        <p:blipFill>
          <a:blip r:embed="rId3"/>
          <a:stretch/>
        </p:blipFill>
        <p:spPr>
          <a:xfrm>
            <a:off x="-127080" y="6402240"/>
            <a:ext cx="9325080" cy="142416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8BB99-F494-407A-8440-F7C37B66E68A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Picture 3" descr="C:\Documents and Settings\Marcelo.Raimo\Desktop\pps\tarjas\barra-vermelha.png"/>
          <p:cNvPicPr/>
          <p:nvPr/>
        </p:nvPicPr>
        <p:blipFill>
          <a:blip r:embed="rId1"/>
          <a:stretch/>
        </p:blipFill>
        <p:spPr>
          <a:xfrm>
            <a:off x="0" y="-12060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2" descr="C:\Documents and Settings\Marcelo.Raimo\Desktop\pps\tarjas\tarja-vermelha.png"/>
          <p:cNvPicPr/>
          <p:nvPr/>
        </p:nvPicPr>
        <p:blipFill>
          <a:blip r:embed="rId2"/>
          <a:stretch/>
        </p:blipFill>
        <p:spPr>
          <a:xfrm>
            <a:off x="-50760" y="1521000"/>
            <a:ext cx="9325080" cy="1423800"/>
          </a:xfrm>
          <a:prstGeom prst="rect">
            <a:avLst/>
          </a:prstGeom>
          <a:ln w="0">
            <a:noFill/>
          </a:ln>
        </p:spPr>
      </p:pic>
      <p:sp>
        <p:nvSpPr>
          <p:cNvPr id="493" name="CaixaDeTexto 9"/>
          <p:cNvSpPr/>
          <p:nvPr/>
        </p:nvSpPr>
        <p:spPr>
          <a:xfrm>
            <a:off x="6296040" y="2925720"/>
            <a:ext cx="633564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Profª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tângulo 6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cf21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CaixaDeTexto 8"/>
          <p:cNvSpPr/>
          <p:nvPr/>
        </p:nvSpPr>
        <p:spPr>
          <a:xfrm>
            <a:off x="1430280" y="5400720"/>
            <a:ext cx="64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Mercado global, Mídia e Relações de po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tângulo 8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ff5353">
              <a:alpha val="8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CaixaDeTexto 8"/>
          <p:cNvSpPr/>
          <p:nvPr/>
        </p:nvSpPr>
        <p:spPr>
          <a:xfrm>
            <a:off x="395280" y="1836720"/>
            <a:ext cx="691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Marke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Elipse 10"/>
          <p:cNvSpPr/>
          <p:nvPr/>
        </p:nvSpPr>
        <p:spPr>
          <a:xfrm>
            <a:off x="-96840" y="3147840"/>
            <a:ext cx="230508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CaixaDeTexto 11"/>
          <p:cNvSpPr/>
          <p:nvPr/>
        </p:nvSpPr>
        <p:spPr>
          <a:xfrm>
            <a:off x="76320" y="3776760"/>
            <a:ext cx="194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a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CaixaDeTexto 12"/>
          <p:cNvSpPr/>
          <p:nvPr/>
        </p:nvSpPr>
        <p:spPr>
          <a:xfrm>
            <a:off x="93600" y="4842000"/>
            <a:ext cx="1943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Picture 3" descr="C:\Documents and Settings\Marcelo.Raimo\Desktop\pps\tarjas\barra-vermelha.png"/>
          <p:cNvPicPr/>
          <p:nvPr/>
        </p:nvPicPr>
        <p:blipFill>
          <a:blip r:embed="rId1"/>
          <a:stretch/>
        </p:blipFill>
        <p:spPr>
          <a:xfrm>
            <a:off x="0" y="-12060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502" name="CaixaDeTexto 8"/>
          <p:cNvSpPr/>
          <p:nvPr/>
        </p:nvSpPr>
        <p:spPr>
          <a:xfrm>
            <a:off x="395280" y="3492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- Esque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CaixaDeTexto 15"/>
          <p:cNvSpPr/>
          <p:nvPr/>
        </p:nvSpPr>
        <p:spPr>
          <a:xfrm>
            <a:off x="965160" y="1341360"/>
            <a:ext cx="4327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Calibri"/>
              </a:rPr>
              <a:t>Premissas básica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CaixaDeTexto 15"/>
          <p:cNvSpPr/>
          <p:nvPr/>
        </p:nvSpPr>
        <p:spPr>
          <a:xfrm>
            <a:off x="826920" y="1981080"/>
            <a:ext cx="792180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- Os sistemas existem dentro dos sistem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- Os sistemas são </a:t>
            </a:r>
            <a:r>
              <a:rPr b="1" lang="pt-BR" sz="2600" spc="-1" strike="noStrike">
                <a:solidFill>
                  <a:srgbClr val="000000"/>
                </a:solidFill>
                <a:latin typeface="Calibri"/>
              </a:rPr>
              <a:t>abertos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 – um depende do outr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Ex: produção de camisetas (agricultura até o produto final transformado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- As </a:t>
            </a:r>
            <a:r>
              <a:rPr b="1" lang="pt-BR" sz="2600" spc="-1" strike="noStrike">
                <a:solidFill>
                  <a:srgbClr val="000000"/>
                </a:solidFill>
                <a:latin typeface="Calibri"/>
              </a:rPr>
              <a:t>funções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 de um sistema dependem da estrutur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Seta para a direita 7"/>
          <p:cNvSpPr/>
          <p:nvPr/>
        </p:nvSpPr>
        <p:spPr>
          <a:xfrm>
            <a:off x="436680" y="1486080"/>
            <a:ext cx="488880" cy="242640"/>
          </a:xfrm>
          <a:prstGeom prst="rightArrow">
            <a:avLst>
              <a:gd name="adj1" fmla="val 50000"/>
              <a:gd name="adj2" fmla="val 50044"/>
            </a:avLst>
          </a:prstGeom>
          <a:solidFill>
            <a:srgbClr val="cf21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Picture 2" descr="C:\Documents and Settings\Marcelo.Raimo\Desktop\pps\tarjas\tarja-vermelha.png"/>
          <p:cNvPicPr/>
          <p:nvPr/>
        </p:nvPicPr>
        <p:blipFill>
          <a:blip r:embed="rId2"/>
          <a:stretch/>
        </p:blipFill>
        <p:spPr>
          <a:xfrm>
            <a:off x="-127080" y="6402240"/>
            <a:ext cx="9325080" cy="1424160"/>
          </a:xfrm>
          <a:prstGeom prst="rect">
            <a:avLst/>
          </a:prstGeom>
          <a:ln w="0">
            <a:noFill/>
          </a:ln>
        </p:spPr>
      </p:pic>
      <p:sp>
        <p:nvSpPr>
          <p:cNvPr id="507" name="Elipse 9"/>
          <p:cNvSpPr/>
          <p:nvPr/>
        </p:nvSpPr>
        <p:spPr>
          <a:xfrm>
            <a:off x="6840360" y="765000"/>
            <a:ext cx="230364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CaixaDeTexto 10"/>
          <p:cNvSpPr/>
          <p:nvPr/>
        </p:nvSpPr>
        <p:spPr>
          <a:xfrm>
            <a:off x="7012080" y="1393920"/>
            <a:ext cx="194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onteú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CaixaDeTexto 11"/>
          <p:cNvSpPr/>
          <p:nvPr/>
        </p:nvSpPr>
        <p:spPr>
          <a:xfrm>
            <a:off x="7029360" y="2457360"/>
            <a:ext cx="1944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8:28:23Z</dcterms:created>
  <dc:creator>marcelo.raimo</dc:creator>
  <dc:description/>
  <dc:language>en-US</dc:language>
  <cp:lastModifiedBy>marcelo.raimo</cp:lastModifiedBy>
  <dcterms:modified xsi:type="dcterms:W3CDTF">2011-04-19T19:01:28Z</dcterms:modified>
  <cp:revision>4</cp:revision>
  <dc:subject/>
  <dc:title>Slide 1</dc:title>
</cp:coreProperties>
</file>