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602E79-C426-4916-BD22-16172DDAC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E35D09-973A-41EE-8C98-60C07818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040D7-42E4-4F52-B1FA-99694E24F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BE49E-D93E-42B0-B824-1C2F494F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DF584-8D91-4CF9-A2CC-DCA6194EB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3B0F5-B645-419C-9580-AE14AF85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F77FAA-DDF0-4957-8890-8BDEAE18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B71F90-B33D-4C8E-B039-98EC7D99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0E571-ED82-407F-AE75-42D7299C7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9DF72-B75B-4542-A129-A89D34765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3A251-C8D9-4432-BD6C-EC03EE4A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14B28-AC21-4474-A7A4-B3149AD0E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4719F-3912-438C-967F-3F03F4C1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F0198-61EF-4827-B769-FCD70F15E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5E9A50-3BD9-45A7-AC23-E802041E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7C0A9C-82C6-479D-92BC-A04BBB62E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036447-D197-458C-BEC5-236AFE4F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60970-2284-4837-B338-87AA55E8A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D5B139-8853-4D08-8DE7-29ABD695B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6DDE0-3AFD-4619-A4BC-96343061D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4AEB4-A5DB-4D9F-84C2-21638DF6A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AE7E18-D8B7-4811-9F0D-0D472E9D3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5799F5-F52A-4E69-8BA7-BDF54CF7B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9627A-7A73-4FDC-B077-D2D2110A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805B0-68B4-4DF8-8EEA-095539E5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584297-C4AD-4C33-816E-B03A0B59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8E0F29-0452-45DE-A8FC-DF83B025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B67302-6632-46B8-A8F3-6683E92D4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11980B-5C42-4269-99F2-E6C66133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EFC837-434A-46CF-A493-C4C98E3B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CC48A-798C-4F6E-B73B-27BADEB1D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4ED8A-7688-4EDB-818A-02721195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29B369-4D55-4DE4-8A80-B53C1D9B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66221-A816-41E5-8EF7-42CCB79B4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822A1-540E-4D83-A044-875BDC32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019B1-289E-4B66-8F21-520A88BA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747256-5F12-4E21-88B4-712E6E13B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B6BE8F-7A6A-453B-89A7-57F643002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819E03-CC5D-4BED-A5C2-A723379A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E4BA0-AE6C-4024-8F65-4757B650F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F1F122-85B4-40FC-A7AB-F634A9CCD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919E0-743B-43D8-BFE6-CFDB9DDDE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F8844-5CD0-407F-BED2-4ACE6947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DE679-AE0D-4B12-9E46-D5F3A7D23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100CF6-2ADC-4E7D-976E-D38CF310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A3D1-D4BC-4C98-80FB-625B06CB1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20E5-2AA5-4F04-99DC-B6965578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BB0C-77D4-4882-B3F3-F011B8F3C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BCC7-C4F1-4C0A-8353-BB0A6013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771A-0BF9-4951-8F8A-5E84713B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E93F-586C-4E94-9C1D-2C96470A3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9396-9250-45AC-8BA1-50FA16F3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7B1B-75F3-4849-8998-737B74BA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B975-BA74-4CA2-ADA9-C46D80DC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69CC-04AC-4170-AB03-C3CE4DAD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9525-D4B3-4D87-BCB5-47B322FA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0F3-B4E1-4C28-B611-08B1C4F3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5E4AF-0BB8-487D-A370-DC9BF595E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CE25-50DA-49B5-A5D1-4ECC55C68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8AC20-7193-4E50-A795-33F49B88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12364-B2B3-49A7-BF8B-2225ED1E8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5B53C-466D-474B-BD54-F16C231DB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E73CF-A7E2-4CD1-908B-02EBB9348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3B3C-A2C2-4A80-8EFA-8A920A1D7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6E4B3-4A5B-44A0-98F5-C9A54202C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F065-6671-4B3B-830B-66A65568A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69E7E-BE16-4836-94BC-B3A9FF32D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B003D-5B76-4728-9F96-C8A523392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F5377-9CEC-4BDF-9051-6DE9EDF5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69B16-1852-4849-AADF-2E0EC930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76B70-0028-4A23-A22E-D58BE1CBC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C8C3F-250B-453A-886F-2A6D722BA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2538B-18FF-4573-9230-6CCD0299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2FB8F-D3E5-4269-8269-248D2AFE3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136AC-77DC-4D97-9E23-A7AFE4B0F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24C68-4855-4596-907C-0AFDE2B1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5700A-022D-4892-8F06-6B8F1B60D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BCC66C-8E2A-41C2-A99D-8D7E2606D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CB023-289B-4F76-9684-CE38DA80E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CDD95-0C1F-49E1-8B94-12D2A97F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CBE95-AD3E-4CD4-9A27-20D65BF9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0E5B0-50D6-4379-B338-59A0348BD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A3556-F3ED-4315-89DF-0E26390EC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2FDA4B-F8F3-4655-A789-EA4220680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742705-D11F-412C-BB4D-2014DD10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377F1-6E04-46C7-9A8D-A408237A8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CEECB-48D3-4FA6-97F3-8F7DE5FAE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DEE91-3616-40DB-830B-C832BD0A5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F80EBB-BFB1-49FF-8E4D-409E7B20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59FA8-9033-4934-AB50-EB08C803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18DD3E-DDE4-4A6D-8389-A4D54ABD6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3A67C-55A6-4489-80AF-044C07223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65C5E-0EB8-4A42-BBCF-43D5455E0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C0F16-446A-486F-8468-DE46DA019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10DA9-6455-4757-8D53-F6878A45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C6E644-FA75-49FD-8540-230DC6F02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8DCD8-4937-43AF-86FC-F7D6AB615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CCC74B-6A02-4AAE-AD28-31D05F341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4ACD00-9E59-4489-AE5F-DE6A9F7B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DE8954-CC99-4B9F-82DC-58A26873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783B54-A07F-4863-A59E-A6AF6873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32DFAF-82ED-4392-9609-940FD1B63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62BF98-960E-41C3-9388-BF875FCFE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7828E-3D2D-4D67-9457-0BA1F1BB5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31147-EAE6-43F9-991B-384DDD3EA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09F78D-2511-448B-8810-703E8EC71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25FFFD-9D2D-4859-AB4C-1ED6AF79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D8DC47-B670-421E-9987-57FB629DF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492314-B8E9-4108-8E42-2E44F7A39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09F90-D410-4487-914C-F265BB798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BB932-199C-4D40-AB3D-428D4286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CCCCCB-1177-4918-A0A0-23102AF8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B53349-0F29-4B8A-881B-21D53797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482AED-4C3A-4715-9586-CD8919BAB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529AA6-D3A1-4781-8063-D4C1AC1FB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633F2D-B2DE-4497-BE02-50D790B27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D83415-6F4F-429F-BD60-213A5683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4A705-05AB-4ADE-8854-E01A5BE1F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F0890E-8182-4506-A179-9B3BDA3C2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F424A9-8B6B-4063-808E-77B32BA4A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F763A-5E1C-4D14-82D8-3F8B2CBC283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8E7B-0FF5-4A7A-97BC-B8A9316B632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0FC69-13AB-4A10-A480-E2C911791DF9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2" descr="C:\Documents and Settings\Marcelo.Raimo\Desktop\pps\tarjas\tarja-vermelha.png"/>
          <p:cNvPicPr/>
          <p:nvPr/>
        </p:nvPicPr>
        <p:blipFill>
          <a:blip r:embed="rId4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0F009-0DB1-471F-840A-A7C48D282F4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B1302-499E-4928-8EB8-56CF1AE7E9EE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87B3-F79D-4DD5-A851-7A028B5C7A08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E9FF-DB22-4252-8F5E-ECB2A756044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3D11A-EF3A-4F58-9A24-9ED233D4F31A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58B0-5A3E-482D-9642-E1DAC030CC8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barra-vermelha.png"/>
          <p:cNvPicPr/>
          <p:nvPr/>
        </p:nvPicPr>
        <p:blipFill>
          <a:blip r:embed="rId2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" descr="C:\Documents and Settings\Marcelo.Raimo\Desktop\pps\tarjas\tarja-vermelha.png"/>
          <p:cNvPicPr/>
          <p:nvPr/>
        </p:nvPicPr>
        <p:blipFill>
          <a:blip r:embed="rId3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D067-5D40-43B4-8CC1-90A481F6D86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50760" y="1521000"/>
            <a:ext cx="932508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ff5353">
              <a:alpha val="8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95280" y="1836720"/>
            <a:ext cx="69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arke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barra-vermelha.png"/>
          <p:cNvPicPr/>
          <p:nvPr/>
        </p:nvPicPr>
        <p:blipFill>
          <a:blip r:embed="rId1"/>
          <a:stretch/>
        </p:blipFill>
        <p:spPr>
          <a:xfrm>
            <a:off x="0" y="-120600"/>
            <a:ext cx="9144000" cy="1020600"/>
          </a:xfrm>
          <a:prstGeom prst="rect">
            <a:avLst/>
          </a:prstGeom>
          <a:ln w="0">
            <a:noFill/>
          </a:ln>
        </p:spPr>
      </p:pic>
      <p:sp>
        <p:nvSpPr>
          <p:cNvPr id="502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826920" y="1981080"/>
            <a:ext cx="79218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eta para a direita 7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cf21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Picture 2" descr="C:\Documents and Settings\Marcelo.Raimo\Desktop\pps\tarjas\tarja-vermelha.png"/>
          <p:cNvPicPr/>
          <p:nvPr/>
        </p:nvPicPr>
        <p:blipFill>
          <a:blip r:embed="rId2"/>
          <a:stretch/>
        </p:blipFill>
        <p:spPr>
          <a:xfrm>
            <a:off x="-127080" y="6402240"/>
            <a:ext cx="9325080" cy="1424160"/>
          </a:xfrm>
          <a:prstGeom prst="rect">
            <a:avLst/>
          </a:prstGeom>
          <a:ln w="0">
            <a:noFill/>
          </a:ln>
        </p:spPr>
      </p:pic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8:23Z</dcterms:created>
  <dc:creator>marcelo.raimo</dc:creator>
  <dc:description/>
  <dc:language>en-US</dc:language>
  <cp:lastModifiedBy>marcelo.raimo</cp:lastModifiedBy>
  <dcterms:modified xsi:type="dcterms:W3CDTF">2011-04-19T19:01:28Z</dcterms:modified>
  <cp:revision>4</cp:revision>
  <dc:subject/>
  <dc:title>Slide 1</dc:title>
</cp:coreProperties>
</file>