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D7C10-5915-4C4A-A509-D1268D5B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0C525-7E3D-4DA3-8140-10219FC7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DBB61-3677-4290-81AD-4E17DDD6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B2509-3A0A-41E1-8910-43F46EE9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A2BF1-630B-446A-AA02-0FF639B0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5950F-2D26-489D-B9FA-51BEBA9B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488A3-7537-4620-8137-DE8C749E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65ADD-2B98-420F-8236-DD2A6733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84AB3-3AA8-41BE-8135-78FEB9B02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B11FD-83AF-49BB-A164-FD9D4E07B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A7C38-BA67-4FE9-A104-FFE451B3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19AE6-D182-4610-8DF4-468A34CE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9F837-43CD-4278-94D8-AC9FD9B2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F3BDA-3B15-46C5-83B0-7F2740BF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C4438-B25C-4699-99BE-BF687485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C872E-4E17-409C-B082-9B64707F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49A7C-4E8A-4672-A09C-9223FD52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68F03-F446-47CE-9A0D-2F81CB74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BBBFB-37C9-4A62-81F7-E4507A2F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A0197-1B76-44CB-9DED-818D269D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53793-CF28-47DD-BC3F-3C2CD6799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B7E5D-D74E-4ABD-98BB-7C7D8877F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79286-16DD-44B4-B014-37712D14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48B18-16E1-4B63-91DE-8CEAAADC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6AABB-90B0-477F-9073-28F95D35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448A5-218F-45BF-BB2A-9DBB19DD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C7D90-DA2C-45F5-A4A1-BD89F196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31E73-7F4B-4B0C-B0B3-E7071A33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63440-020C-4A9A-A329-3C9125D8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2178A-C8AD-4563-9323-7AAF20C3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00CCA-D8EB-4818-BE65-5C1D47EF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D5A1A-E98E-4F9A-A1D7-F719E8C09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8EAC5-88EC-4FC3-BABF-B4C51577C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33099-546D-4947-8D9A-34AE7D2E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FBFFE-8D8A-40E0-9CF7-E9B1FA15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E3E99-5944-4059-ABC5-0E3AA994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C46A5-29B5-471A-8C9E-6E888CED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3EE6D-288E-4B4D-8130-9EBEF875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88B20-26E7-49C1-8CBB-D2743241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8D58D-365F-4E1C-BC0A-2E4B30D9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3C290-7A87-4453-945D-D9B52958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7ACC02-E116-4857-A266-69841A7C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01CDB-EE62-4DB3-B264-D0B649F5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D4FCE-CEDE-4299-8D7F-DEFD80D5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C10E1-C933-4507-BFE8-9239ECCFD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8420-F512-40DE-9F2F-01D706D3E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6A8B-A64D-4F58-8C18-582CBD43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B435-B2C3-49F9-B72E-9C20CEA3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2F3D-6573-4E93-8B90-DE805C97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1CD8-0E0A-40A2-A9F5-619999FE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0FFB-FA1E-456A-A148-D48B87A9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880C-335E-47DE-9811-9294DF96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BF7B-7D32-4AFD-9422-27CC6054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7535-B73E-49CF-B4E5-F4F22868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EF06-8D3A-4E60-A227-4C6E2A21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F2C3-075A-4EF4-AA08-299D72609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6FEC-6284-4338-A880-18D727E7E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E6FC-58D0-4932-AC8D-1531AD52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4998-45C4-477C-AF0E-1A975524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10E2-C1FE-4270-90EE-4B4BC1AE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788C-F801-46E6-8919-A024053B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656A-2392-49A3-8EC8-C13727BA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CEA6-1898-46D1-A497-8F3E03C0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2F14-3CF5-4DF5-B111-18A28F01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F205-7054-4B76-8A36-795DBB03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2E65-8CD2-4D6B-AFFE-498F517A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AF72-E59E-4F72-8A7B-2637118C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BA4A-98FA-41A9-8840-89DB0EF6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7280-069C-4812-A88D-808546B9C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058DA-CCCF-40F6-8C50-729DD9CF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0739B-BD9A-4CB5-BFB0-712AA08D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3933E-5843-453D-B505-EF7825C8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EC078-B0FA-4175-BA36-D63AEF9F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9984B-AF62-41CB-909A-7B0D149D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0973A-188A-4672-A4AF-C80B1FF8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C245E-A837-4DC2-A434-3F5970A7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31458-EA62-4B7F-BD8C-15308EE6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50DC7-3FBF-453F-979B-E984B0C1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5F2EB-6EBE-4D7B-A60B-A37DBA80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09252-9906-4EF7-B052-EC30314BF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13C01-2BC6-48D3-B90A-EAC248BE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E2BF9-05B4-48B9-AAB3-12C0A4ABC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3A6A1-1D46-4B59-BB39-36A7B6CB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E3515-1715-41E3-9B2A-564766A0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6E2A2-E870-4585-8C08-8F068FFE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42AB4-AE3B-402C-9C56-F0A6E860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4F0F0-9008-474B-A136-3B410FED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F5826-465D-42FC-A0F8-8A497C5D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09D06-4018-4C7A-88EC-D6D504A7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D78EC-54A9-4EAB-B4EA-974D9FFE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928C4-2FB9-4F0E-BD4C-AF42D64E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B8AD0-C795-41A2-90F3-203DA2928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16132-838D-46CA-9922-508E6248F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8F3AC-F22B-47A1-AE2F-4D3FBC25C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A1CF5-384B-46FF-8E36-11C11AE8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684DB-0138-477F-B117-0B2ACD20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9EFB8-BAF8-48F9-964C-CBC66DCF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E3F52-74C8-452B-A915-1B2DB4B5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6F42E-08FC-4203-B05C-12A53735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A9A26-74C0-4786-BAE8-723F304A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89027-C42D-4893-8203-5FB0AFCB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7FEE3-BE89-48C6-84D9-E3ED2411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A602A-C187-4F4F-8BDA-1E0069E7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8D25F-7847-430A-AF9E-44F3DBF5F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B9163-0BC7-48C5-9118-AEB66B02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FA777-7027-4D37-A4DA-2B8F0D27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2A83D-0435-4D48-8ED7-2DB45BFD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93A31-246F-457A-9FE6-CDDC95EC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62A8F-5DB0-4446-804C-F0BB76D9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6C429-4065-46B2-B86B-873B51AD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225A4-9698-49CB-96CD-208307AA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F1CFB-5EEC-48FA-B880-771DEFC3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566FF-3CDC-41CC-A44D-42E13A68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5A9F0-101F-4F28-B690-4682908B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26D96-2EF4-4CAD-BC62-289C84A8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54406-E37E-4F38-A654-A9805DE8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9E6B9-63EE-4928-8DA1-73311886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91862-4A2E-4777-97C9-25D8771F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A750E-4FD7-4943-8C03-930506F8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5352A-8024-4061-84FF-9EE0638E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C7C3-09F7-4DE3-9EC7-6E2BE63332E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D5F3-3EA0-4AE6-9519-CA1F2926AC5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568B-1C1E-4AF7-B637-BE2F010DA19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0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59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:\Documents and Settings\Marcelo.Raimo\Desktop\pps\tarjas\tarja-verde.png"/>
          <p:cNvPicPr/>
          <p:nvPr/>
        </p:nvPicPr>
        <p:blipFill>
          <a:blip r:embed="rId4"/>
          <a:stretch/>
        </p:blipFill>
        <p:spPr>
          <a:xfrm>
            <a:off x="0" y="1514520"/>
            <a:ext cx="914400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Retângulo 5"/>
          <p:cNvSpPr/>
          <p:nvPr/>
        </p:nvSpPr>
        <p:spPr>
          <a:xfrm>
            <a:off x="0" y="1773360"/>
            <a:ext cx="9144000" cy="792000"/>
          </a:xfrm>
          <a:prstGeom prst="rect">
            <a:avLst/>
          </a:prstGeom>
          <a:solidFill>
            <a:srgbClr val="46ce87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28D8-B9FF-4BB8-8137-4AA49801711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F65D-1B42-47C6-9B93-887CBCA6E28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01FD-2CDA-44F1-97FC-434BC29263D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F82C-19D3-4356-A9BC-5F27491FB58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64EF-D221-4EF2-A179-6B5500E4A96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007E-EFCE-4490-A5DC-0F69895E62B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56F2-0C40-4F9E-8F5C-8439973A5F5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59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0" descr="C:\Documents and Settings\Marcelo.Raimo\Desktop\pps\tarjas\tarja-verde.png"/>
          <p:cNvPicPr/>
          <p:nvPr/>
        </p:nvPicPr>
        <p:blipFill>
          <a:blip r:embed="rId1"/>
          <a:stretch/>
        </p:blipFill>
        <p:spPr>
          <a:xfrm>
            <a:off x="0" y="1514520"/>
            <a:ext cx="9144000" cy="1396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e1c11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tângulo 7"/>
          <p:cNvSpPr/>
          <p:nvPr/>
        </p:nvSpPr>
        <p:spPr>
          <a:xfrm>
            <a:off x="0" y="1773360"/>
            <a:ext cx="9144000" cy="792000"/>
          </a:xfrm>
          <a:prstGeom prst="rect">
            <a:avLst/>
          </a:prstGeom>
          <a:solidFill>
            <a:srgbClr val="46ce87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Gestão Ambi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-17136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8" descr="C:\Documents and Settings\Marcelo.Raimo\Desktop\pps\tarjas\barra-verde.png"/>
          <p:cNvPicPr/>
          <p:nvPr/>
        </p:nvPicPr>
        <p:blipFill>
          <a:blip r:embed="rId1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502" name="Elipse 3"/>
          <p:cNvSpPr/>
          <p:nvPr/>
        </p:nvSpPr>
        <p:spPr>
          <a:xfrm>
            <a:off x="6840360" y="826920"/>
            <a:ext cx="2303640" cy="23050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aixaDeTexto 4"/>
          <p:cNvSpPr/>
          <p:nvPr/>
        </p:nvSpPr>
        <p:spPr>
          <a:xfrm>
            <a:off x="7012080" y="145728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5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9" descr="C:\Documents and Settings\Marcelo.Raimo\Desktop\pps\imagens-estudos\palm.png"/>
          <p:cNvPicPr/>
          <p:nvPr/>
        </p:nvPicPr>
        <p:blipFill>
          <a:blip r:embed="rId2"/>
          <a:stretch/>
        </p:blipFill>
        <p:spPr>
          <a:xfrm>
            <a:off x="3780000" y="2500200"/>
            <a:ext cx="5364000" cy="40244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507" name="CaixaDeTexto 15"/>
          <p:cNvSpPr/>
          <p:nvPr/>
        </p:nvSpPr>
        <p:spPr>
          <a:xfrm>
            <a:off x="363600" y="1336680"/>
            <a:ext cx="61531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d0d0d"/>
                </a:solidFill>
                <a:latin typeface="Calibri"/>
              </a:rPr>
              <a:t>- Conjunto de partes que interagem entre si, integrando-se para atingir um objetivo ou resultad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d0d0d"/>
                </a:solidFill>
                <a:latin typeface="Calibri"/>
              </a:rPr>
              <a:t>- Partes interagentes e interdependentes  que conjuntamente formam um todo unitário com  determinados objetivos e que efetuam determinadas funções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8"/>
          <p:cNvSpPr/>
          <p:nvPr/>
        </p:nvSpPr>
        <p:spPr>
          <a:xfrm>
            <a:off x="144360" y="150840"/>
            <a:ext cx="86407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ffffff"/>
                </a:solidFill>
                <a:latin typeface="Calibri"/>
              </a:rPr>
              <a:t>- Conceitos genéricos de sistem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5"/>
          <p:cNvSpPr/>
          <p:nvPr/>
        </p:nvSpPr>
        <p:spPr>
          <a:xfrm>
            <a:off x="826920" y="2790720"/>
            <a:ext cx="5113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Economista escocês do século XVIII escreveu “A Riqueza das Nações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5"/>
          <p:cNvSpPr/>
          <p:nvPr/>
        </p:nvSpPr>
        <p:spPr>
          <a:xfrm>
            <a:off x="466560" y="28544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2:26Z</dcterms:created>
  <dc:creator>marcelo.raimo</dc:creator>
  <dc:description/>
  <dc:language>en-US</dc:language>
  <cp:lastModifiedBy>marcelo.raimo</cp:lastModifiedBy>
  <dcterms:modified xsi:type="dcterms:W3CDTF">2011-04-19T18:57:43Z</dcterms:modified>
  <cp:revision>2</cp:revision>
  <dc:subject/>
  <dc:title>Slide 1</dc:title>
</cp:coreProperties>
</file>