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6CE1A-6485-4F63-ADA1-E8766B11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C7756-4071-4EC6-B84C-CFFE30E9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904A7-49C3-4649-BE93-13D8FECA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AE276-F284-4C35-9F16-373415DE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F376E-313E-4EB6-9994-879D53DF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BEF52-A3D4-4BDA-9820-A4616265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6B5AC-4367-4638-8443-FD303A98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C6498-F8DF-4F5E-8E27-568C4D63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5B1B2-53F4-42EF-9149-49F34A06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2041D-CDE3-4855-AA8F-15AD358C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2DBD5-27D6-4CF0-9A73-6394462E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13118-7E6C-4517-8571-50A1C483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74F3E-2B8C-4F17-846D-0D999ABF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3F9E6-726A-432F-9C4A-59B75A1B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CD6EB-CEBF-49A0-A17C-BB8CB21B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0630A-9DD4-4E6B-BF61-B9C4B8E0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F41AD-D315-4A89-8430-3D848A73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CFD52-24EF-4CE0-BD51-E441DAC2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43A7F-EF2E-441F-927D-C05924F8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2646C-4A76-4F8E-9304-179E24C4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39E2C-7A01-4059-B587-CBB07AE2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731E6-D103-4353-8D6B-C2CCAF8C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71512-9DC3-43AC-8655-27F3C0F9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7A409-E362-4D2A-93CC-4952B082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EE6FB-01BF-4EF1-AF6E-3AC20B13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A58AC-8E25-4964-8977-36B74AD9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6CF16-2A0A-4883-89FD-1AD51F70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EEF1F-6746-48A1-BB40-D6E7EDAE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16F87-24F5-41DD-8BD5-9AFD5363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26B21-5361-4F2C-9562-97F46B58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596B4-F1BE-411B-B1DC-54D2E527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C944E-90A0-4DEC-904F-FD8FB848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FD308-B501-4447-BA4B-090CA3EF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F810C-3385-4A6C-9647-10634425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EBB4D-C524-4F0F-AD46-36CF9967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CC52E-ED51-43A6-AFAE-017FA181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4029A-1D8C-4019-82D6-662F9A3C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72FD6-6634-4AC2-8240-B17BCE29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4741B-4AD4-470F-A9D3-CF6D4C2D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BF397-594E-4B7D-9757-37FDF793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53DE4-7C6C-4737-9A0B-A40C34EC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56D5A-E009-4B4C-9CA9-A3CC65DE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BD6C1-49BA-45EF-AF36-9391D614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53379-8500-445F-A02A-F8950B6D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36F41-2CAE-43C9-B1F4-345E34AE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833-67C7-4FA8-8966-B4315251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A4C1-6964-46E3-B93F-51DE7221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6FAC-AF24-41E0-BE3D-8F615531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505-84F7-41AE-AFB1-47DADAE0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3A4-984E-49D5-98E6-2A5AD340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AC68-9DFF-4ADB-9920-88C0555D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BB9-AEF7-4287-8FCD-85656846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98F-F89B-4A0B-AE05-7E6E1A48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7655-8068-4026-863D-F61EF3D7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5AC4-BA74-4C25-9570-E4617D59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464-45CB-4155-98F4-DF4A9FDA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187-E746-440C-80B6-B0821295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0FD2-94C9-4149-9A0E-3E20B61F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DC23-4F97-479F-80BF-A4182FBE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B66C-9E17-4668-A060-56192DC2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E0C2-11F5-48C1-970C-38083B5F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5E9A-DFE9-425E-AFA1-5D8D195E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43D4-6EEC-423B-83F0-0C1B7F52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E7E7-76A4-4B2A-BA35-3E421AA2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A422-AC5D-4C8A-B2CD-0289E711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8CC6-B4AC-4F20-ABD8-1C408740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68B5-A5B5-48A0-A648-A4F1270C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7219-F52C-4567-8FD7-8D76373D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A077-A48C-4290-937D-A52AFD07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63658-F386-4EE8-9934-B7717DF0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5253B-A403-4852-8694-F3A1D7F3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40B08-A927-47B2-9377-D494E53D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BF604-944C-420D-80EF-05221308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A5747-854A-4F71-B220-72E35EDF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52484-4B3A-48DA-A794-5B46B17B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95BA5-923E-41F5-AF62-9DC23298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EDE33-8E6E-4CF2-BFF2-CB65F377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A333D-280E-4B46-B2D5-118770DA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28584-63F4-433C-815C-ACA7D002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029D3-8E2D-43B2-B9FD-2AF22BB4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4001C-E92F-46C0-846E-0C512CBB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34392-CAD4-411D-B2B1-7D4E6125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7779E-6639-4E95-967F-98A732D2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B6B2C-22CB-44BF-BFEB-AE0C7A04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19B60-8EC3-45DA-B460-3F1F8AC2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6206D-1852-42A2-804A-BE93E365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9C1FB-FB8B-4ADC-8A60-9FA3232D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8D637-7A56-4AC0-B451-4224EBE4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7DFC0-6A44-4856-B602-F051844E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873BF-1E53-4912-894B-79347F6D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DEB58-5B75-4439-813A-ED67208B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DBD27-C938-4416-8B5D-650157DF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51CDD-AB9E-4C34-9A9F-C2765521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426F9-0708-447A-938A-9E771E74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6D022-DA4D-4CC7-BB89-0A5623B8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6B5A1-AFA8-4B48-AE98-5DDE5678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35478-F649-4443-92B8-7A870903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FB44A-5F75-4C3C-85B8-1930CF2B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D3B57-9DF6-4C7F-B96E-9F3A4AEB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5F07C-9AC8-4829-85FA-D05D61CD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2ED54-7F83-4140-8DBA-0BD0C626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6BB5D-448F-42F6-9DA9-E1B299A4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A2EAA-328E-44BD-930E-9209E985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7BC7E-BC6E-4652-BCD4-69A19511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D36F1-FABA-4BD7-A93C-B7D71DCC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2A25B-8A93-4C24-B4FC-68644D43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484A9-46BB-48A0-B6A3-5D5AD599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2826A-2BCD-4F07-8664-DFCC155F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6F5DA-F175-4756-9491-FDA09958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EF71E-0866-4BFB-9B47-13DFBD58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A94CB-56C9-4619-84CF-F20CDD44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A625D-94B5-4F9A-9B6A-899B982A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BDC0D-E4AE-43D6-94A3-E8A4D8C5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CCECD-4667-4B60-8538-3569324D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457DA-E5E9-4EDF-B2E3-016299F1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ECE7D-956E-42B0-935F-9313C14D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95042-C934-4024-BE2B-B672C605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745E5-3559-45B2-9F77-4B0D5D86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78259-3CB5-45EE-8734-C4213CDB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76C4F-7C14-445C-B9BC-BA6D2010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AB11-08A9-465C-8949-44A9E0CC5AF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C818-89B7-41C7-B7F7-B352112573E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B133-E8A8-45FE-AB1C-5BAC45725BA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:\Documents and Settings\Marcelo.Raimo\Desktop\pps\tarjas\tarja-verde.png"/>
          <p:cNvPicPr/>
          <p:nvPr/>
        </p:nvPicPr>
        <p:blipFill>
          <a:blip r:embed="rId4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37E5-0C22-45A3-AB7E-81FD899EB28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7E20-20D1-4BA3-9816-7319D22399F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CDF6-04AF-4BAC-B92E-EFE9EE8A677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8C76-62F8-457E-B7DF-A1E42CC675E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F0E7-0AC6-4826-9BA5-C4AE3B35A93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DAE2-5E8A-411B-AE12-6A52FF42AAE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E0D2-C885-4A0A-8C1C-E08421853A2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C:\Documents and Settings\Marcelo.Raimo\Desktop\pps\tarjas\tarja-verde.png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e1c11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7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Gestão Amb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-17136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8" descr="C:\Documents and Settings\Marcelo.Raimo\Desktop\pps\tarjas\barra-verde.png"/>
          <p:cNvPicPr/>
          <p:nvPr/>
        </p:nvPicPr>
        <p:blipFill>
          <a:blip r:embed="rId1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502" name="Elipse 3"/>
          <p:cNvSpPr/>
          <p:nvPr/>
        </p:nvSpPr>
        <p:spPr>
          <a:xfrm>
            <a:off x="6840360" y="826920"/>
            <a:ext cx="2303640" cy="23050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4"/>
          <p:cNvSpPr/>
          <p:nvPr/>
        </p:nvSpPr>
        <p:spPr>
          <a:xfrm>
            <a:off x="7012080" y="145728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5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9" descr="C:\Documents and Settings\Marcelo.Raimo\Desktop\pps\imagens-estudos\palm.png"/>
          <p:cNvPicPr/>
          <p:nvPr/>
        </p:nvPicPr>
        <p:blipFill>
          <a:blip r:embed="rId2"/>
          <a:stretch/>
        </p:blipFill>
        <p:spPr>
          <a:xfrm>
            <a:off x="3780000" y="2500200"/>
            <a:ext cx="5364000" cy="4024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507" name="CaixaDeTexto 15"/>
          <p:cNvSpPr/>
          <p:nvPr/>
        </p:nvSpPr>
        <p:spPr>
          <a:xfrm>
            <a:off x="363600" y="1336680"/>
            <a:ext cx="6153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d0d0d"/>
                </a:solidFill>
                <a:latin typeface="Calibri"/>
              </a:rPr>
              <a:t>- Conjunto de partes que interagem entre si, integrando-se para atingir um objetivo ou resultad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d0d0d"/>
                </a:solidFill>
                <a:latin typeface="Calibri"/>
              </a:rPr>
              <a:t>- Partes interagentes e interdependentes  que conjuntamente formam um todo unitário com  determinados objetivos e que efetuam determinadas funções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8"/>
          <p:cNvSpPr/>
          <p:nvPr/>
        </p:nvSpPr>
        <p:spPr>
          <a:xfrm>
            <a:off x="144360" y="150840"/>
            <a:ext cx="864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ffffff"/>
                </a:solidFill>
                <a:latin typeface="Calibri"/>
              </a:rPr>
              <a:t>- Conceitos genéricos de sistem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5"/>
          <p:cNvSpPr/>
          <p:nvPr/>
        </p:nvSpPr>
        <p:spPr>
          <a:xfrm>
            <a:off x="826920" y="2790720"/>
            <a:ext cx="511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conomista escocês do século XVIII escreveu “A Riqueza das Naçõe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5"/>
          <p:cNvSpPr/>
          <p:nvPr/>
        </p:nvSpPr>
        <p:spPr>
          <a:xfrm>
            <a:off x="466560" y="28544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2:26Z</dcterms:created>
  <dc:creator>marcelo.raimo</dc:creator>
  <dc:description/>
  <dc:language>en-US</dc:language>
  <cp:lastModifiedBy>marcelo.raimo</cp:lastModifiedBy>
  <dcterms:modified xsi:type="dcterms:W3CDTF">2011-04-19T18:57:43Z</dcterms:modified>
  <cp:revision>2</cp:revision>
  <dc:subject/>
  <dc:title>Slide 1</dc:title>
</cp:coreProperties>
</file>