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B4035-B84A-43D7-8DCD-6B32CBEF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C9009-0FC6-412D-A8A3-2BCE1610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D962C-0752-419D-A046-3C70D86C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AED75-8C6F-4AB7-BB59-3FD2CD36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71FC2-1E5E-4F2B-AE52-83AD0A96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BFECB-A667-4FB3-93E2-0BD6D52C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7AAA3-DB0E-4422-81CD-77DAB9E3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BAB3B-4D4E-439A-BFA9-62D89C1A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148CC-5546-4041-AD73-A89C0263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AFB00-B2AA-40ED-84F4-FD06D252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97176-2DEF-482C-B809-7904CB35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540DF-E9F2-48AF-BAB9-BC066CAC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D1507-AC9D-4D7A-9857-E8FE05FD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70576-F4F6-418D-BE99-6AF0F0CB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C0711-71A0-40C7-B7C1-ADC9BFCB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CBFD7-E9F5-414D-BBF2-8673DF73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305BE-7B7C-4916-96A5-84FE9B82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94B45-4828-4AAE-8B7B-DA5AC785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A7A53-A602-4304-91F7-C9B0E90D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ED27B-0F9F-40B1-B185-93A5A35E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5BB8F-FE85-402C-85A3-716BFABD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2E59A-60E1-4379-9AFC-F853894F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6B2EA-0947-4175-9EE7-6E637CA5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E44F1-5A9B-4AEA-8D8F-65814714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FFD21-E060-4F75-A7D5-2E5DD786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67D98-DFCF-4120-9931-DDFCC897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175BA-B161-4D34-AAD4-0D93550C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9B92F-EF88-4DA6-8D27-6311F39D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0A869-AC54-4DE9-8D9C-106773F9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39CA6-8045-4DE0-977C-BCACDFD9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84384-B326-46B1-B843-A09EEDBE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5DA0D-7ADB-4569-A238-C72EDFE7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B6E2D-481C-4694-AB32-F7549100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8BF78-6998-46F0-A2CB-C3BBDFC6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BAEC0-3540-4FB6-9A71-93F5C8F1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112B9-1919-4DDB-A55D-711E0A50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F8890-C57C-40DF-BC26-EBB3E71C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0BCBE-5109-4041-A7D8-18B15E53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7536E-3F5A-4D92-A05C-DF557946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E961D-165E-4895-8DDA-473593B4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B5F1D-4B20-4131-AF22-EAB0BAD2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56E30-507A-4BAE-9BC5-4025F73E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DF9E6-A24F-4CD4-A85C-96B2AA3F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C4C18-83C6-49E5-AF18-923AB8F8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6DC11-1165-41AA-AF50-F058A8D7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46AD-6F06-4CD7-B15E-A88A54AD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8E2-E091-46B1-B633-CEEA17D8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4D26-648B-461B-B28B-4A95B102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D63-617B-4CF4-92C6-A3410FFB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2DA-17BD-4EAD-9835-0ECE84E1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E45-08C0-4BF5-8C1B-80A97F5A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DF4-F9C5-4EFE-B06E-B09CD7DB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EDE4-6A56-4EBB-B769-2AAB1E3F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04FE-3ADF-49D4-A384-4F45F396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A0DD-EBC3-407E-9D39-2A5C5134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629B-1079-42B0-A32A-3BCE0AA8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27D-0880-4F42-9B7B-80CF8744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42A8-59C0-4AB1-8E6D-C2E9E77F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3723-87DA-4247-AC06-E301DAF5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B092-84A2-4C96-B740-68A7F748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1086-BC7B-4884-BAC7-8C5AD963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57A0-6DAB-4F09-833B-35590584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C96C-5FEE-4B07-991E-D5DDC1DE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EACD-4B64-42C7-84E2-22FA5753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595B-EEA8-410B-B704-5AD720FA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DF76-841A-4A56-8268-4E62746D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E21B-5F6F-4D49-B650-65428D96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4E85-57C0-439D-ACA5-D6DAC181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1ECD-078B-4F3C-B35D-BE48BB28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9DED8-4D71-4913-9D42-73E7D161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18AC8-E38F-4DEA-8294-5476523E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E674C-8CC3-4800-8DB5-326B108D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22194-810B-48C0-ABAE-B319DF0E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1954D-55FC-41D8-86C9-6433A1F7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E806D-B08A-4C80-977A-E63026A2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67401-90A5-464B-A918-EA0FCADF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1892E-7452-4D3F-9A05-F0CB281D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CF07A-9D9D-44FD-BF67-C953BB9B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9DE18-3F3E-44D6-B8BB-C3EB3ECB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77FF3-7117-4913-9EDF-CE2B6C65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B27B8-60DC-447C-B22A-C014A545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AF5FA-73EB-463B-91C4-F62D6061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7B36B-8FD0-42C3-8FF7-53CDB9E3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FF550-1878-41BC-83C7-59E0516D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D7413-B977-4AD7-B14C-C1026825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A5605-E8BC-40B6-A9FC-E64F04B1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9A69E-C9CF-44C1-92F0-4B54A849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E4C28-DEA5-4700-9CD1-D2C0C968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61405-D1EF-4352-9C8E-EC7415AB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FE2B9-7769-449F-A45C-375792A8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BC191-ACE6-46B6-9DA5-70E093F2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6ADAF-C925-4E4C-ABEF-0A1383C3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EDBEB-18DC-4D9A-AD08-FD6E5AF0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C0976-0115-466B-BC7D-A036217D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C7A0D-C20F-430D-A09C-798ED255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2D5AD-CB22-4484-A042-11322816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743B5-41C4-4532-9B93-B81C7A3C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3BCDC-0C5C-498A-9007-0C9634F2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6FA5D-218E-49B8-BFEF-1F15928A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D960F-0113-4703-933D-ACBAFF0A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DE802-B7B6-42A4-BF0A-BD714B04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91A00-697B-4A0E-8A2B-E235CA0E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794F2-C980-4509-881F-0C20C12E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3804E-8046-4A61-9950-028E23E4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F1D88-DFB2-4C71-8D81-17FB5316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01A90-5EEA-411C-A614-0F7D6523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ED733-FF2E-454E-8530-A3823979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9B9A7-0EA1-4B74-A365-718D04D5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47D66-5F0A-48BC-BCF4-3E0083B6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7AB52-9D34-4904-9584-DF90A1BA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126FD-92E5-4E17-AEF2-9D7A03EA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EDFD2-172E-46C3-914E-9616B4CC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40398-1AB0-49FD-932E-BA9CF1DF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9D22F-877D-4F6D-A3D2-531A41D7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C00AC-09A5-49B2-AFC3-30EAC112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2A332-518B-492B-A20D-493EAFC0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B09EC-630C-4312-A5BA-50098C20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3D12E-8F75-4192-9E1D-645EF215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2E77F-75BD-4A85-9CA2-E9769A26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DA0DC-D54E-4BD0-8F16-3081FE67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7FB6-9ECE-473D-9517-20A518792EB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C16F-BC89-47AA-B2DA-469230FBFAB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DAB0-C1C0-42F6-B91F-F500D143ABD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:\Documents and Settings\Marcelo.Raimo\Desktop\pps\tarjas\tarja-verde.png"/>
          <p:cNvPicPr/>
          <p:nvPr/>
        </p:nvPicPr>
        <p:blipFill>
          <a:blip r:embed="rId4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15AA-ED1F-47E0-AF62-D5962E5DC8B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FDD6-7C2A-422C-B57F-DCC71F39D18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6BEF-2A62-4E5D-9D45-8C2214BE89B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D67B-09B2-4BDC-8084-9EB1126BB92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2155-8493-4089-AA42-A938FD4B537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1598-2CD6-4A8F-88B2-7E29029D428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9319-BBE4-4F95-A8BA-D1F4BB92CF6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C:\Documents and Settings\Marcelo.Raimo\Desktop\pps\tarjas\tarja-verde.png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e1c11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7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Gestão Amb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-17136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8" descr="C:\Documents and Settings\Marcelo.Raimo\Desktop\pps\tarjas\barra-verde.png"/>
          <p:cNvPicPr/>
          <p:nvPr/>
        </p:nvPicPr>
        <p:blipFill>
          <a:blip r:embed="rId1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502" name="Elipse 3"/>
          <p:cNvSpPr/>
          <p:nvPr/>
        </p:nvSpPr>
        <p:spPr>
          <a:xfrm>
            <a:off x="6840360" y="826920"/>
            <a:ext cx="2303640" cy="23050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4"/>
          <p:cNvSpPr/>
          <p:nvPr/>
        </p:nvSpPr>
        <p:spPr>
          <a:xfrm>
            <a:off x="7012080" y="145728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5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9" descr="C:\Documents and Settings\Marcelo.Raimo\Desktop\pps\imagens-estudos\palm.png"/>
          <p:cNvPicPr/>
          <p:nvPr/>
        </p:nvPicPr>
        <p:blipFill>
          <a:blip r:embed="rId2"/>
          <a:stretch/>
        </p:blipFill>
        <p:spPr>
          <a:xfrm>
            <a:off x="3780000" y="2500200"/>
            <a:ext cx="5364000" cy="4024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507" name="CaixaDeTexto 15"/>
          <p:cNvSpPr/>
          <p:nvPr/>
        </p:nvSpPr>
        <p:spPr>
          <a:xfrm>
            <a:off x="363600" y="1336680"/>
            <a:ext cx="6153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d0d0d"/>
                </a:solidFill>
                <a:latin typeface="Calibri"/>
              </a:rPr>
              <a:t>- Conjunto de partes que interagem entre si, integrando-se para atingir um objetivo ou resultad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d0d0d"/>
                </a:solidFill>
                <a:latin typeface="Calibri"/>
              </a:rPr>
              <a:t>- Partes interagentes e interdependentes  que conjuntamente formam um todo unitário com  determinados objetivos e que efetuam determinadas funções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8"/>
          <p:cNvSpPr/>
          <p:nvPr/>
        </p:nvSpPr>
        <p:spPr>
          <a:xfrm>
            <a:off x="144360" y="150840"/>
            <a:ext cx="8640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ffffff"/>
                </a:solidFill>
                <a:latin typeface="Calibri"/>
              </a:rPr>
              <a:t>- Conceitos genéricos de sistem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5"/>
          <p:cNvSpPr/>
          <p:nvPr/>
        </p:nvSpPr>
        <p:spPr>
          <a:xfrm>
            <a:off x="826920" y="2790720"/>
            <a:ext cx="511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conomista escocês do século XVIII escreveu “A Riqueza das Naçõe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5"/>
          <p:cNvSpPr/>
          <p:nvPr/>
        </p:nvSpPr>
        <p:spPr>
          <a:xfrm>
            <a:off x="466560" y="28544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2:26Z</dcterms:created>
  <dc:creator>marcelo.raimo</dc:creator>
  <dc:description/>
  <dc:language>en-US</dc:language>
  <cp:lastModifiedBy>marcelo.raimo</cp:lastModifiedBy>
  <dcterms:modified xsi:type="dcterms:W3CDTF">2011-04-19T18:57:43Z</dcterms:modified>
  <cp:revision>2</cp:revision>
  <dc:subject/>
  <dc:title>Slide 1</dc:title>
</cp:coreProperties>
</file>