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3F22D-C78D-4024-A95D-F0197132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0BDA2-C8A4-4D86-BD93-08C71253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5FB08-ACA6-4B60-89A6-22A8B266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547C1-1F75-486B-82B9-3BF5EB91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63073-D9DD-4C24-8B36-EF8B2E57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6BEE4-1880-41E2-9B05-3F1720D2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AC422-A130-4964-B202-D35F7889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3D98D-2F9F-430B-A26E-536AEBA4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BBBAF-65EF-4B0B-9821-30CC75D4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55231-44DF-4742-8973-613CCE63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BAEE3-5D40-45B8-89C6-1AF5225A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857C5-7F67-4FA9-8AF5-8AFC849E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BCA9D-E300-41EC-8CA8-C16C7616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38C9D-CF58-4079-A280-B0EF2A57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8973C-C268-457E-8C9E-137B8301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D6966-9E0A-47D3-8F53-5091FE7E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E5D87-8302-409F-ABC8-C7B83E64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05ADD-D809-4E61-A55A-DA36E81F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0C2F5-B7FD-4AE8-AF83-8F320DDB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D6FF8-C81B-4EB2-9C09-920E2FA1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C6F3A-D265-4B76-A6A9-E37FC84A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2F6B1-11F5-4668-9BBC-008B748B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6B58C-1BD9-4CC7-A818-255AC269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0A197-8739-4CEE-BF3E-B4C5758E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911BF-E82F-486B-80FB-3FDCC74C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564B8-F494-4A4A-970F-614A773A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86548-163B-44E5-ACE8-72C4E7EE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3598D-D034-4078-9324-6D9B570C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0B482-E1BC-4BDB-AE6F-43F6B795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AD326-9344-42C3-855C-9A749230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BBCDD-0A1F-49FF-AFBC-8EDFFC68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227B0-7B53-44C3-9EEB-3F5EC58A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4F1D5-1059-4F33-8123-C2542DD8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E5313-DE1E-4547-8361-4A7C5031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EE6AC-F0C2-4783-8751-56C0FEC1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CF2F4-14D9-4541-A2FE-21FC1AE7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AF805-3E58-4A8F-9D0A-94C31FEB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E0872-133F-4692-8961-2CFE0005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5C00C-9959-45CA-A52F-19DD5D80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CE8EA-551F-4A78-87F0-4C547266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B8E04-4F14-4392-92C5-BDA000F7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9C607-3D44-4CD7-A167-08997058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D4130-C31F-475B-AC54-3AA13913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AAF5D-6966-4003-A8AC-1F9D5101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6DD09-266B-4769-BD19-4FF3E39A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E17-81B5-47BE-86D5-0373AA3C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801-80C7-4056-A004-7519E735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CF4-9F9A-4B50-B056-6BF24080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2C0-3086-4D02-BBC4-46E14799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293-40B1-42DA-B9E6-9679A87C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0B7-F708-4441-9FB7-DEC072D5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4A6-0AA0-40C3-9313-3211E748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E75-BA79-4994-9224-B7C0EFA8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379-A4B7-4AF0-BD04-86EB904F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53EB-E92F-4A42-927D-78736C10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FBD-5715-4064-AD02-8592287E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EA9-3117-4719-8C3E-30E5BB0F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4C9A-EC59-4FDE-AA57-37AF86DA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B543-CD5C-4E34-A5A4-71EE36CD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25B7-DAE0-458D-8332-FD5EB8FC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65F4-1E40-4167-B591-3EB6CDBB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1B7A-043C-4EFE-89F5-9CCB13E1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B93B-3462-49CD-94DA-86D2928D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A244-8EAA-4B83-A5BB-347AE420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EF09-C541-4BC8-9FC5-F0DA0D63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8A6F-9049-469F-B82F-8B4B002F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EEF3-F754-408E-AAAB-C2342BC1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0884-CB20-4C95-B96A-E3E40E1E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CC83-575A-4634-A58A-671893D6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9B91-7158-49AB-A55A-B4468139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76062-21ED-4B59-AB6E-9EF0A10C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E8A4-D191-4F2C-8312-1B9DD7DB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7585-0021-49FB-8A9B-0D8C047A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D791C-00B3-4D9A-8259-835B8AC7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F2A29-FC72-4342-8AD7-E0BEA60D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7F482-83B2-4FAF-A302-955E79B9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1BC6-BA84-4E68-B117-9947029D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1EBE-8A52-494A-A743-7D0252AE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D409B-275E-402F-8D87-6104406B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A3FFF-9033-47AE-A51E-F8E88EBA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94FB9-E6C6-4CF8-84E5-462DE031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284DE-C36B-455C-ADB0-6872556D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6FB9C-1DB1-4476-9244-DBF30579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D25E7-7503-4DAA-9AEB-006C20D8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37C21-563A-45DE-B175-D75348F6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3BC1D-7F85-403F-B8D0-874DBCE5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5AFA5-8B3A-4589-94A0-885B3EE1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79FFD-B8F7-47CB-A800-D2F4A744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FAC10-7CF9-4A2E-8C08-47991FA0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2032-01D5-44EE-8EFB-6E850C9A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EE88-7602-4F8B-8A86-95AF6594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877F7-DC97-4A81-8877-0CBBA36F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89ABC-FB01-4C87-A6DB-1EFBABFD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C365A-B1E6-4A0D-928D-921E1ADB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A46B9-0325-4884-8799-F558AD68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29041-ABE0-4F5D-AE8E-BBE9B044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6EA39-125B-4554-BE84-BF25F942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9BFE7-761D-4CBD-B6DC-BEF017A8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B6824-9ADA-4CE2-A2A9-C40FD6A8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DCD95-59F1-4AE8-A732-71FCC1BE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2835C-C5D1-4E01-9FEF-0AB26BB9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7B2A7-DCD1-449B-B87C-B5D276ED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26539-8E88-4CA7-8437-C8AB2B0F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9A49C-6F0B-4C66-8623-3A669F56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7E452-7C0E-4619-9127-C6DE7117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95CA5-3F80-4A78-9F19-E28D70C4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3B1F0-0FAB-46A5-8755-45AACF97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53D8A-1B0F-4808-872B-C3A723BC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19EB8-77F1-465E-88C7-8306CEC0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2C235-7F00-4916-9DC3-B3D2EC62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56746-0C4C-45A0-8A6E-CC701D7B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43129-7FF1-43D4-9448-74790960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B5FE6-78F9-426C-AF7E-4B1113B0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5B008-5358-45D4-809F-0E9C7361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7691C-954E-465D-937F-E5C01CE9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D9B1D-B915-482B-A1A2-ACACF6A6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A0221-9A67-4F87-88B1-18EDE8E9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C5537-F9E5-4F0F-B5D3-1B2182A0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0E2FD-CEE0-4BDB-A0D8-FECFE369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8461F-912C-4517-8DB8-881CA7D5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B8E2-0CC2-4663-AE62-0E17AFDFC50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47E2-0D2A-44C1-A7AC-A560A4DF83B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0667-BFA5-4C97-A658-4F3D34342FE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:\Documents and Settings\Marcelo.Raimo\Desktop\pps\tarjas\tarja-verde.png"/>
          <p:cNvPicPr/>
          <p:nvPr/>
        </p:nvPicPr>
        <p:blipFill>
          <a:blip r:embed="rId4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F955-AE27-4489-AE8F-01E414DA3BC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D4A3-6629-4E18-915B-2D1B3E3BD7D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CC09-A494-45E0-85F4-23783E2E11D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1721-CDB6-4DEE-B7B6-6F9EFDB5633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5B53-722E-4DD6-A4F9-1A3C15A4F80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06E1-2AF7-4FAA-BE07-FC794EF05DD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685A-ED37-48DD-B6CA-4FA2CBAB5FF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C:\Documents and Settings\Marcelo.Raimo\Desktop\pps\tarjas\tarja-verde.pn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e1c11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7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Gestã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-17136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C:\Documents and Settings\Marcelo.Raimo\Desktop\pps\tarjas\barra-verde.png"/>
          <p:cNvPicPr/>
          <p:nvPr/>
        </p:nvPicPr>
        <p:blipFill>
          <a:blip r:embed="rId1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02" name="Elipse 3"/>
          <p:cNvSpPr/>
          <p:nvPr/>
        </p:nvSpPr>
        <p:spPr>
          <a:xfrm>
            <a:off x="6840360" y="826920"/>
            <a:ext cx="2303640" cy="230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7012080" y="1457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5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9" descr="C:\Documents and Settings\Marcelo.Raimo\Desktop\pps\imagens-estudos\palm.png"/>
          <p:cNvPicPr/>
          <p:nvPr/>
        </p:nvPicPr>
        <p:blipFill>
          <a:blip r:embed="rId2"/>
          <a:stretch/>
        </p:blipFill>
        <p:spPr>
          <a:xfrm>
            <a:off x="3780000" y="2500200"/>
            <a:ext cx="5364000" cy="4024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507" name="CaixaDeTexto 15"/>
          <p:cNvSpPr/>
          <p:nvPr/>
        </p:nvSpPr>
        <p:spPr>
          <a:xfrm>
            <a:off x="363600" y="1336680"/>
            <a:ext cx="615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- Conjunto de partes que interagem entre si, integrando-se para atingir um objetivo ou resulta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d0d0d"/>
                </a:solidFill>
                <a:latin typeface="Calibri"/>
              </a:rPr>
              <a:t>- Partes interagentes e interdependentes  que conjuntamente formam um todo unitário com  determinados objetivos e que efetuam determinadas funçõe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8"/>
          <p:cNvSpPr/>
          <p:nvPr/>
        </p:nvSpPr>
        <p:spPr>
          <a:xfrm>
            <a:off x="144360" y="150840"/>
            <a:ext cx="864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ff"/>
                </a:solidFill>
                <a:latin typeface="Calibri"/>
              </a:rPr>
              <a:t>- Conceitos genéricos de sist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5"/>
          <p:cNvSpPr/>
          <p:nvPr/>
        </p:nvSpPr>
        <p:spPr>
          <a:xfrm>
            <a:off x="826920" y="2790720"/>
            <a:ext cx="51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conomista escocês do século XVIII escreveu “A Riqueza das Naçõe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5"/>
          <p:cNvSpPr/>
          <p:nvPr/>
        </p:nvSpPr>
        <p:spPr>
          <a:xfrm>
            <a:off x="466560" y="2854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2:26Z</dcterms:created>
  <dc:creator>marcelo.raimo</dc:creator>
  <dc:description/>
  <dc:language>en-US</dc:language>
  <cp:lastModifiedBy>marcelo.raimo</cp:lastModifiedBy>
  <dcterms:modified xsi:type="dcterms:W3CDTF">2011-04-19T18:57:43Z</dcterms:modified>
  <cp:revision>2</cp:revision>
  <dc:subject/>
  <dc:title>Slide 1</dc:title>
</cp:coreProperties>
</file>