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1D047-5B5D-46BA-90D3-8D414FEE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B3AF5-E0FC-4DF4-9D7B-0398F6AE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0509D-FEDD-4B43-AB2F-6F6646A4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57AAE-178B-4CF6-AE0B-F070DC74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A836F-6669-4475-A195-458C06DF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4BE99-4FFC-4B00-8F68-0C638F35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DF309-94F6-4B3B-91A4-F4665A2E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128A6-BA23-4658-9DC8-1A479222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30AC9-F447-413F-A83E-05A06CC7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06C05-4526-45DF-8401-DABA9A13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F733C-AD3A-42C7-B434-7D5F1A93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5D0FD-A95A-476F-802E-EA41791C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16E49-A99C-493B-A162-F024C189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23C67-C938-422A-8080-CF13E063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03D27-E110-4025-91C6-D533AE88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49F16-297F-4DD7-B2B5-56A388E4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D3C95-5828-4F09-8E21-D0CF4EC3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C6A67-701D-41B8-B6F6-34A0D1D0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746E1-8D30-4845-976B-2E85AE99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EBA07-BB25-42A5-A536-83117C50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038C3-8063-4370-8FCB-5BB4681F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46F7A-3256-47E7-8EC6-E9DF1E65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5D0CB-3155-437C-80F2-921D100F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7C92B-3125-4B1E-B974-BEC7068B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1DD31-0484-4A67-A1B0-92BBB192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30353-A359-416F-AFEC-DBBAABCF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78F35-81B4-45C8-BE94-69C65FEE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A3ADC-2665-4C1C-9442-AD6CE61A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1A0A8-02CC-40E5-81DA-B89A5397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5C057-94B8-4CA5-AD42-48DD6C63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DBC02-31EE-457D-98EE-9AB5DF68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422C9-3CC9-47A3-8184-1786F15A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A1F6D-D47F-4E90-85C3-B57CE622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1912D-804D-47CA-8F66-8C894D9C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69D62-3178-4CAA-B44E-71E87B36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2CC82-D8A2-4C35-92F2-B2085AB2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E8F92-6666-4B5B-82B6-80F7ADAA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4B50D-6446-498C-9B03-7BFD878C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24354-D0A0-4FE0-AC8C-B821C2EB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2894F-0A54-4F9E-95DA-A071FF54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A9C95-80AB-429E-9196-5332E87B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34CC9-AEC0-46F6-B7C0-B470F5B1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2B626-2159-4C87-95EA-9780D5C0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02FBB-BADC-4020-9E36-02AB7F0D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CE895-0097-4731-81BC-6B95FAC9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1CB-AB2D-4ED6-94CA-BA60FEFF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B34-6080-4425-A882-292EA8E9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61D1-96BF-4146-8510-A95821F9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BAA-9337-40DA-886A-54A12F08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5BD-B84C-4D4B-8F7B-C744B09B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AE0-B349-467E-B18E-C50D126B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07D-7741-4848-85FF-96E36B09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47A-8193-4C5B-A336-DA5602D0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4C8-1977-45F7-B6E2-C3B569CC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261-D522-4065-B1E2-FFDA5B02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8C4-F263-4F2A-B59E-12AE48EA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988-F900-4CD4-A169-15DDAC2F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6AE0-2A09-4566-8849-C4DC0AB6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C8B8-5707-4C88-B419-DA9DDB46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0F6A-2BAA-4B25-A519-102FF2D0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97F0-E01A-4F2C-9CAF-8C754ED9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11D4-1C0F-4B56-991A-FDC3B39E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BE23-F246-4DF5-AE90-DDAFBFF4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69CB-3631-483E-A732-C81E60F6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8090-911A-4FF0-91C8-CA7A4643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2BC4-AC86-4907-A97A-4ACA474F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87E5-D595-448A-B4EE-1EE85536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86DF-6E41-4AA6-ABF5-E3E58601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3F9C-A3B0-461E-A5B6-98FB8011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59682-0366-4C56-B421-84C2AADE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A4529-8CEC-4249-A9DA-94D6F6EB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9C99C-9F07-4025-8541-B6062CB6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CFA96-DB60-4164-9D55-A2D45443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33D39-4111-4530-BB43-6C01D6B3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2203C-13B3-409F-A453-EC4F745A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CEC5-8D4D-4FA3-9F62-E189FB9B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2BD5-FF54-49F0-8415-8BCCFEC5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41102-BA3D-4594-AFD9-6193613A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6B63E-F8DF-41B2-B6CE-C78DFADC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D1CC6-2588-4045-8083-B55BBEB1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2B850-6CEA-4437-899E-EDEB7DB9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4A1CB-C208-467B-8A61-29D4BA1F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5DDEB-5EEE-4CB4-A9DC-A8FB9963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81B1E-3F91-4BC5-9CD6-9113E596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52971-30B7-48A9-AF40-155170CC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79310-D8FD-4DFF-961E-930D82CE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D842F-B8EC-4615-9D89-3586E834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C7D9F-3774-4A9C-9BC5-C0C06267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A56E0-BAA2-4529-9276-D32BE6C9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0715A-7D52-4C5C-B202-6C4CF9C9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8D3E0-C87F-4059-B618-D70BD571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077CC-5FD2-41D7-8427-1304B6C7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42F29-F947-42F5-AC16-E2F05AC6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B5199-6DB0-4B81-A25A-AD3670E4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EACF3-06A4-4420-87C2-5FD26D0E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573E0-6047-4C3D-973C-4202713C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EC9A6-457D-42D4-8CDC-8F94FF2C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BA0F2-9D15-462E-8682-48BE6DB3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4852C-0555-4BE6-93B8-028C248C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3F3FF-B3DA-4AB5-8A0B-EDE71324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39DC9-014F-469F-9F7E-E09A923E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9D13C-9973-43EA-A2E2-5063D3ED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25FDA-AA61-47B0-BA6C-9D1946B9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2DEE2-398E-49C7-888A-429EF582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69540-2F90-4937-ABE9-8E68EE55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20767-E96F-4D2E-A612-065E6782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6D032-DBDE-4525-AFD8-FA2F0A1A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2BE2F-E910-45B5-8035-7B79D23E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AE725-3978-4705-89F5-BE1A41DF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C6E49-24F3-4132-9D06-8916B5C8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9C9FB-48D3-4A2A-98DF-32F72E6C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79C7F-97E5-4D32-A03C-E5CCA634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53C65-385D-489E-9A05-7066898A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76418-F5F2-4284-A78D-E7144DD0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CEAC6-2D4E-4113-B89D-6C19193A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7C0F3-D479-4C81-8271-BCDF46C0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6F964-A46C-4AA3-9E54-D79A66B8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48CEB-0129-4AF6-8108-54D8A506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29F10-C694-48D0-9236-5B9E3274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24C34-9F97-49EA-AADA-A912260C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9230-264E-4381-BBC3-71436B67246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94C7-D928-4847-8B74-F009933BBF9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C865-9A1B-44D9-91DF-D28BE6E32D5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:\Documents and Settings\Marcelo.Raimo\Desktop\pps\tarjas\tarja-verde.png"/>
          <p:cNvPicPr/>
          <p:nvPr/>
        </p:nvPicPr>
        <p:blipFill>
          <a:blip r:embed="rId4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9353-A630-465F-A034-37E6AC8CB8E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3EF1-B711-4292-976A-8DFF06266B8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66D0-635A-4F4C-9A4C-D27F6777F6B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2EDD-352A-4331-8347-2E583B8A7A5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8986-2DDC-4C8B-9CA8-515F3A9B11D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3A32-21B5-449B-8DC7-F5BD24E7EB6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975D-D29D-4500-87C6-04E2510F1C5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C:\Documents and Settings\Marcelo.Raimo\Desktop\pps\tarjas\tarja-verde.png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e1c11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7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Gestã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-17136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8" descr="C:\Documents and Settings\Marcelo.Raimo\Desktop\pps\tarjas\barra-verde.png"/>
          <p:cNvPicPr/>
          <p:nvPr/>
        </p:nvPicPr>
        <p:blipFill>
          <a:blip r:embed="rId1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502" name="Elipse 3"/>
          <p:cNvSpPr/>
          <p:nvPr/>
        </p:nvSpPr>
        <p:spPr>
          <a:xfrm>
            <a:off x="6840360" y="826920"/>
            <a:ext cx="2303640" cy="2305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4"/>
          <p:cNvSpPr/>
          <p:nvPr/>
        </p:nvSpPr>
        <p:spPr>
          <a:xfrm>
            <a:off x="7012080" y="14572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5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9" descr="C:\Documents and Settings\Marcelo.Raimo\Desktop\pps\imagens-estudos\palm.png"/>
          <p:cNvPicPr/>
          <p:nvPr/>
        </p:nvPicPr>
        <p:blipFill>
          <a:blip r:embed="rId2"/>
          <a:stretch/>
        </p:blipFill>
        <p:spPr>
          <a:xfrm>
            <a:off x="3780000" y="2500200"/>
            <a:ext cx="5364000" cy="4024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507" name="CaixaDeTexto 15"/>
          <p:cNvSpPr/>
          <p:nvPr/>
        </p:nvSpPr>
        <p:spPr>
          <a:xfrm>
            <a:off x="363600" y="1336680"/>
            <a:ext cx="6153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d0d0d"/>
                </a:solidFill>
                <a:latin typeface="Calibri"/>
              </a:rPr>
              <a:t>- Conjunto de partes que interagem entre si, integrando-se para atingir um objetivo ou resultad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d0d0d"/>
                </a:solidFill>
                <a:latin typeface="Calibri"/>
              </a:rPr>
              <a:t>- Partes interagentes e interdependentes  que conjuntamente formam um todo unitário com  determinados objetivos e que efetuam determinadas funçõe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8"/>
          <p:cNvSpPr/>
          <p:nvPr/>
        </p:nvSpPr>
        <p:spPr>
          <a:xfrm>
            <a:off x="144360" y="150840"/>
            <a:ext cx="864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ff"/>
                </a:solidFill>
                <a:latin typeface="Calibri"/>
              </a:rPr>
              <a:t>- Conceitos genéricos de sistem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5"/>
          <p:cNvSpPr/>
          <p:nvPr/>
        </p:nvSpPr>
        <p:spPr>
          <a:xfrm>
            <a:off x="826920" y="2790720"/>
            <a:ext cx="511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conomista escocês do século XVIII escreveu “A Riqueza das Naçõe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5"/>
          <p:cNvSpPr/>
          <p:nvPr/>
        </p:nvSpPr>
        <p:spPr>
          <a:xfrm>
            <a:off x="466560" y="28544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2:26Z</dcterms:created>
  <dc:creator>marcelo.raimo</dc:creator>
  <dc:description/>
  <dc:language>en-US</dc:language>
  <cp:lastModifiedBy>marcelo.raimo</cp:lastModifiedBy>
  <dcterms:modified xsi:type="dcterms:W3CDTF">2011-04-19T18:57:43Z</dcterms:modified>
  <cp:revision>2</cp:revision>
  <dc:subject/>
  <dc:title>Slide 1</dc:title>
</cp:coreProperties>
</file>