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39F6C-646F-48E5-9EF4-B549760E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C3CFD-6A38-4182-BEAC-28D7C735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036A7-C461-4809-AF01-9BF0C69C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0C52C-6400-44B8-A8FB-C09498A7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7FF04-36D7-4DA5-A5C0-F60EA6CB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9FDCA-6042-4260-9507-EFF9EF24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E451F-DCEF-40B8-ABA3-033067E8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A3804-F950-41BD-A334-D73BA8DD3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8A640-A7CA-4EBB-A688-D7FCC1C87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E923F-DAA5-4B81-9580-B02BA8DEE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B86FF-B4A9-4956-8415-0C2C99B6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9AC6F-11C9-406A-B656-F64EF35D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7E977-A5F8-40A4-82AF-6D8DCFEC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25E18-D969-4DD7-9E9E-606B38EC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67F63-3FFB-4089-897F-320B3EB2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3713E-DEB0-4307-A8B8-70246561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110BE-FB35-4695-91BA-28B57451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C77FE-E86B-416E-A899-F227B0DD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B7F9B-4FCD-415B-96DC-3013C211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C038A-5644-458F-9987-6C1CB0518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8602F-1298-43B5-AA8D-C2A091A2B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1506D-4245-4E65-B948-1188B0FDB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62175-71CD-4FCA-91E7-0FBBF806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2C766-0BB9-43B0-873B-8096C327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D1B50-CF0E-43F1-BF2F-F8CA6A49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F9E51-1A92-4E6D-83B2-355A1F4C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CDC8C-69AD-4EE4-9A78-2BE5832C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C7FE9-3274-4BD2-8152-FB39648C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B5B01-FE84-4A5E-AC65-032A657D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44CCD-4C25-4A30-BA44-FB6EA42E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4319C-6CEC-4102-86A9-F1FAB9B5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95190-D013-4193-AC77-9D26BF10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48286-77D5-41F2-A10A-D29E9EF3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9625C-BC32-4739-8227-87E9A6205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7FAFF-3CAE-47A0-9943-A250AFE4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BCED5-D178-4A3C-8291-6B633D77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67D559-AB55-4FF7-8456-D9448531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BE412-7024-4810-9092-E007ACFA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1145E-A636-40C1-9099-AEFD0093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CABFA-35D7-41B5-8596-E6D6A3F3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E324E-6B34-4E59-82A4-B459BEA2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CBBCB-BD94-4313-9D29-8B05B324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BFCE0B-15FD-42BE-8F52-7FE195ED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4D09C-4222-4CC4-9658-06F21CE45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0772A-0F69-4775-9DFF-B7F6E3421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E35B-5F0B-4AF3-9A87-E2EF0459E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EEFA-541B-45BA-AB99-FFB59A6E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1047-7EC9-47E6-8CEF-D6ED1CBB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1882-5047-4863-946F-62428962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222A-3C43-4A76-A1E2-29060C41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ADAA-5291-4E63-8AE3-87C0FD9E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2779-1852-4B82-B3CE-519EC1FD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6A1A-FA3E-4BA4-AF24-03D8495F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EDCD-65C8-4D0F-A07B-FBEE6089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0375-BFA0-4F19-A9FF-BCBFCA25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567E-AF90-4012-9AAE-E35A92BE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3CF6-767F-4E98-953F-918FBB66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D6B0-0AE6-49EE-8452-808712D12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6AF6-1442-4C19-B243-A74A995D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0207-A0CB-4414-9A0D-FD8BB146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39A8-2DE8-4F02-99C7-A62B6888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FF92-E061-4BCD-9DA8-8ED1AC66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3379-03E6-41B6-B90B-69CF8DF3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D6FF-1904-44A9-A953-AAEDBA25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693D-DAB6-420E-90AA-A24FCEA5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9C46-9C44-41F6-950E-C9074788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3900-58ED-4F44-8AB1-C61352FD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DCFA-F4CB-4CA3-97C8-806229AE9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BEA3-8B7D-4FB8-9762-31B5A1E6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E420E-CF35-4826-9A37-9209A831B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1CBA3-14F5-4FDC-B3AB-BCBC330B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C2577-CC0D-4947-B5D8-9CAF9F87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0502E-22ED-426A-A8F8-CEB3CFA6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B60F2-9CD2-4AB6-B7EB-8AF7227B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3052D-CD10-46F4-AD27-B8A82198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127F2-A2DC-4D91-85B5-EFFF1C46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FF8EA-03D8-4993-A0D5-78B1E20E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DCD63-55E3-487D-8682-02443B7C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E0430-CF1C-4849-B258-6CE3AB53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3925A-9B48-45D4-85B7-3713DE17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D5B1B-C541-4C60-944E-2418A52DC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5A48C-729A-458A-9E0F-EBDB59464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B51B1-DB49-43D1-B5FC-7B34A5F8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B6E00-28B6-4CAC-8B55-2721D68E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1C5B0-D7A6-469F-AF26-B7425D47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31078-FCEB-41F7-924A-EC9A5682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28F0F-7B5F-4300-93CF-8890D2E7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A2601-9A3E-4D09-AC4F-E3F42C48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C4554-3F01-47F5-811C-34F04E0D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E22F0-DF3F-4AB0-8247-0BF299E6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E6BCA-68E6-4469-BBFF-EE0E23D4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362B3-D1CF-49CE-9C7A-9962E6292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C61EB-2871-4E79-BFD1-BE3DF324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78FC5-3BBB-4302-9C95-EE273BEF3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940A5-BFCE-4E16-A3C5-535CEA0B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0C066-CAB9-4C41-A52A-B6032793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5D3E9-AC32-4300-A6E9-F726ED70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F01DD-DACD-4C43-AF29-2BC24590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B55BD-F45E-459C-8B9E-4F5AD2EC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6D8B7-AFF2-4925-8596-CDEEE9D0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DE303-635E-4464-86C4-9F9C8B58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15A74-1DCC-47E2-A4BC-EC996BEB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928DA-5C93-414C-92BE-020DA721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15A0A-9EA1-4E9A-B4F5-67EFD21A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1926C-7376-47AB-88D5-AC27B433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0FE08-224D-4C2B-89C5-1D1C357F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21FC7-0015-4470-BBF5-7AADF144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A19B4-CD02-4FBC-8DDF-D1197642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95A5F-AFA3-4DA8-9CC3-7FF14E73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1C6F1-8FF7-43A5-947F-40B77EAA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3623E-17D2-46D5-ADCD-BE33460D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F9F4B-A510-4287-BA89-E07046C1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006C6-950C-4166-A671-4FFB9659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F682F-5A50-4401-9A3F-533CFEB1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2F9CA-CBC3-4449-BD76-3D7D66A2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0DD89-19E6-40FE-83A5-F5C529811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060CD-51D0-4F16-8904-956F42C5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00F39-8D49-416D-B7C7-651812E1C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6BC80-2A29-41E3-9BD4-249DEB5E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75CEB-8F8F-4381-86D3-E4D75182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1BB6-9F42-496B-B933-1D21C6E2B63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BB4E-A95C-4CE3-A43F-72258D7B6BE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6F77-946D-43C7-B6FB-D4F91BE00EA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0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59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:\Documents and Settings\Marcelo.Raimo\Desktop\pps\tarjas\tarja-verde.png"/>
          <p:cNvPicPr/>
          <p:nvPr/>
        </p:nvPicPr>
        <p:blipFill>
          <a:blip r:embed="rId4"/>
          <a:stretch/>
        </p:blipFill>
        <p:spPr>
          <a:xfrm>
            <a:off x="0" y="1514520"/>
            <a:ext cx="914400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Retângulo 5"/>
          <p:cNvSpPr/>
          <p:nvPr/>
        </p:nvSpPr>
        <p:spPr>
          <a:xfrm>
            <a:off x="0" y="1773360"/>
            <a:ext cx="9144000" cy="792000"/>
          </a:xfrm>
          <a:prstGeom prst="rect">
            <a:avLst/>
          </a:prstGeom>
          <a:solidFill>
            <a:srgbClr val="46ce87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2E33-0D4E-421A-B35A-478A86D130A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192D-25E2-4989-9AEF-0FC23874A7D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B1EC-D451-4BE4-B045-70F9EF908A2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6CA8-FBC2-4A67-B956-9DCB9835083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D436-0A58-4350-865B-9E6E18684BA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9560-344B-4E92-AE08-996167CA9C5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615D-F742-4738-A34C-E629DF95D7C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59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0" descr="C:\Documents and Settings\Marcelo.Raimo\Desktop\pps\tarjas\tarja-verde.png"/>
          <p:cNvPicPr/>
          <p:nvPr/>
        </p:nvPicPr>
        <p:blipFill>
          <a:blip r:embed="rId1"/>
          <a:stretch/>
        </p:blipFill>
        <p:spPr>
          <a:xfrm>
            <a:off x="0" y="1514520"/>
            <a:ext cx="9144000" cy="1396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e1c11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tângulo 7"/>
          <p:cNvSpPr/>
          <p:nvPr/>
        </p:nvSpPr>
        <p:spPr>
          <a:xfrm>
            <a:off x="0" y="1773360"/>
            <a:ext cx="9144000" cy="792000"/>
          </a:xfrm>
          <a:prstGeom prst="rect">
            <a:avLst/>
          </a:prstGeom>
          <a:solidFill>
            <a:srgbClr val="46ce87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Gestão Ambi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-17136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8" descr="C:\Documents and Settings\Marcelo.Raimo\Desktop\pps\tarjas\barra-verde.png"/>
          <p:cNvPicPr/>
          <p:nvPr/>
        </p:nvPicPr>
        <p:blipFill>
          <a:blip r:embed="rId1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502" name="Elipse 3"/>
          <p:cNvSpPr/>
          <p:nvPr/>
        </p:nvSpPr>
        <p:spPr>
          <a:xfrm>
            <a:off x="6840360" y="826920"/>
            <a:ext cx="2303640" cy="23050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aixaDeTexto 4"/>
          <p:cNvSpPr/>
          <p:nvPr/>
        </p:nvSpPr>
        <p:spPr>
          <a:xfrm>
            <a:off x="7012080" y="145728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5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9" descr="C:\Documents and Settings\Marcelo.Raimo\Desktop\pps\imagens-estudos\palm.png"/>
          <p:cNvPicPr/>
          <p:nvPr/>
        </p:nvPicPr>
        <p:blipFill>
          <a:blip r:embed="rId2"/>
          <a:stretch/>
        </p:blipFill>
        <p:spPr>
          <a:xfrm>
            <a:off x="3780000" y="2500200"/>
            <a:ext cx="5364000" cy="40244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507" name="CaixaDeTexto 15"/>
          <p:cNvSpPr/>
          <p:nvPr/>
        </p:nvSpPr>
        <p:spPr>
          <a:xfrm>
            <a:off x="363600" y="1336680"/>
            <a:ext cx="61531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d0d0d"/>
                </a:solidFill>
                <a:latin typeface="Calibri"/>
              </a:rPr>
              <a:t>- Conjunto de partes que interagem entre si, integrando-se para atingir um objetivo ou resultad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d0d0d"/>
                </a:solidFill>
                <a:latin typeface="Calibri"/>
              </a:rPr>
              <a:t>- Partes interagentes e interdependentes  que conjuntamente formam um todo unitário com  determinados objetivos e que efetuam determinadas funções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8"/>
          <p:cNvSpPr/>
          <p:nvPr/>
        </p:nvSpPr>
        <p:spPr>
          <a:xfrm>
            <a:off x="144360" y="150840"/>
            <a:ext cx="86407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ffffff"/>
                </a:solidFill>
                <a:latin typeface="Calibri"/>
              </a:rPr>
              <a:t>- Conceitos genéricos de sistem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5"/>
          <p:cNvSpPr/>
          <p:nvPr/>
        </p:nvSpPr>
        <p:spPr>
          <a:xfrm>
            <a:off x="826920" y="2790720"/>
            <a:ext cx="5113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Economista escocês do século XVIII escreveu “A Riqueza das Nações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5"/>
          <p:cNvSpPr/>
          <p:nvPr/>
        </p:nvSpPr>
        <p:spPr>
          <a:xfrm>
            <a:off x="466560" y="28544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2:26Z</dcterms:created>
  <dc:creator>marcelo.raimo</dc:creator>
  <dc:description/>
  <dc:language>en-US</dc:language>
  <cp:lastModifiedBy>marcelo.raimo</cp:lastModifiedBy>
  <dcterms:modified xsi:type="dcterms:W3CDTF">2011-04-19T18:57:43Z</dcterms:modified>
  <cp:revision>2</cp:revision>
  <dc:subject/>
  <dc:title>Slide 1</dc:title>
</cp:coreProperties>
</file>