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3A553-57C5-4A3A-9AAD-D3A02C93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4AD6D-38D0-40C1-888D-6F116764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0EDD0-3BD0-410C-8301-06FDB0D4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88833-0F4A-4602-B76F-7A118C97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EB45E-68E8-4DF6-B327-96A6E4C9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E443A-84B9-43C6-ACB0-11917907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80B58-FFAE-433D-9FEA-9A115445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34B02-B520-4D14-9D2C-5662299AA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92380-5479-445D-86DB-692CD3394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DD0C4-105C-44B4-850A-1BCCCA419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5A905-9778-471B-9A01-0F1A289B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D850B-0952-4B79-90DC-3D6C6DFE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9086E-33B3-4FB6-8396-1CEAFD26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40A58-8637-47AF-924C-89DF2D85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F3FD3-3061-4688-8DF5-D637D057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6B44C-D789-4E6A-BA40-DD3FAAD7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C2E62-B1DF-47B5-B78C-BFB5E04C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5D619-1CB9-421D-8B6E-B43EFC1C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E341D-BFD2-42E2-BDD9-B40B72C6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3D0EA-4E3E-4C5F-A101-AAEFA18FB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1BC14-13FC-4030-8443-D8C1EC215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B1AC5E-F987-4CD3-ADEF-C2CE2EF6A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FA8F85-E352-4153-9A28-8B4F61BC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446230-C532-4FD6-AF75-01727FA9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1EDD9-B127-44AE-8285-0F83044E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F2A369-1818-4F34-9FF5-F96B5111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E33AE-2CB0-4ED4-B114-DB92F0C9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4B8BD-344F-4724-8224-B2ACB41E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1FE4A-A22B-4C1F-ACE8-485119C1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CD3CFF-34DC-4A67-BEC2-6C7AC061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23AA66-6811-4609-A507-225A9675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8EF3A4-CFE4-4CAD-94FD-31833A44C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D0E82-701F-4DA0-A771-EBC7BC610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C93AFA-073C-410C-9CBF-401D4B924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4D607F-3026-48DB-AF3C-AA778C17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53744F-95E2-4B5D-B094-61431FBF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36C1F9-C3F0-45EF-8B01-E4570BAB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59366-840B-4BBA-A1C7-8AF3822F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AB098C-8488-4A81-B421-472BAF46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F2699B-12C6-4E89-B494-C485597F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82FCAB-2942-4770-BB8C-5E344973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9D5798-7493-4C21-BDA7-5D8393E4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42006E-3CC5-4E72-AAE3-63F5D74D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FB4371-9B2E-4B58-A52A-44696684C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4FC1A0-0E46-43A6-B61A-92380C3F8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E651-6929-45E6-B36D-70316B5A9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9CE8-07B5-4140-9DF3-6C26E57C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3C9D-4764-4282-9A07-CDCAE877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1AE2-CF02-4A1B-9700-AEEF44BB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B9AF-E386-4FAC-BD3F-3ECDC90D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2604-F141-42AA-8CA6-362EE60F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89A8-DA4A-4F1B-AD6B-362B89AD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2DA1-9728-4034-B878-00EF5317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606D-ADBB-4D9E-BA8C-7648A49F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2230-993B-42B3-A6C3-12190C9E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AE70-1318-4527-B2CE-22CBF425D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3A81-0090-41C9-AB8B-3D3E0FE18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A8CA-79CE-4FCF-92DE-20F20E429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388E-EC1B-412F-82AB-8A2D0359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B222-4048-4021-A2DE-0783C585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E13B-CF1E-4E48-9D5D-657862CF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8517-854F-4700-BBF5-97820356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C219-E893-4425-A0AE-60C7E2DB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F667-BFC8-48BA-B93A-1A4FE8FB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80B5-24E3-4FC2-AEB8-CF8408F7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3579-07ED-451E-9712-87788D0F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3BD7-744A-4C48-8748-E3B348FF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BAEAC-62C4-4DA3-954C-2AA39EA53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2720-6CD0-4222-AFF8-A74BACBB5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185FE-5A89-467E-8F39-0DA38CF4D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2FEBA-D2E1-478E-8317-50E1A635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8A362-3F8C-4D2F-BEB6-6D9258A9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7ACB2-BEA6-43CC-91CC-4B8FF298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455E4-6C4F-4126-93A9-6909EA93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C563C-8D3C-4626-A45F-EE60840F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4D3BA-ACE2-43AA-8DA4-D1417D4A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0D326-F100-451D-910D-37218D6B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D0673-FD59-4DE8-9834-AAA496FF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7471E-F0AB-44D6-952A-DAD9597F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F3F6F-A33A-496D-B3F0-071D75972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C4E2F-E2D1-4323-8470-D5F3B8AF7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24BB7-51EC-44CA-B2F5-D8AB3D58D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FBE5B-FFB2-4DDC-B7CA-087E73A3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34E54-3F35-4976-A930-9324A668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B5C67-E386-429D-99BE-493976A5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75408-C3F7-4387-9C18-2167C68C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F7BB0-12A5-43D9-9D00-D44F880A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4C14E-F74F-4B75-8B6C-040AE39C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C4819-D2B0-4256-BB8F-01783F5C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5BE14-C1A8-4CB8-A2F6-8AEA82FD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9D19C-2C9E-4D30-8F42-040DAFB3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14749-9739-4825-A8CE-7D2135965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5C2A7-A1B2-455F-9073-12542C3D8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7EF52-FA89-43A0-9792-33EF97221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BA24A-FB81-4A32-8673-03961EBD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E0980-2B76-4CF3-8CB0-36801310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34B26-43D0-4BB3-AFFC-06E1DE84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DB11E-FEFF-4D92-90AB-2FE4E245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8D8E4-3330-4452-8CBE-0FAC1C85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59D75-859E-470A-AB42-94716B7D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8887E-7E5B-4B5A-B11D-3538179E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B34E7-D4C1-44DF-AC1E-11D989AA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0BB20-8507-46FC-A9A5-F97BEE78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D9EB6-2DF3-4257-B374-A8027D9A0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507DA-E2D4-4B9E-B9A0-49F4279B5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B2CF3-E7FC-4F76-A9AE-8BB384BC4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FC8C0-65CD-4C4F-A7B7-EC2577C8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E353F-4815-41AC-9AA6-44954613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DE43C-5AD4-4A7A-A61C-1A2D58FC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8EA06-7031-4BFD-BDED-0036E274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8E567-E12D-4341-AF35-3AD2656F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44677-8D7A-463E-A21C-A01E63E7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FE633-2205-4823-A42B-490FD49B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36077-B704-4030-A683-DD8FCCFF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27310-88E5-4AFC-80D2-A45B1B50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F2234-A805-4D10-A8EC-576E31013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CCCCE-8EBE-4E7A-BDCA-A0CC488FC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C908A-5540-4DC4-A190-D6DBBFC9C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17AC1-872D-424B-9389-8E104A3B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94DC2-64D0-444C-8232-E5CD32E2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9A3C-B5CE-4B19-B6F6-97A1389E30D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CB10-4F1A-409B-8E54-641233F68D3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0675-4C1E-4E4A-BFCF-348438F0E76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salmao.png"/>
          <p:cNvPicPr/>
          <p:nvPr/>
        </p:nvPicPr>
        <p:blipFill>
          <a:blip r:embed="rId4"/>
          <a:stretch/>
        </p:blipFill>
        <p:spPr>
          <a:xfrm>
            <a:off x="-112680" y="1539720"/>
            <a:ext cx="9396360" cy="143532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a7f72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a7f7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36A9-F7BA-49A7-A14F-B9955795FE5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4A2C-727F-46BA-BDAF-8C03B2DAFA7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3919-139D-4E97-B8B5-81A8AF6600A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FE57-B356-4295-8B1E-A5746315465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3D56-16B7-4B21-BB6F-90DA36A51E6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90F2-FDE7-485A-B16B-C3EF89A3F19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A46D-BD87-4137-85FD-4E5BB37433C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3" descr="C:\Documents and Settings\Marcelo.Raimo\Desktop\pps\tarjas\tarja-salmao.png"/>
          <p:cNvPicPr/>
          <p:nvPr/>
        </p:nvPicPr>
        <p:blipFill>
          <a:blip r:embed="rId1"/>
          <a:stretch/>
        </p:blipFill>
        <p:spPr>
          <a:xfrm>
            <a:off x="-112680" y="153972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0253f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a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a7f7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Letras – Língua Estrangei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C:\Documents and Settings\Marcelo.Raimo\Desktop\pps\tarjas\barra-salmao.png"/>
          <p:cNvPicPr/>
          <p:nvPr/>
        </p:nvPicPr>
        <p:blipFill>
          <a:blip r:embed="rId1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4" name="CaixaDeTexto 8"/>
          <p:cNvSpPr/>
          <p:nvPr/>
        </p:nvSpPr>
        <p:spPr>
          <a:xfrm>
            <a:off x="395280" y="63360"/>
            <a:ext cx="55450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900" spc="-1" strike="noStrike">
                <a:solidFill>
                  <a:srgbClr val="000000"/>
                </a:solidFill>
                <a:latin typeface="Calibri"/>
              </a:rPr>
              <a:t>- Esquem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990720" y="1413000"/>
            <a:ext cx="4327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CaixaDeTexto 15"/>
          <p:cNvSpPr/>
          <p:nvPr/>
        </p:nvSpPr>
        <p:spPr>
          <a:xfrm>
            <a:off x="382680" y="2205000"/>
            <a:ext cx="84373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eta para a direita 7"/>
          <p:cNvSpPr/>
          <p:nvPr/>
        </p:nvSpPr>
        <p:spPr>
          <a:xfrm>
            <a:off x="436680" y="1558800"/>
            <a:ext cx="488880" cy="24300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a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3" descr="C:\Documents and Settings\Marcelo.Raimo\Desktop\pps\tarjas\tarja-salmao.png"/>
          <p:cNvPicPr/>
          <p:nvPr/>
        </p:nvPicPr>
        <p:blipFill>
          <a:blip r:embed="rId2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509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3:46Z</dcterms:created>
  <dc:creator>marcelo.raimo</dc:creator>
  <dc:description/>
  <dc:language>en-US</dc:language>
  <cp:lastModifiedBy>marcelo.raimo</cp:lastModifiedBy>
  <dcterms:modified xsi:type="dcterms:W3CDTF">2011-04-19T19:06:07Z</dcterms:modified>
  <cp:revision>4</cp:revision>
  <dc:subject/>
  <dc:title>Slide 1</dc:title>
</cp:coreProperties>
</file>