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F1774C-484D-439C-A595-8CA883603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EB280D-F953-47D5-AA27-E525E9A61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DE5183-397D-4EDE-A76A-81FF4D03E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C76E67-3372-4F08-896D-81F47A58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C4C4E-1059-43CE-9FBA-5397E2DA6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6E0032-70CF-40B9-BEBC-285FE684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00D108-ED18-4A93-B7BA-DCE887959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BA0109-9223-4DCA-A4BC-7EA7B0186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77A247-5211-472C-A654-B04567550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8886C7-1DCC-4862-A85E-AD897364D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A0590D-E838-4659-8364-E1A8A7A53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0096C4-A06D-493E-97EE-84C16A21B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C82371-C814-4CBB-9D62-EF27ED5D3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9C4CEA-99EF-4C7B-8DC2-55BDC0138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CC419E-ECFC-41B7-9C9E-7290C4219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9DE163-EDC4-4FCB-8462-07B86657F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877416-A59C-4DFB-898E-18E6D0A86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F57B0A-D4AB-4B4D-8705-56C90AF1D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F4502C-4CFA-4D4B-9E80-4EC43D4B9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693387-A7E3-427D-9BB4-2958A803C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97DA3D-E899-4C47-B762-4A46B314D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BA59BA-2484-44B8-A989-5F386AB8C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B5185E-8088-437E-AA64-841837B64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8D0F2A-D190-4AA0-A8E5-2F9CD916B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98BF40-14C5-4D23-8A22-6ABB2426F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2D15CC-39D9-43F8-8020-98076ED35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98B3D4-1C6D-4402-A184-B454153A5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FCB1E0-D130-4E74-A177-945DD9B8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040CBE-C928-4184-BF50-0AFCFB8A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7FEF4C-403D-4B40-944D-0BA516F14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A6194A-0E3E-4C86-B906-2193AFFC9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BE22FC-0ACB-4503-B7E1-4ED034F81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9CEEC8-F26A-433A-906A-A66086805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996D51-040D-4D55-B24E-AF11F54A1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8FD673-AE6B-486E-A82F-40801A2B7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594976-5290-4CB5-8254-2C4B69BBA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614CA4-C6F3-4192-AC11-4EF1A20BA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FBE3AE-BB21-4291-8940-CE6769C70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427F7C-318E-427F-90D7-FB1A48977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2DD2D6-8CD0-48FE-B081-C376BA91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67998E-8510-4F47-93D3-27C279BA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D4AFE8-C081-4FBB-80B6-20EA927D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2342D4-23C4-4C3E-B635-E14857AD8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19401B-57D3-466E-9530-F6FD227C0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567414-EA60-48C2-BFE2-7C2A9CB0B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3177-53DA-4F9C-9994-7013232AA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ACE1-8D3A-4077-9769-8706B509C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4682-5842-47F9-A1D0-F82E9C399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CB5F-556E-4007-A599-4FE5EE763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FD35-ACA3-444B-99E2-BA802DE00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C31D-E540-40D7-8FC7-6302115E0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1FF6-88A4-45F3-9A5C-265ABC0E3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5EE5-5E53-4AF7-B697-2ECAC1D8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A268-908C-4CC9-89EB-4C63EE99F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493D-95EF-4016-8B6C-8FF6C845A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1B0A-52E9-47A6-BC5A-EDA84439A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FE69-445C-4A87-B4A6-3F9194375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92AAE-8CBC-4ED5-B1C7-D5CFCE865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F3451-3FB7-4B15-8DCB-C67989CF3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9E897-C011-466B-B7AE-A4F9FA424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280DB-475B-4BB7-B6B5-BE161DBBE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A9C3D-FB96-44AA-9C7B-9D90D0678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2E743-08A0-4861-AD2C-5D0AD0621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0B493-6511-4B20-9EAB-6F0BF096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F2801-62B2-440C-82FF-5A95C6B7E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BCD76-2F98-4B18-9558-9F56551E8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67D8D-174A-4CC1-A74F-8799F6FC3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A793C-DC0F-4FED-A347-E404E37EF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CEE30-A1BA-4057-B8AD-5157E6CD7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3AC05-75B6-4D84-B5E4-E77BADC97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59AED-161F-4EAF-A34C-D622F50DE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041E8-A51A-4421-AFDF-A4631DA28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8E78C-3565-48D5-92A1-2086C3696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16A3A-42BD-4650-9775-A422D7076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230F9-B2C3-47AE-B3EB-C081FE728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0A395-E44C-4282-A737-691EF33F1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877F9-858E-442E-93B8-B64A2D51A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FFA17-6DEB-41FF-88D7-3B863C70E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1B7DE-C7B3-4DF7-B081-7990F8C5C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AE4EB-42F3-4E85-AE2A-BA96EEB6B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6D083-51C2-48CA-9625-3182957D6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6EFAC-58DF-4570-B58B-312E6754A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56CCB-06F4-45EE-A068-FF323C54E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0404F-21EE-43FB-BCFD-9617BCB9D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ED02B-AB47-4D41-8AB6-7A557A3FF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35ADB-D66B-4A61-B45F-B834E9A5F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5BE80-69E0-463E-8BCE-EFF662369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163C5-F0EF-4741-A2C1-CAC49FE1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D1B78-1A11-45AC-A4AC-38FCE6D4C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56C09-A35A-4BC8-BEAA-775DD9B3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9AD4B-323E-4FCF-AE67-24B573C4D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7FD7E-F527-4249-83B4-CADEB0CB5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C1911-8C29-4CCE-9FEB-DE5D6441C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32381D-AAB8-459B-ABD5-CCEE9A31D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7B92D2-2415-4DDA-81FB-10B933B96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2E33D-A268-4164-93B4-6115800A4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49FD83-B119-46FF-850F-C9ABED168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A8BBEF-47B5-4B38-8A38-3F13F7899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4F46B-F680-442B-8E6B-FBC70EECC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B7FC0-9F5C-4A10-9145-B154AD6E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52EF84-FDF4-493E-BE81-C7876A6E2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B3AEB-FD0B-4C35-8572-538CD9A8F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94759B-1607-4DAD-B841-0F9AB10AB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46A7E2-D1B1-479A-BE35-F8C3F4872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F7325E-F835-4C4D-8926-DDE301E59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0C43AF-5426-46EB-859D-5C897AA3D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2B3B63-3826-4F3F-AD33-289C632A6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2F02A4-5FA8-499A-8E2D-C98AB74B4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27EF12-CCA7-4ED2-A840-AB5ED03C6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E1F250-8EEE-467E-9690-BCA569A3C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118E39-5237-4CDB-8397-F6BCC38B2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895440-430D-4037-B655-F1512DF04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38CBE5-B69F-4F80-8F40-0F00949A6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FA1D81-E623-4FCF-AD53-A671DFA4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7CF21E-37F8-4E04-ADC6-E0297A33A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672E19-2B1F-4244-B3FB-BBC16FC30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1A85E6-DAC6-4AE3-85E8-7D1B5A15F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353111-FA1A-41F3-873D-9035E8A48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BD6278-E175-4B1A-8177-5362FB808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E8C623-984B-4C36-826A-2F0B84DD5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0009E-01DC-4ED4-949F-3E55E04598E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3CAE4-E503-4808-9109-8D74592865F8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664D5-6286-4149-BE60-E0D4C9EDFE97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3" descr="C:\Documents and Settings\Marcelo.Raimo\Desktop\pps\tarjas\tarja-salmao.png"/>
          <p:cNvPicPr/>
          <p:nvPr/>
        </p:nvPicPr>
        <p:blipFill>
          <a:blip r:embed="rId4"/>
          <a:stretch/>
        </p:blipFill>
        <p:spPr>
          <a:xfrm>
            <a:off x="-112680" y="1539720"/>
            <a:ext cx="9396360" cy="143532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fa7f72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a7f72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DEA11-B982-4B1B-B17D-EC1E4BA8A1ED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71E87-F049-46B1-B676-89F6B1332CF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EB878-0FDC-4A81-9D74-B86E188E6E60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BC24A-DE95-48FA-A8BC-13790DBFF31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39B40-1CFD-4AAB-B9D4-8966B1725AE8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D48A5-9F91-4BD5-91FD-4712260595E1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58E35-D04A-4356-A867-004790675692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3" descr="C:\Documents and Settings\Marcelo.Raimo\Desktop\pps\tarjas\tarja-salmao.png"/>
          <p:cNvPicPr/>
          <p:nvPr/>
        </p:nvPicPr>
        <p:blipFill>
          <a:blip r:embed="rId1"/>
          <a:stretch/>
        </p:blipFill>
        <p:spPr>
          <a:xfrm>
            <a:off x="-112680" y="153972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95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10253f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fa7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tângulo 8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a7f72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8"/>
          <p:cNvSpPr/>
          <p:nvPr/>
        </p:nvSpPr>
        <p:spPr>
          <a:xfrm>
            <a:off x="351000" y="1860480"/>
            <a:ext cx="69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Letras – Língua Estrangei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2" descr="C:\Documents and Settings\Marcelo.Raimo\Desktop\pps\tarjas\barra-salmao.png"/>
          <p:cNvPicPr/>
          <p:nvPr/>
        </p:nvPicPr>
        <p:blipFill>
          <a:blip r:embed="rId1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504" name="CaixaDeTexto 8"/>
          <p:cNvSpPr/>
          <p:nvPr/>
        </p:nvSpPr>
        <p:spPr>
          <a:xfrm>
            <a:off x="395280" y="63360"/>
            <a:ext cx="554508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900" spc="-1" strike="noStrike">
                <a:solidFill>
                  <a:srgbClr val="000000"/>
                </a:solidFill>
                <a:latin typeface="Calibri"/>
              </a:rPr>
              <a:t>- Esquema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CaixaDeTexto 15"/>
          <p:cNvSpPr/>
          <p:nvPr/>
        </p:nvSpPr>
        <p:spPr>
          <a:xfrm>
            <a:off x="990720" y="1413000"/>
            <a:ext cx="4327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Premissas básicas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CaixaDeTexto 15"/>
          <p:cNvSpPr/>
          <p:nvPr/>
        </p:nvSpPr>
        <p:spPr>
          <a:xfrm>
            <a:off x="382680" y="2205000"/>
            <a:ext cx="843732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existem dentro dos sistem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são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aberto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– um depende do outr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Ex: produção de camisetas (agricultura até o produto final transformado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As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funçõe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de um sistema dependem da estrutur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eta para a direita 7"/>
          <p:cNvSpPr/>
          <p:nvPr/>
        </p:nvSpPr>
        <p:spPr>
          <a:xfrm>
            <a:off x="436680" y="1558800"/>
            <a:ext cx="488880" cy="24300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fa7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3" descr="C:\Documents and Settings\Marcelo.Raimo\Desktop\pps\tarjas\tarja-salmao.png"/>
          <p:cNvPicPr/>
          <p:nvPr/>
        </p:nvPicPr>
        <p:blipFill>
          <a:blip r:embed="rId2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509" name="Elipse 9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CaixaDeTexto 10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CaixaDeTexto 11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33:46Z</dcterms:created>
  <dc:creator>marcelo.raimo</dc:creator>
  <dc:description/>
  <dc:language>en-US</dc:language>
  <cp:lastModifiedBy>marcelo.raimo</cp:lastModifiedBy>
  <dcterms:modified xsi:type="dcterms:W3CDTF">2011-04-19T19:06:07Z</dcterms:modified>
  <cp:revision>4</cp:revision>
  <dc:subject/>
  <dc:title>Slide 1</dc:title>
</cp:coreProperties>
</file>