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4AA2A-DF5A-48D5-9504-20CDD3B2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59283-E1D1-42D4-81E0-9633F80C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AD460-382C-4D47-A907-F54B2A98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846B1-1CC2-4AAD-8A22-620FD7D5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86E7B-92AA-4B79-8DBE-4515D353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23B6C-76B1-43DC-A734-D4CD3ABA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E7C05-B2B5-4AF6-BBDF-4D803A42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AE630-FDC0-4BF8-813A-6A8BC38A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FF2F0-27A2-4BEC-B5FB-5BC16B49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BFC7E-2843-41F4-8961-8550541B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7537C-616F-4944-BB74-5AA6C60C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545AE-6D03-4A8C-BD2A-865A6008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6F72B-8A3B-42C1-B22A-BEFA8FEA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FD8A7-948A-408C-8342-938739BA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2739C-555E-4041-A096-44B651BD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58FE7-A887-4C6A-B7CF-09B0AEFF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9885F-B6E8-40E0-83C1-424B3A58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A4DED-82E1-4605-B812-5B68FA1D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907B4-32D2-4DA3-BA48-E66BA9A0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2CD9A-77E2-4DA3-BD23-334961AF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EFAAE-B74A-4BD7-846D-5FC6823D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A624C-7260-4308-9146-375C0233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C5146-7416-4A20-9185-C1E4658D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8771A-8D9B-4EAA-8890-60E7C319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821D7-331F-46D7-BD69-2A5C3B1D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8AC4C-F596-4161-A0CF-6FCB89C6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708A0-9364-4C49-9D75-610D30F7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C47F9-2DDC-4211-BD03-93ED5D1F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08CB3-6EB5-4BFD-912E-F962A673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B5A6A-31FA-40F8-82D7-7BD7F4CF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45AF9-8255-4AF5-ADA6-4515417B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88D6A-2EF7-43D3-8A8B-9145B4CF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5F2DC-3A96-4D1D-A335-2FA188CD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3B738-5A1E-4BAD-84D2-9453BE6F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106D3-4788-4E11-AD5D-A338687D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7E322-290C-457D-8EF7-7E563A8B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B64FB-B2DA-4805-9A3E-F0377150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92100-59FE-4184-899C-F5F78588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0CFA3-A728-46FE-89F2-E8732365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79866-63D4-4037-9519-D00E001C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81A5C-5966-430D-947D-EA9BA42D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B635B-7A7E-46DA-A52E-CD688460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A8ECB-3E8D-425B-82CF-CA03A339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B7A1A-AE77-4D78-B340-C9507373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118F1-73D7-4CDA-A195-BB04577A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1DFC-75C1-4095-AE1B-79CA1969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6BA0-7819-4F32-9AA0-64D7FDB5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D42C-C7FD-425C-8D73-A3DF1B4B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FB8A-6523-481E-B9B9-6C470EB9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BB70-29CE-4B75-9307-4019ABF7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C3D1-1F0E-477F-8DA6-399E6909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5283-07B1-429B-980C-2187DF52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6F27-2EAD-497A-906E-B5F1AF80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BF1E-CE35-45A4-88C2-DB56B216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26D-092B-4D4F-A8E2-2A7333C3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91FF-88EC-4360-8273-AFCDCAB4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36BD-58C2-4F8D-BDEE-03A51E3A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401A-CC65-4291-9C58-41994484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297B-9FAB-45C0-96B0-4C9A5646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9743-EB64-49B8-AA2F-55959A5D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F1E6-2A67-49B5-927D-06013174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6759-0AEF-47DF-ADA0-C9497396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FC4C-90B6-4819-A7E8-A08E17F4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E139-D021-4539-B18B-0227005B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19D6-0429-4ECB-BB89-2CC4F7AD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0212-3964-4A77-98C8-8FF8661F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46BD-ECB2-4B5D-A62A-652040A3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A69A-135C-48E3-B3C5-91CB9FDC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58FE-B522-4995-8164-FD5FC8E2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81FBC-9139-4123-BC9A-7895B0B4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40CC7-3B21-42FB-86A8-CD948FE8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2E4A7-11FB-43F8-B1FA-EAB65B09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6C665-8CA1-495C-BD82-EFB003CC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F160B-DCBC-418E-A491-1C284F75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50FF0-6F4B-49C2-A93F-69175179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CEB58-0669-4FEE-8952-A7430E49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39118-2CB4-46EC-8381-93BEA1DB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B6D73-EEA5-4AD6-A583-DA8F4230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C6494-61F9-47A6-911F-9079FCC2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14DC6-4946-4E3A-8FD4-08462D84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1984A-7290-4BC4-9E8F-E81C8FA0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FC806-BC95-4907-86C7-1F2DBEAC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11EC0-8F4F-4A34-9859-29AF7467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A87C1-7682-4AD1-B965-4436ED69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0F571-8C5F-4DA4-8A59-9E443BCC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9FCCF-4AC2-4710-8ADB-F6B24CCE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54151-7BE0-4C3D-9D5B-51DC4336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5E1D1-7A5D-45BF-AA83-90AE39EC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83113-8753-4999-9B5D-189E69CA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17F5B-E3FF-4052-9113-26EB282A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C8A7C-730A-4261-B9B9-0CC72B04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CD546-7834-42AE-BA41-954D90BB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1C997-C46A-46C9-A6D1-54EF20ED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9EC5F-33E3-481A-898C-183D0D4F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81A69-553F-4FC8-A786-0F387015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3E030-5781-4827-9620-CE62AD26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65842-0A00-42F0-BC37-FB0FC262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84E55-F10A-4E04-9E02-59A1EADC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648F6-EE14-4BE1-9606-6B214484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C0D7D-8A5E-48E7-803C-DB923A07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30E08-7792-4B86-B2A2-714FDB2C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17718-9041-4BB8-8613-A6F615C6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AE191-EEFE-41A2-A023-44E4B95D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3AF31-56C7-4C35-BFAE-22FF253D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275F3-BE05-44C6-908C-0112AED9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96523-C3EA-45E7-8D2A-E4B59F91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C0F70-D84D-4890-B98B-DEEE7E2C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A998A-FF02-4806-BA61-4CA8B047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D8891-EAAA-4567-BD3E-AA709001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DEE17-F98A-442D-933C-3617AD1A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EE6E8-7253-476E-8B2F-3CEC90CD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63FD5-484E-424C-BADE-75E4FC92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B6F95-E63C-43C5-85B2-518EFD02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E4F46-995C-4FCB-B3D7-5B5AB119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292E5-F998-4C59-B5DA-DB93D018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872FE-015A-4BF9-B815-0C1712BF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9B1C8-9FA9-4DE0-BE86-3B20F49C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53EFA-9CE6-4EE8-997E-8F371A0B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E3E01-1282-4509-A855-612F4F53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23B25-E814-4859-A2CD-7DF2BE22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5C8D-637F-42C0-8800-1DADA41596E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F4AB-78FC-413D-8194-F05A8A9B465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6D93-E32E-4BB4-85F5-7A46C3B0E7C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salmao.png"/>
          <p:cNvPicPr/>
          <p:nvPr/>
        </p:nvPicPr>
        <p:blipFill>
          <a:blip r:embed="rId4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2F51-65BB-4951-AAEB-22DDD0B7045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C4DD-0CE8-4FFB-86DB-6C70BE47B63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68A5-A1D8-424C-A4F4-197DEA6B03A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79EB-93EF-443C-87CB-365F6B10F05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B61C-3A7B-437E-B9F0-A489745A7AE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721B-770F-47D8-AF3C-B94D9594B7E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7A73-4178-4351-BB37-AEB59E85C62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salmao.png"/>
          <p:cNvPicPr/>
          <p:nvPr/>
        </p:nvPicPr>
        <p:blipFill>
          <a:blip r:embed="rId1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etras – Língua Estrangei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C:\Documents and Settings\Marcelo.Raimo\Desktop\pps\tarjas\barra-salmao.png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63360"/>
            <a:ext cx="5545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Calibri"/>
              </a:rPr>
              <a:t>- Esquem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990720" y="1413000"/>
            <a:ext cx="432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15"/>
          <p:cNvSpPr/>
          <p:nvPr/>
        </p:nvSpPr>
        <p:spPr>
          <a:xfrm>
            <a:off x="382680" y="2205000"/>
            <a:ext cx="8437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eta para a direita 7"/>
          <p:cNvSpPr/>
          <p:nvPr/>
        </p:nvSpPr>
        <p:spPr>
          <a:xfrm>
            <a:off x="436680" y="1558800"/>
            <a:ext cx="488880" cy="243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C:\Documents and Settings\Marcelo.Raimo\Desktop\pps\tarjas\tarja-salmao.png"/>
          <p:cNvPicPr/>
          <p:nvPr/>
        </p:nvPicPr>
        <p:blipFill>
          <a:blip r:embed="rId2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50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3:46Z</dcterms:created>
  <dc:creator>marcelo.raimo</dc:creator>
  <dc:description/>
  <dc:language>en-US</dc:language>
  <cp:lastModifiedBy>marcelo.raimo</cp:lastModifiedBy>
  <dcterms:modified xsi:type="dcterms:W3CDTF">2011-04-19T19:06:07Z</dcterms:modified>
  <cp:revision>4</cp:revision>
  <dc:subject/>
  <dc:title>Slide 1</dc:title>
</cp:coreProperties>
</file>