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44CD81-8C52-4D1D-9FFF-5B0A4C6D9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78125-8E3F-420D-A300-7BF355364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BC7A0B-259F-4D28-B799-740E5FD0D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DF8C38-549C-4FE5-8CE9-4E2B094EB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17512-227B-491A-9E5B-354CEE5B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3D357-A477-493C-9B58-A3B292A8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BE9EF-442F-4D2D-B6E3-95BA1AA0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CC5568-A189-412D-B949-76A9E3880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432AF8-5016-42F9-A67C-118CA816E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8F19B8-FF51-44AE-8EBF-58AF9C463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884E66-B3F9-45E3-BE27-B11407CB0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2880A7-03E9-4FC8-B79C-AE4616137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1608D7-F4C0-4C71-9FE3-AEDEF35B0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72AF58-B5D3-48BC-B816-F94A07EA9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0C3AF0-D776-4722-9F5B-4AA86CB3A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EEBFC6-DE47-4362-92F9-5F35744E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2A250F-D6C8-44C4-955F-672270ED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E9A59A-CEEA-4022-8D92-ACDC5C51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A28AE8-CC59-44B2-945B-FA5E361BA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A5002-5613-4DCF-9049-A7FE74739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46C513-4BD6-4184-9CA2-75A0A55B3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755A99-9C53-418F-9C0A-3C09E77E6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5896C8-B2AF-46ED-9998-21A82F759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9F64D8-9F3C-4BEF-9FBC-45EC10A31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1259E3-784F-4CD1-8948-480EEA530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003B0D-C2F8-49B6-9725-772F5D9A8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AFDD2F-BB33-4D47-A942-808738FCA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585337-07C0-4F5E-9717-C4028B21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78B84E-62AE-490A-A592-B10DF894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DF86CF-2C40-4FE3-BF57-7DFF2B2D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FACCA3-5009-44FD-8EE1-78F531055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1E61FA-7C92-4F2F-82F1-8AE91DAAA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0F0C25-09FD-4207-B16B-D05ADFFFC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7D547F-F2B5-4421-9074-26C12EEEE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65EE1E-84F3-4777-B2CC-351586C08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2C7E86-2D36-441B-91CF-5879039F2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669EDD-BFD9-4434-BAE0-5F74E789C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301CED-2926-47A7-92CC-EDD8B5006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695C71-2591-4353-A611-017C17507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7E5291-E08F-4073-AD6F-2C3595AE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04BAD5-DAD2-4632-8C04-8F6815DD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2C21BD-5E17-4793-B3A7-7443765F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EEA3DE-0D18-4C54-B69E-100E6C232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B69EFE-EB2E-4C56-A7B5-D12604C49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734468-56AB-4077-85B4-09EA0E37B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D6B6-6CF0-44AC-98DF-B16E29A67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9BEC-BAB9-4EE5-854B-15B5275D0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5AFF-A730-41FA-9868-1164D8C9C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DF78-6F6D-4F7A-8058-7CDE56CE2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4EB0-AE8E-40AA-948B-7F2C64BB6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6EFE-E8FF-4AF0-8A28-D57BD32E0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B9AC-90B0-44C1-A5D4-FD01892C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BC51-4306-4F73-BE35-31A350E4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6BD3-6C68-47CC-A4CF-6E31E6C7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0990-53AF-4207-A2DB-703329FC4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5C7D-0AC9-4CF9-90FA-42A3B5F4B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CAF8-34DE-4FFD-A378-5178C2B24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58A85-A9FF-43BF-A20B-2E75C8F9B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BC83D-D3B4-4CF9-93B1-42CED4F9D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D9535-9082-46B4-A8D5-437C654E7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A81CA-4FB9-4F09-B774-6773AB2B7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3ED1A-5D0A-4527-996F-60F9C5E10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7E566-AF23-4263-B4C6-29F59A2C3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0C8A0-F262-4F58-B635-71694F5F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0D12A-2011-4703-822B-B19C95B8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FEE6F-8BFE-42D8-9F19-C1B92765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690BB-3814-49A2-9319-6CE2EB1E3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633DD-CA1C-4EDE-9758-45CF333D7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98E88-36BB-4F2D-85FE-0D595B2D8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D0F5E-DEEA-45B2-83FE-B8C166264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13ADB-852A-4824-B58C-ACE731989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880C1-94A7-4946-9D05-AD7C4EC2C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57979-0D33-4847-B1CD-37F458F14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B1324-3C1D-43F5-8DC3-FFABAD410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CC31D-37AB-4313-82F4-08761E6D1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6CD03-A7B2-46FE-890E-E63A889A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55E23-C705-4A4C-8CBF-1F534E83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B76D9-2D52-46F9-9D52-D86677D5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ADABF-E4BF-4B1B-9860-4E8707D42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F78CC-1D23-4AF1-90AC-5B47EF7E7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61444-B4C8-440C-8A0F-541072BE9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A1DD1-8BB6-4F55-A366-9387FE2EB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A3BAC-796A-415B-A558-B79F3A5C9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E2A2A-8268-4B8F-8CE3-0A1FF9E10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EBB25-7D9F-471F-A0D0-EA6E2646C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DE5D8-43C8-422F-9D23-EB9D6A5C8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AFEFB-0197-42C9-8033-70B52AA07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7D823-A341-45D6-B491-CE94088C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A8D1B-60ED-49E2-81E0-A7262685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824DF-C0A0-4C3D-9C13-630010D8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B22C0-8365-495F-9ECE-DC4F1EC6A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80C55-AB3E-4B33-9669-EDFC65AE4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444EB-ED41-48F5-9FDC-22DBE136E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FA1DE-264C-4E3D-92DA-92709B400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8443E-0A93-4C72-9D84-48E4BF767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FED82-55DD-49D5-B76A-E9A35C865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251BF-CC47-40C6-87B2-AC5E1F679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1584D-6101-42E7-BFC6-5EFA6CBF3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E6304-0B2C-468B-B397-7845C841C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D5317-CC22-4928-A946-D9EFE813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AC3AA-A129-4051-9611-72562F38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B50F7-7092-4711-8F05-5E0B7A25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F2501-3269-41AE-9F95-001DF29F0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92A38-FD00-4F8B-82B5-AA258DB37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10EBE-CCFE-4005-A903-69810EE72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BC4A9-5783-4901-A9F6-949851EC2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526ED-9F81-403A-8C5C-841E2E4C4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A6BC8-AB6A-4BB3-97AB-60AB11EDD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9A55F-6CA4-4204-BF7B-A577D83EE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05677-F4FA-40F5-BC91-658A702FC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FA64B-C531-4502-A70E-C6D71D43E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0814F3-9757-4812-87AF-B54A6A4B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36C94-4FE0-49FA-B29C-C9BEAABE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4B724-5B65-41E2-ADA0-71BFECD8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0318E-EA36-4504-897B-7FB4D6DF1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55DF1-541D-4D10-BE5B-CBADAF522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3EC06-E8E6-4498-9D50-CDF05980B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174E8-07BB-4AB2-B55C-9E1D70196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36FDF2-5AA5-4F23-B7F9-537F23268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A2729-6AF0-408A-B987-0A7BCDB67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89D2E-BEA0-412C-B453-CD0441F3B29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F81B0-EC76-40C0-AEDF-78ABEEB8E85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88A68-9AA6-457B-916B-FE1FAEE73BB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3" descr="C:\Documents and Settings\Marcelo.Raimo\Desktop\pps\tarjas\tarja-roxa.png"/>
          <p:cNvPicPr/>
          <p:nvPr/>
        </p:nvPicPr>
        <p:blipFill>
          <a:blip r:embed="rId4"/>
          <a:stretch/>
        </p:blipFill>
        <p:spPr>
          <a:xfrm>
            <a:off x="-57240" y="1533600"/>
            <a:ext cx="9313920" cy="142380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873a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a365d1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97FAE-42C9-4080-AE4F-CE011831483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0F7B-2284-4636-BE5F-B336FB12DC9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64078-9C15-4FD9-9B0E-053CB369A5E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56DD9-4BBB-442D-88D2-04797D9EB5B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81126-4EC8-4581-A24B-8D55114D216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5E7A5-5383-43B5-BF15-0D091579997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63374-869F-4141-80B3-D90D7B048F6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4" descr="C:\Documents and Settings\Marcelo.Raimo\Desktop\pps\tarjas\barra-roxa.png"/>
          <p:cNvPicPr/>
          <p:nvPr/>
        </p:nvPicPr>
        <p:blipFill>
          <a:blip r:embed="rId1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57240" y="1533600"/>
            <a:ext cx="9313920" cy="1423800"/>
          </a:xfrm>
          <a:prstGeom prst="rect">
            <a:avLst/>
          </a:prstGeom>
          <a:ln w="0">
            <a:noFill/>
          </a:ln>
        </p:spPr>
      </p:pic>
      <p:sp>
        <p:nvSpPr>
          <p:cNvPr id="493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873ac0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a365d1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351000" y="1882800"/>
            <a:ext cx="69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Letras – Língua Portugu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3" descr="C:\Documents and Settings\Marcelo.Raimo\Desktop\pps\tarjas\tarja-roxa.png"/>
          <p:cNvPicPr/>
          <p:nvPr/>
        </p:nvPicPr>
        <p:blipFill>
          <a:blip r:embed="rId1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4" descr="C:\Documents and Settings\Marcelo.Raimo\Desktop\pps\tarjas\barra-roxa.png"/>
          <p:cNvPicPr/>
          <p:nvPr/>
        </p:nvPicPr>
        <p:blipFill>
          <a:blip r:embed="rId2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503" name="CaixaDeTexto 8"/>
          <p:cNvSpPr/>
          <p:nvPr/>
        </p:nvSpPr>
        <p:spPr>
          <a:xfrm>
            <a:off x="395280" y="34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Esqu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5"/>
          <p:cNvSpPr/>
          <p:nvPr/>
        </p:nvSpPr>
        <p:spPr>
          <a:xfrm>
            <a:off x="965160" y="1341360"/>
            <a:ext cx="432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Premissas bás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ixaDeTexto 15"/>
          <p:cNvSpPr/>
          <p:nvPr/>
        </p:nvSpPr>
        <p:spPr>
          <a:xfrm>
            <a:off x="826920" y="1981080"/>
            <a:ext cx="79218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- Os sistemas existem dentro dos sistema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- Os sistemas são </a:t>
            </a: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abertos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 – um depende do outro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Ex: produção de camisetas (agricultura até o produto final transformado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- As </a:t>
            </a: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funções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 de um sistema dependem da estrutura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eta para a direita 8"/>
          <p:cNvSpPr/>
          <p:nvPr/>
        </p:nvSpPr>
        <p:spPr>
          <a:xfrm>
            <a:off x="436680" y="1486080"/>
            <a:ext cx="488880" cy="242640"/>
          </a:xfrm>
          <a:prstGeom prst="rightArrow">
            <a:avLst>
              <a:gd name="adj1" fmla="val 50000"/>
              <a:gd name="adj2" fmla="val 50044"/>
            </a:avLst>
          </a:prstGeom>
          <a:solidFill>
            <a:srgbClr val="873a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Elipse 9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10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ixaDeTexto 11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29:44Z</dcterms:created>
  <dc:creator>marcelo.raimo</dc:creator>
  <dc:description/>
  <dc:language>en-US</dc:language>
  <cp:lastModifiedBy>marcelo.raimo</cp:lastModifiedBy>
  <dcterms:modified xsi:type="dcterms:W3CDTF">2011-04-19T19:02:44Z</dcterms:modified>
  <cp:revision>3</cp:revision>
  <dc:subject/>
  <dc:title>Slide 1</dc:title>
</cp:coreProperties>
</file>