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1FC61-C06B-4117-94B6-7FB3AC01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C91BC-11DE-45EA-B3EF-1088E931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4D81D-598F-468C-9061-9C0CB97A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C5B0F-E344-452F-83F0-0EBAFC7E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B5538-FBA4-44B9-B476-5D9DBC6B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F80E6-204B-49C0-9541-6F5CDBB5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EB92C-AC67-4015-8EAF-257DCDFA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B9B66-2AA4-4B5F-BE06-A7FCCDE6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C1962-EDC3-48E6-80F2-3402BCE0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F4189-C00F-44ED-BD63-ED806770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36565-0B4B-4069-B3A9-014EF5BD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8E852-787A-4F43-B2DD-88A54B00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362EF-2227-4A0F-BC66-332B851C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DCC1A-B67E-455D-B573-AF23F101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463B2-C0AD-4BD3-8C8E-37904B6A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3A15F-4BED-43DE-9A38-5C4E37B0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86A02-2D99-4FF3-8963-993DAEC9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0DBB0-D5C7-4C78-8F8A-47B6FD70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F0DA4-BE43-4B9E-A267-3F8DED0B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67E93-9B32-481F-818A-52556445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55EBF-5FC6-471F-BAE8-8FE1CE44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868A6-48F4-4E1D-8F7A-2C25D986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A2299-B9A1-49C3-A774-3F7ABC38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90F48-A905-40D5-A856-56F660C9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1CDF1-5762-4A35-B6F6-90C2451C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D76D0-326C-44B8-858A-2416FC39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EE547-1519-4B05-85B1-53909378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E391D-AE6E-476C-B821-E66B19F2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9C3A9-EF18-44D1-9EF6-0DA08BE7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8521C-DD8A-4630-989A-8FF5BBEF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42182-EE17-48DD-AC03-DA1047AF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87F27-61BF-4A7B-B2BD-F660B8DC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42FD0-0D76-4A52-95BC-B5104015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6E981-8108-471D-BEEB-01479A92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72F9C-CC23-4EFD-9397-76E3B3D6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5CB5C-A9E2-4500-990F-77EE2793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E631C-5C80-4D45-ACAA-9BA5BBFF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CF57B-3D6A-44C3-8C01-216F0345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FF76E-BA86-4C4E-9201-639BC0A3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B9175-D7D6-4D1F-AD9F-0A9B08FB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C3646-B292-475B-A2AD-5ADCA4B7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69B45-B86A-4F83-9FBE-F12EDE03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F4C7A-214C-4C20-A91D-3762D8B2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A30F5-0BFD-4B15-91FA-082B75E0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D6907-6A0B-49B3-9AA6-7AC1BD9D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8CA5-8660-4BA6-9464-C6687F77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ACF8-8B0E-4B66-8F78-AF954972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79E3-65BE-4E01-B9AE-C17D3F57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7513-7980-48D7-990C-0A3EBABD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81A5-EA51-4AD2-84F4-FDF25A21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C042-7F4F-48D8-BE08-82C18563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B975-0E98-4E4A-9955-705BBB0E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4CCC-E2DC-4C3C-A015-9A04BF5D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28DB-D6CF-402C-B81A-18F73ED8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0400-3867-431C-8C87-D346F017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F315-D924-4D45-9F06-C6DD3D61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46AE-6876-498C-BD28-3BE013F4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44E8-ADF1-4620-BF80-792104B9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7039-BC3E-40AE-87B5-EA469125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FEEA-22C1-442A-AB6F-2E8B2904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938A-8070-4C9A-9B21-F3AF1670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F23E-DB66-41A8-A21A-1369576D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B631-AAE1-4030-BE06-3707CC79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32F6-72B8-4C72-BAFB-1040DA95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91F1-2F32-4858-99F3-61EDF38F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D572-618E-4ACE-83A1-F15C3EE0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BCA5-5BEA-4A11-B047-AC4007B2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DFD2-2A5A-4B3A-9E70-7FF0B55C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974E-7CBA-4D8E-B691-0A27930E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F9E73-119F-45E0-9B1F-2ABE91B9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8577C-EF7F-4916-86AE-CBF40A2F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C16FC-24A8-4A95-8926-BCD31CF6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7A81F-4749-4F8E-B605-8DD269C3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84DDA-89AF-4944-A347-7857A127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CDCF1-2FB3-4EDE-BD75-6D8E98A4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CEC72-531B-4694-AEC9-A9A01E0F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1802C-EAEB-453A-8F20-463239E9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46E01-6407-45A9-904D-69730B70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933D3-2130-4195-BCC9-D0C5CE2D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22DED-9A94-4952-B74A-F3A62734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C35DE-C5C6-4295-84D0-B3CB51AD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A5D7D-0B56-4D8D-BD2F-13D8CADB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D391C-510D-408B-8EF4-A15E3298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E5D13-4CE5-4C42-91DD-E08BC1D3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A0B77-1B5B-4784-8ED8-770AFC8A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77C08-592C-4130-9BB2-0D92B895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80777-33F4-4C13-B05E-29F6269E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1F97B-0F5E-4609-92E5-21146376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C17D8-539A-44B0-AE89-3574FD2A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41FE4-375B-4F9E-B36E-4AF573EE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02710-8DD3-402E-A456-8FD0A14F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C9E8D-73C1-4993-975D-19F8EC6E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D6113-686C-4F35-BF0C-3ABC24F2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62586-A6D9-4D2C-8B3C-E8F04F0B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1DB3A-3F49-4AE2-9D89-8424B617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9E0C9-3EB2-4312-A0DF-4F24CA11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EE0F0-817C-4106-80DD-70132FA8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1A3B8-E01A-4DB0-BE7A-BB93E541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0D39B-F84E-422F-8633-4F7E7A72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68FF9-838F-4AFD-9EC6-3CBC0817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EBD3C-0F20-4A5B-9786-DC33EBD9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97D11-7E73-47EB-BB53-911C066C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0A655-4606-4189-A4B2-F7297D52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3759B-BD06-443E-B672-90F8880C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13CA5-0177-48C1-8B25-D8407289D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B4732-B76B-4A45-B597-8D5DE57B3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E4A2A-0EC7-45AD-961A-4E76EFE8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6E6CE-A3DC-40CC-9610-4B9CCAC4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BDAA0-C1ED-462C-8B10-FCC5794F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2E64B-50FD-4F30-B188-B5E1083A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0B220-4181-4ABB-9CC6-7EDC2F5D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87377-146A-4E68-89B7-0EEB7C69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46D08-8CEA-4218-AC11-46E3A791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788DB-E384-430B-8281-D69B700D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D3E3E-5A9F-434E-8D91-5EC3A3E5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FCD77-C984-4AA0-B6C0-F3C6BF72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D6DFA-678B-40F7-AAE3-5B4B7EBD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730FD-03FA-4B99-8B72-999AC905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0898A-3427-4A74-9AB2-AD7826C9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228AD-9346-4568-9165-13B98D61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CC81-98F0-4B01-8F35-288CB86BE93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86F1-45AB-43CB-9F55-C1569BC60A0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B9E8-2E3C-4384-9BFE-AD9B2502CE3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roxa.png"/>
          <p:cNvPicPr/>
          <p:nvPr/>
        </p:nvPicPr>
        <p:blipFill>
          <a:blip r:embed="rId4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3D17-8313-4B21-8E67-B22E66A7542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B7A0-EEB3-4BFD-B9D7-BD60E3D2C9C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84F1-21C3-4CD9-BFD7-D48080F0DEE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5C4B-FA73-4742-BE9F-581FE18152D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C7A5-611D-4B5A-A99A-E6A1558C08D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C342-829B-4805-B23D-AA46712556C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9807-B5C9-44DA-B1A8-D59DB8126A0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C:\Documents and Settings\Marcelo.Raimo\Desktop\pps\tarjas\barra-roxa.png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82800"/>
            <a:ext cx="69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Letras – Língua Portugu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roxa.png"/>
          <p:cNvPicPr/>
          <p:nvPr/>
        </p:nvPicPr>
        <p:blipFill>
          <a:blip r:embed="rId1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C:\Documents and Settings\Marcelo.Raimo\Desktop\pps\tarjas\barra-roxa.png"/>
          <p:cNvPicPr/>
          <p:nvPr/>
        </p:nvPicPr>
        <p:blipFill>
          <a:blip r:embed="rId2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9:44Z</dcterms:created>
  <dc:creator>marcelo.raimo</dc:creator>
  <dc:description/>
  <dc:language>en-US</dc:language>
  <cp:lastModifiedBy>marcelo.raimo</cp:lastModifiedBy>
  <dcterms:modified xsi:type="dcterms:W3CDTF">2011-04-19T19:02:44Z</dcterms:modified>
  <cp:revision>3</cp:revision>
  <dc:subject/>
  <dc:title>Slide 1</dc:title>
</cp:coreProperties>
</file>