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33A37-EB62-461A-AB93-ED1D374D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4294A-21CB-46B0-8354-A9990D68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A10CA-3A06-4576-BFFE-A0A33635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8FD67-1C9A-4F40-BC50-13077E2E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82744-4FA8-46EC-A058-961CE1AF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4582F-3E42-4A36-AB25-FCED582B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AE556-7E17-43FF-AA1B-B75A91C9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B5FB9-3034-4681-B259-F2DFFA6E2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48DD5-7C7A-4935-934C-E6F6814C5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95CDC-D0F8-4E80-AEFE-AACF936A4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16554-A594-4F75-BD4C-7621E7AE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2ED2B-30DA-4E03-938E-17027F13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003FA-50F6-4A76-8DB2-98AEC467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61CF8-D20D-4076-9DE7-C65F743B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0292E-1E9F-40C8-B115-33F681AA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746E0-9E54-4B73-B5BB-A2A08815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BA572-7DBB-4B3F-A7D6-FEFBA2E1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3C2DC-CBDB-49D8-B9C1-5E7F75AA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B6E69-B228-4F26-B698-E104772E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F79D6-D73A-4062-A7D8-847CFE5BB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7B425-E88B-470A-9CE4-C5A975DF6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85264-AB2E-4038-97A9-84E1A7507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C24F67-F466-46B8-A07D-6B1E3BA0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ECBEFD-41CD-4077-969A-C9318848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E161A-833A-4D2C-A942-17B0924C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3ED582-349C-4290-A3DA-687C0354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94000-5556-4CFD-99DF-B9C09A8A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04EB2-2C34-4F7B-BBD1-B09A2C77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771263-4087-4270-8130-50FF2F95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C41398-9C73-4267-89F7-2E4AD1B0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D7EFD-AB7B-4E19-A44F-EBA871B3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26B83A-2ED4-4148-B88E-D3D431F4D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614A6-AD20-41F0-A87D-2C9F78200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8DBDE4-6145-49F5-90B3-81400724B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8D2859-7BCC-47A1-8025-FD326DFF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3C1880-A8E0-4F6A-A848-CEA65BFA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47056B-176A-4106-8209-A6ADBDED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932586-D480-4DA2-8960-B6B7D5B9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F2FFBB-FC50-40C6-8E59-695C6DFB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0A340B-CDFA-47AE-AD57-FA34F702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92D96D-E5C8-495E-87D5-AFA8C578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EF1BA-E50F-4095-8BEB-51929314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3FDBC-5E71-4142-8CA5-6F325122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515AD7-757B-41A2-B3ED-3C656CDD9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85416D-3A94-46B3-9398-93D726F55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8EC2-D10D-4FD9-A957-32EE98CC5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FB73-01D2-49EA-8DD5-D705ED8D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8536-AD3D-4EA2-82E9-71809EA1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DBA5-31FF-4B94-9040-573D404C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C46C-0C92-4549-B07F-5792C951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B8B7-DE44-420F-A463-771C0574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0BD4-F127-4AD8-B9EA-FBDF165C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FC91-07F5-4AC6-AE4C-BE7E2E96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E25C-19B4-46BB-B4F8-1B6CD3CB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2756-650B-4DFB-A080-3430390A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7C21-504D-4AD7-955E-C26C0FC7D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D865-CE15-404A-8955-798205E43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4827-DFD4-4E4C-990F-DE2B880DC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C561-8275-4577-B79F-DDAAEF5C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CEDF-3361-4CD9-B85C-65C8D126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555B-E8B5-4981-9247-26028BFC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5B5C-25BC-4874-82B8-52D1E616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5E37-91CA-4BB2-A518-CF65187A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32C8-68C4-4927-93C1-616770BF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B19C-748B-45CA-8F6B-A3167530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3EE1-B938-4EA5-B0AB-61450071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92F5-BB88-4143-BB3B-36C0AC5E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1564-8E8C-4A9D-A26D-61B0A0DC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46D7-0FA5-439E-A740-DBC5F6455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F2A18-C09A-47FA-A6C7-2430F4AA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414C4-9F83-48A2-A213-BDDF2440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533C0-B93D-44AA-ACD1-FEDE2137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737B7-E488-468E-A4A9-3BC70E19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30552-CC3C-47DB-996B-E384FBD9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47192-0C89-49D3-9DCE-CA6CBB63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8CDEC-BB1A-4DA7-A12F-D7C6B4C0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59EBD-EFF2-4FEB-B4B2-F416CF40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C399B-B58B-4CD9-AA7C-70FA8713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A2643-0971-466A-9B18-F2F82FED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E032B-0AF7-41C2-A0C1-B7DA4A8C5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EA492-0BEF-4F10-9024-3D99745CA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BB4F8-D2B9-4A21-80CE-8CD182A71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CDC92-0A11-4903-AAC1-30B4C41D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E1BDC-AE3F-4EC8-B928-353B90D6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B6CFC-9828-4381-8519-9656FEEE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86251-1F70-4709-AFDD-34A34EB5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76D23-2CE2-448A-A33B-1E3B4660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56A5D-8E93-49DB-BED5-7FF02C72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F876B-AB76-401C-AC88-3FC6330C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F48C5-A3AB-4F34-B956-58703FA5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1FE7F-4A8B-4404-9932-70ADA011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E2508-1320-4DCB-8A0E-B98F05EF3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2F15C-3772-480F-ABEE-ED65016B7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FC3B2-6E94-4A42-86DA-938624D7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B7CD3-5EAE-4B52-A734-B82D9B95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6E6A8-191C-4BAA-AA8D-F8ABDEF8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55095-378A-494A-A029-9C19C577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25160-9751-435F-9DD4-88A60625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3B81F-490F-4677-A1C2-86098F43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F24D7-595B-473C-80D5-1F14C896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3E378-9765-4DCA-9758-3FB9D52E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D109C-FB77-4C5D-91C5-271FA6CE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A0556-53E3-4213-803C-9F76622F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902DF-C1F6-4FFE-B3FE-55C036814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1FB60-B24D-4AA3-A07F-CACDFF132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DEC10-1579-4436-B3CF-B73ED5E5F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887D4-616B-4A37-ACF7-9FA72DE8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9CA51-32C8-4BAA-B097-99FBFFB5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07C91-7BBE-443B-8F4E-75479CE5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0E254-FE83-42B2-AC47-B6CB28D3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8DD4C-767E-45F8-8A85-C0702B82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907CE-E3A7-4386-A156-A2B5467B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42660-D291-4861-B4C5-A86E642E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CDB92-D3FF-498A-B0FB-402B815F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D36BA-39D9-4626-B55C-6D1A133C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BC56A-F94E-42C1-937B-051649BE0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5E7E0-62B4-4E60-9BEA-0F24C72CA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6236A-2483-42AC-8D81-73F0FD57C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7841A-48EB-468F-B516-AF7BCE9F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67799-E2F5-479F-B58B-1B8DABAB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9063-F263-4DD0-9653-082292EFEBA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FC52-CE81-4DBB-BA38-F726B519EA0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7E82-0FDE-41AB-9DB7-C06348845EA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marrom.png"/>
          <p:cNvPicPr/>
          <p:nvPr/>
        </p:nvPicPr>
        <p:blipFill>
          <a:blip r:embed="rId4"/>
          <a:stretch/>
        </p:blipFill>
        <p:spPr>
          <a:xfrm>
            <a:off x="-11160" y="1539720"/>
            <a:ext cx="9144000" cy="139572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7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74807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11D5-57E0-4D85-AEDE-827A9FBCDF1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8A84-C3E0-4B5D-8D23-E0A757D0BAB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7A68-2CFF-483A-AB24-8C40BB1FE5B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7A1F-9D3D-4E1D-BCD0-74FEB009973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5EB4-8B3F-447E-A3E2-07998EEAD1A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D1A8-D21B-433B-AF4F-AF7140A2F52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9AC0-B7F7-4C45-817C-584D94BF5F9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barra-marrom.png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1160" y="1539720"/>
            <a:ext cx="9144000" cy="139572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d0d0d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7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74807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2736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Logís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C:\Documents and Settings\Marcelo.Raimo\Desktop\pps\tarjas\tarja-marrom.png"/>
          <p:cNvPicPr/>
          <p:nvPr/>
        </p:nvPicPr>
        <p:blipFill>
          <a:blip r:embed="rId1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C:\Documents and Settings\Marcelo.Raimo\Desktop\pps\tarjas\barra-marrom.png"/>
          <p:cNvPicPr/>
          <p:nvPr/>
        </p:nvPicPr>
        <p:blipFill>
          <a:blip r:embed="rId2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468360" y="1197000"/>
            <a:ext cx="79214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Teoria Geral dos Sist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Sistemas de Informação baseado em compu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Internet, extranet e intr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A Empresa como Sistema Aber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10253f"/>
                </a:solidFill>
                <a:latin typeface="Calibri"/>
              </a:rPr>
              <a:t>- Software</a:t>
            </a: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 e </a:t>
            </a:r>
            <a:r>
              <a:rPr b="0" i="1" lang="pt-BR" sz="2800" spc="-1" strike="noStrike">
                <a:solidFill>
                  <a:srgbClr val="10253f"/>
                </a:solidFill>
                <a:latin typeface="Calibri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Telecomunicaçõ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Rede de Compu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Elipse 7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aixaDeTexto 8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CaixaDeTexto 9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0:44Z</dcterms:created>
  <dc:creator>marcelo.raimo</dc:creator>
  <dc:description/>
  <dc:language>en-US</dc:language>
  <cp:lastModifiedBy>marcelo.raimo</cp:lastModifiedBy>
  <dcterms:modified xsi:type="dcterms:W3CDTF">2011-04-19T19:03:35Z</dcterms:modified>
  <cp:revision>4</cp:revision>
  <dc:subject/>
  <dc:title>Slide 1</dc:title>
</cp:coreProperties>
</file>