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2F4BE-8084-4363-B070-F577E4189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5EAC1A-89E8-4C51-998E-473649B6B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6CDC6-FD29-450C-9C53-D20167E0D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A1582-FBB2-412D-A803-6B3172CA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71C79-D6B7-4E3B-BBFB-062C1BD0B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30CF4C-D71E-4744-B8C3-5F277143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F8106-46AA-4A36-A694-A2CBA46BC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5502C-6B80-4695-ADD1-222279871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EF6D1-0D29-44F4-A0A3-B1ADBF828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85E2D-B804-4381-BCDF-1F6F20A93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0E060A-C7A2-45B4-B812-69F32096E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F7554B-781C-4763-AA89-99F5CB018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74E195-95B8-4BF5-808D-1033E6B82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63548F-FCFD-4AF4-ADEF-ABB5FC98F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48511E-6B40-40B6-B1E3-8081C0115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EC0827-06C1-49AF-A13B-916D617C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4460C3-293F-49C2-ABFD-750A3628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1AB21F-CC78-4D83-9669-ABDC4332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116CC4-6B76-46DC-8D8A-EAEEC9087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19880B-126F-40FD-A550-6C773E0A8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66FEA-4C18-458A-8FDF-D7A01F914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475A0A-45BE-486B-8681-E2644035E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9D2D56-AC6A-4843-97C5-251C516C3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BE7DA8-90C7-45DE-89E7-B63ACA193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F92A58-1CD0-4B2D-AEC9-0019E8E16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DC181C-CC81-49A6-9516-68BEC97D1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D520BE-C3C1-44B1-9C6B-EC028BC7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7DCA2F-62CB-4346-9758-51680551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898AD2-193A-4DAE-8FD8-5BE38C45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566E93-0CA2-44CD-9D00-2C7598DB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2758C6-5A05-467A-8D6E-099F1ACA3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9CE054-52B6-42B9-95DE-F5FE22AB3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D66682-9DFF-44D1-9804-B4744AC43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1CFBF3-5DEF-4B8C-951A-1DF72C47F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BB6AAE-1721-48BB-B745-152461C3D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A00959-FC45-4CB6-B2A1-1512118FB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8F13C9-AFC1-409C-9EC9-36EA60D93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FC9C44-DFC2-4E0B-BB75-A601C34F9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615540-CA8A-4012-BC9C-150FC819C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8D21F3-3EA4-4C06-BC96-60838724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31E5F2-F028-414D-92D5-BC71A84D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11673D-C6B6-4C49-87F5-2651A97D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693624-22E6-4D55-BBDA-660F194D2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5F2874-ABC7-4ADB-81E0-BEF4E7F6D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467D30-C21B-43BE-8641-A4CFE6D06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4CFA-5D69-4A62-B69F-612A10212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7685-18B9-4F2C-8E59-2FAABF9F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C4ED-07CA-4A2B-AA95-CE4785DE4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6646-0B3F-4515-96BC-4011F356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0DA5-3734-4E7B-9DAE-D8B8AFDF1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FDD2-6A99-4618-BF5B-A2B643486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58EA-D67D-4FE5-9255-1F0C0368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52C9-C371-4679-8C3F-8450B682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07EA-444A-4806-B5EB-B41A17B9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A6A6-E1F8-4175-92C5-0404132C6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F237-6D81-47E7-9913-04A9C8FCE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49AD-E51B-47D9-B335-667D7770B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736E0-41E3-47B7-A3F1-F286F18AA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5F58C-F76C-47D5-ACBE-3169A247F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E86C1-0B93-4536-B988-3A63C235B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F924A-3282-46E0-A097-DFFBBCF17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88F37-8854-408D-93F1-0BA6CFD93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B3731-A6D7-4F1E-B8DD-40DEC0241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332AA-CCEA-4DA5-99DE-A8A7664B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EEE9E-6927-4118-94FA-CEE4197D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C3CEB-AA6C-479A-B10E-E88634AD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16445-7E1D-498F-B215-CDCD37F94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650A7-ECA3-4D05-A06D-7E44D0996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69D75-573B-4031-8602-14D2D08B7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08968-E76C-45DF-917C-B846E7304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F55A9-DE9D-45FD-BDE5-17AFBCE28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79671-8106-420B-AD6C-346B6B16B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37E8B-D7AA-4850-AF55-8E4A2CF3E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58D81-7D72-431A-96BF-0F236533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EDC49-6575-41AF-AB3A-D36F2BA1B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665FE-F0F1-4B0F-89EA-8B742D36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F577D-429A-4593-AC60-FCF8EFE2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2B877-6005-4963-BA12-8D2F24DF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24BB9-E1E4-4892-ABD1-45E6C2FF9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ED9ED-1F2A-4E66-A67C-90612806C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4F9AF-B5CF-4768-A3DC-B39DCFAE4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9C95D-BBBC-4820-9937-436A7AE0F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B7CDC-F543-4240-8EB9-347643F88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7B481-A689-4BB0-A672-4051AFB91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61994-D7FE-403D-86D8-AD6A0E3B5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E29E2-3F97-4AF4-BE80-9AFD46E21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558E6-894B-494C-8D33-9FD352AAB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1AE2B-F45B-4C69-83FF-9C4B876F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00A78-BF33-498F-AE9D-8AECCA62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151C7-DE38-4259-975B-FE671DE3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5FF49-8FF6-4181-A1A7-C04A52FE4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57FEE-B872-4475-9B84-AE2977D2E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DC792-9F0B-4F60-BAAC-5D71B801D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9E710-BC09-488E-9503-EAC578971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26FBA-DD9B-404C-9E5E-88659B7C0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B1747-A170-4607-B045-D1FDA981F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421DD-F309-44B1-B34F-006687366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8FF5D-43D5-45DE-9AF1-4521030AD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40D6E-3A07-48B1-B57D-AD3226675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BAF68-FDDD-4041-833E-904C73CF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5F7E9-BA0E-4B75-B5DA-AA81B0FB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4B6C6-7B88-4FF5-9B4D-82A037D6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836E2-EDEC-485F-9FB1-0517D120F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C9D37-9CFF-4DB2-A75E-C0E2E4B10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D4727-B252-4097-B775-D459C6C8D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BF82D-A9AE-4B3F-B01F-9F302C0B4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AA2E05-96D2-4822-A28E-A096BE7C7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7E276C-0B96-48D0-831C-9EEE4AF0F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9818A-DBBB-40F2-907F-5C72767D9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C8627-F1F8-40D2-B215-DE417C22B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55D7E-7595-4373-AA31-BB3CFC24D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E2C22-4727-489F-ABDD-ECC43844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6EF97F-EA40-4A40-8F0C-888648DF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CAFED-FF32-4F13-9CBD-5FDF5929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150902-4EAA-4F5B-A2ED-E9230956A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61546-458C-43BC-ABB3-75E63FCA6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C5200-E334-4699-9090-D80206AAC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B3A74-75FA-48F4-A53F-E286F7A6F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3D8CFF-686F-4D2E-8BAB-BDD629852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089D03-DD7F-4A08-B24C-01261AD76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58854-AC69-488E-904C-A6F8B49E2BB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28B06-8DD3-4C0A-A4B5-C5C8546CA49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B69BF-B6B8-4AC3-9D43-0B8ED46807BC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2" descr="C:\Documents and Settings\Marcelo.Raimo\Desktop\pps\tarjas\tarja-marrom.png"/>
          <p:cNvPicPr/>
          <p:nvPr/>
        </p:nvPicPr>
        <p:blipFill>
          <a:blip r:embed="rId4"/>
          <a:stretch/>
        </p:blipFill>
        <p:spPr>
          <a:xfrm>
            <a:off x="-11160" y="1539720"/>
            <a:ext cx="9144000" cy="139572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97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974807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ACA0C-B02C-4B92-9409-A4015974296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64874-3768-4B6D-9F8B-1F27F2D00FA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808D8-620D-48E7-AA92-89DDDCDEE36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33422-DC08-46F1-9838-A0943CFB088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64AC6-EEC8-43B9-B95D-11E19797D324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950D8-C004-478B-9611-D620C2EE1D7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03D6C-B383-43F4-81B8-27B0B77A11BC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3" descr="C:\Documents and Settings\Marcelo.Raimo\Desktop\pps\tarjas\barra-marrom.png"/>
          <p:cNvPicPr/>
          <p:nvPr/>
        </p:nvPicPr>
        <p:blipFill>
          <a:blip r:embed="rId1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1160" y="1539720"/>
            <a:ext cx="9144000" cy="1395720"/>
          </a:xfrm>
          <a:prstGeom prst="rect">
            <a:avLst/>
          </a:prstGeom>
          <a:ln w="0">
            <a:noFill/>
          </a:ln>
        </p:spPr>
      </p:pic>
      <p:sp>
        <p:nvSpPr>
          <p:cNvPr id="493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d0d0d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97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974807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351000" y="1827360"/>
            <a:ext cx="69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Logís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2" descr="C:\Documents and Settings\Marcelo.Raimo\Desktop\pps\tarjas\tarja-marrom.png"/>
          <p:cNvPicPr/>
          <p:nvPr/>
        </p:nvPicPr>
        <p:blipFill>
          <a:blip r:embed="rId1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3" descr="C:\Documents and Settings\Marcelo.Raimo\Desktop\pps\tarjas\barra-marrom.png"/>
          <p:cNvPicPr/>
          <p:nvPr/>
        </p:nvPicPr>
        <p:blipFill>
          <a:blip r:embed="rId2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503" name="CaixaDeTexto 8"/>
          <p:cNvSpPr/>
          <p:nvPr/>
        </p:nvSpPr>
        <p:spPr>
          <a:xfrm>
            <a:off x="395280" y="34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Objetivos da A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5"/>
          <p:cNvSpPr/>
          <p:nvPr/>
        </p:nvSpPr>
        <p:spPr>
          <a:xfrm>
            <a:off x="468360" y="1197000"/>
            <a:ext cx="79214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Teoria Geral dos Siste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Sistemas de Informação baseado em comput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Internet, extranet e intra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A Empresa como Sistema Aber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10253f"/>
                </a:solidFill>
                <a:latin typeface="Calibri"/>
              </a:rPr>
              <a:t>- Software</a:t>
            </a: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 e </a:t>
            </a:r>
            <a:r>
              <a:rPr b="0" i="1" lang="pt-BR" sz="2800" spc="-1" strike="noStrike">
                <a:solidFill>
                  <a:srgbClr val="10253f"/>
                </a:solidFill>
                <a:latin typeface="Calibri"/>
              </a:rPr>
              <a:t>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Telecomunicaçõ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Rede de Comput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Elipse 7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CaixaDeTexto 8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CaixaDeTexto 9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30:44Z</dcterms:created>
  <dc:creator>marcelo.raimo</dc:creator>
  <dc:description/>
  <dc:language>en-US</dc:language>
  <cp:lastModifiedBy>marcelo.raimo</cp:lastModifiedBy>
  <dcterms:modified xsi:type="dcterms:W3CDTF">2011-04-19T19:03:35Z</dcterms:modified>
  <cp:revision>4</cp:revision>
  <dc:subject/>
  <dc:title>Slide 1</dc:title>
</cp:coreProperties>
</file>