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50F19-CF04-4618-BB2B-87A44E15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408EC-8BCC-4872-9AED-2CBC025F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EB20D-A393-44F2-8327-4FD57F3A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621A7-AF41-4C95-8BE1-69096CCA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D1EA-5FFB-423C-895E-5EEFA3D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98CE0-FD9B-4279-8F74-9C6440D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FD7C6-F7D8-4761-A592-287941E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3388-2F30-4037-8D25-14E3DDC4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785A4-FF2D-4222-91C2-1029E7FD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A563E-77CB-4384-9B8D-9880DD6C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8011F-FE79-40EA-91DD-FE7B2C7A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CC326-B079-4E0A-B5C7-DF19EF44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EEABB-6CE9-499F-854D-0560CDD1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E29FC-2D43-4E42-8E57-1D6C5D3C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BB7AB-E4F7-41A4-B282-0E74A18D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A3235-49C1-47B7-9650-3D344B28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9145C-A3B2-4341-B982-A479C1EA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C63A6-40D4-4772-98C4-A86BA6D7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5D451-2CE0-4EE8-9566-8BD2CF96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B4481-4BD8-4673-B346-CF2C479E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085D8-6A29-4E4D-82D8-38DC53AD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D827B-94EE-4DF2-AAC3-771B3192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9EFDD-1E95-4279-ACB7-4F797BDF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17136-B6CB-4DA8-AA75-C332CCD1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8F098-ACA4-4932-9742-F853078B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58A28-F716-4C85-94FB-274F91C8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33722-097B-43FE-9E4E-D837D550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9E33C-0D79-48BE-8EE5-4C6107E1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68D9E-B950-4396-9FD1-8D529578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523BC-707E-4DAE-856B-1CD7A87C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CF217-7D6E-4770-8ABE-92B0C13D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3B3F3-1218-447D-ADC0-5D2A99B6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7DEA9-6AE3-47A1-89D6-61EA13FE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29476-5B6A-4E46-BE40-9090C515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9D552-32B3-45D9-8CCC-CFD31873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093E7-C3DC-4C2D-8B4C-C74B3EE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466A3-2B43-41AB-A996-B8C5B425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54DF1-4A9B-466D-B53D-B3765204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4F113-B4BA-4B6E-A727-3B3B813F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BBA22-0FCF-4649-B21B-F12F9A57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5ABDB-AD52-4919-BF84-28474FC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1327D-BD5F-46E4-B43C-522F9B9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CF681-03A4-4079-B2BF-2B95DDA3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6C40-A4E4-4704-B753-F6C10167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57414-72EC-4C47-8520-DFB89BE2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2E7-52E9-4CA2-9DEB-6BFCBA37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ADC-EC4B-43C5-ABD2-CF858144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2AB-42F2-4257-B707-C3985D60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AF5-E808-4D87-A43D-BF2F56EA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882-6223-42E6-92A5-06CBC7D7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734-3E99-4935-9CF4-CE7E7BA7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723-342F-4D3B-9C54-65B4643C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112-24BE-4F39-A644-685F8F0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391-6A29-466E-843F-49583B2F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0B9-96AA-4306-98BF-8425A07A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17C-97EA-4593-B65F-2A5553F9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65D-8560-4BAA-8D6D-123D02FA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ABF-BC74-49CD-9759-12E80F0F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93DB-DE5C-4BB1-B2EF-F9E6B966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A090-83AC-4184-9D47-FC6A47B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3AE9-0A4B-434A-8D6B-41029EBB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7A40-6CD9-4C3D-BF17-EDBE244E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54C1-0C7A-4048-BBBE-61042E6F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B585-DEC4-4192-98B0-9CDF7DAC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DB80-1A84-409A-98F2-7C798BD6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4A1E-13C3-4557-8BFC-2869CC8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ECC0-A7CA-49C6-A10A-0E78083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6D6-3042-4E00-8155-0087D29D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10F-0F97-4FDE-923A-125AED85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63AE-131F-4093-A4E8-20156E22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9BA4-F186-4DA4-BF0B-2063643F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148E7-B80D-4AAA-8729-C223D99D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1986-8416-4A8E-93CE-B643FC42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86EF-68A8-4952-8C38-B6DF360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7B080-1BBA-4ADE-9F62-172A3A9F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835D-C125-44A6-99D3-963A1FE6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CAFB-4114-47D3-9F0A-3D0C476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12DA-FB63-4E43-8621-67130E01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BB1DD-6798-4AB1-910D-42D4BA9D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7457A-D248-42E8-95E1-264E029D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2B0F-4C74-4DF0-A380-29E6C48F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BA4B3-A2CF-4B82-8AC7-3FADAC66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35FA-8C65-4F60-AC3A-3C58EBA8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62FA-6563-4EF3-9296-02176C07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10F2-7F9B-4BD0-9498-7F88C500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91C9E-5F18-4547-8E8D-42283FDE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C719A-F1C0-437C-89BD-D7F3D3C8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BD95-ABA5-4629-9A28-32B52F0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A5C7D-ACD1-448C-A021-EE9E1D7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05B9-10DE-4B6E-96A6-C57DCA1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A5B63-E48F-4A8A-8766-6BBA04D5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6B4D6-55C9-41AE-A42D-BF5FAF5F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E2FB-C820-4BE4-B17A-2C1D6006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0589-8781-4617-AE67-F738031A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B10B5-2508-4835-B481-1BC30C35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C09C-BEDD-4461-BB31-C9C0EA99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2D27C-27BD-4A05-AB82-8598BECA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68A15-7E10-4662-93C7-A0C82F2E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B43FD-FE37-4519-9939-B1CD80C4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74C6B-C38A-4F34-9663-07823DE7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8E6C-9510-4B7C-B807-7BB70A19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2D647-EF0F-4DEF-82B3-6B9BE56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9D196-3D59-4044-AD25-3CDEE7AA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189F-39FE-42B8-8949-E5EB5D0A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C40A-1497-4ABE-B1F8-8B43101E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3557A-A484-4035-AC49-B03024C1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1FA11-C562-4404-B591-622103E8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994D9-FE83-4D0B-97D9-EA90A720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5BE5E-A9CC-4B26-82B2-C114EF7E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C262B-1130-4E10-80A9-22371D70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47260-83F9-4D3A-981A-41687D86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3AD91-68A8-4B17-B898-31CBAAF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4415E-0A02-4CA0-A0B4-69FC10D0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C260A-37E6-4321-9DDC-619B0F1B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6C4DD-D91C-4B5D-8742-EF884955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E7EA0-90BA-4D88-87A5-EBAC1555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1E8EF-263D-4CA1-9FD0-A4C6C91D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642F-B331-4F86-B8C9-D6097D10C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73C9B-C1B8-4FF8-A00B-2197B9C1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4CA94-51EB-4CB6-9795-36C10B09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8B2D-6535-4D03-8DEA-CF9F8BD5D11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0D7-FE49-4F35-A081-AF630B452CC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4497-1C50-4B89-A012-7C1E9699143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laranja.png"/>
          <p:cNvPicPr/>
          <p:nvPr/>
        </p:nvPicPr>
        <p:blipFill>
          <a:blip r:embed="rId4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3A3C-8D35-464A-8FAF-C87BDD81845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BD5-36F7-45D1-8844-7E12B057453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05EF-3B20-4F4D-BA95-8F74DF0ECF6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20DE-64A1-4382-9333-D4EC69FC030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A781-20D8-4333-B448-92E9951F5FB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E5BD-A1B0-4F70-BA3B-BFF750D7722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laranja.png"/>
          <p:cNvPicPr/>
          <p:nvPr/>
        </p:nvPicPr>
        <p:blipFill>
          <a:blip r:embed="rId2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LARANJA.png"/>
          <p:cNvPicPr/>
          <p:nvPr/>
        </p:nvPicPr>
        <p:blipFill>
          <a:blip r:embed="rId3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B979-4A34-4BA8-8700-B016BE00293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138240" y="1484280"/>
            <a:ext cx="9426600" cy="1440000"/>
          </a:xfrm>
          <a:prstGeom prst="rect">
            <a:avLst/>
          </a:prstGeom>
          <a:ln w="0">
            <a:noFill/>
          </a:ln>
        </p:spPr>
      </p:pic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tângulo 12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8a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14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7923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49320"/>
            <a:ext cx="554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Calibri"/>
              </a:rPr>
              <a:t>Teolog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8" name="Elipse 17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8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9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laranja.png"/>
          <p:cNvPicPr/>
          <p:nvPr/>
        </p:nvPicPr>
        <p:blipFill>
          <a:blip r:embed="rId1"/>
          <a:stretch/>
        </p:blipFill>
        <p:spPr>
          <a:xfrm>
            <a:off x="-228600" y="6324480"/>
            <a:ext cx="9615600" cy="1470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LARANJA.png"/>
          <p:cNvPicPr/>
          <p:nvPr/>
        </p:nvPicPr>
        <p:blipFill>
          <a:blip r:embed="rId2"/>
          <a:stretch/>
        </p:blipFill>
        <p:spPr>
          <a:xfrm>
            <a:off x="0" y="-11124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9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10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1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2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9:15Z</dcterms:created>
  <dc:creator>marcelo.raimo</dc:creator>
  <dc:description/>
  <dc:language>en-US</dc:language>
  <cp:lastModifiedBy>marcelo.raimo</cp:lastModifiedBy>
  <dcterms:modified xsi:type="dcterms:W3CDTF">2011-04-19T18:59:19Z</dcterms:modified>
  <cp:revision>2</cp:revision>
  <dc:subject/>
  <dc:title>Slide 1</dc:title>
</cp:coreProperties>
</file>