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8B2B1-E6E8-4CA9-9ED8-9D8F448B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CA5DD-D9F8-459A-B62D-0CD881C3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3E032-4E42-4ECC-A28F-5E11BF94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D50A3-4AE4-48D0-8D08-4B7482F5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D8DAD-95E4-43B1-B131-92C84072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72849-5977-45DF-A338-45DAF36B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76E86-BEE8-4F94-B94C-5BEDCACC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95B84-AEDF-4375-9430-2A9E81EFC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608EA-FEAA-4120-B546-F9877DE3B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30E21-0CB4-407C-AEE5-A8C725F11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34329-B428-4FF7-92EA-3336B850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1E2B6-3693-4560-840D-C02789D6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125BC-AAFE-4AF0-911C-2F45A3F6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C843A-6D23-4112-B846-9C205756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894FA-DAE1-4095-81A4-39EC4393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809BF-BC36-4CFC-BC96-4B3866F3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8E2B3-26A5-4CE0-B282-0266C8D6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87665-2127-49FE-9698-5C1D53F8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84AE1-8FB2-410B-B6A7-C16696B8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C3DBF-98E1-405C-89F7-4BFB67928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99CEA-EEA7-41EC-9EA7-943D6118C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03340-8558-452A-A086-D7204B4DB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E78D29-DDD5-4834-A952-C9B3CBF7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27B5F9-B48D-4D77-B094-E8D55E2D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24D56C-9288-4C16-B281-456AA6C4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EC11B1-A7FE-40C5-BDBE-84668324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2C2D0-F966-4196-A9F2-50F97323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32728A-CB4C-46E0-8B1F-7F3DFC6F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B83E67-7F40-4D01-9A32-6D93C574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252B13-C6FB-4FE8-AE99-BA5C038F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BAAB30-7DD8-4045-BBEF-15FFDF30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766AC-ABF7-4BB0-BD51-24C7DF3D2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E482C4-CA6C-4F79-B0C2-48E6147EC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FCDF3F-2637-47AE-BE48-6AC00363C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57169C-C390-4436-A229-A4B26870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FE0CFC-BC89-4065-BBC6-7757ABF9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E37542-0B07-487C-980F-9FDF0CCC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FA10CE-54A3-4642-AD15-AE49471F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C7530A-441F-4B48-9B4A-0E4C97CE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04EB3D-F5F8-4B5E-BED6-1E16D74D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19022-BAE1-4115-A12A-5E569AE7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8180C-AD41-4C94-84A1-2595BF6A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47874-CC24-45A2-BA2C-C060EC18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814596-54C1-4914-977D-9A9424D8A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D4AEC-C3BB-4E83-81DC-5D3CB6733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9E19-8593-469A-8737-6CFC740E6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8DBC-3537-442A-B68B-DDD753AF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8275-713C-442F-8134-0FC694A3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45C1-5305-4024-9BF7-25750E92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55F0-12BB-4F24-8DFE-DCE7EA13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0E33-6766-41A7-A297-D2E77C45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3487-46C9-4DFB-89D2-78A59DFB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4833-EA51-4226-90E5-E4DD8B50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7FCB-4346-4694-81E6-5BFC65F1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1452-51FD-44E2-907D-71C26524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4328-4C7F-4F7E-96DB-0BE7057A0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F8C6-AB90-4859-AD47-4BDD98890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4840-10B7-407D-B0FC-61FAD7F28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EB2D-64D7-4804-A696-A8C0F4BC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87FD-75C4-4CC3-8234-D008946B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4A09-757B-47AF-9EA5-578EA6D0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C1F3-3743-4818-9E81-5FD27796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2D04-7712-4555-BCA3-71239D35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74BA-979C-4D39-BC1C-6DA72A88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C1F4-348C-4EC2-8D70-746A704C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B5C4-F439-41D6-9282-B603F0E7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FDB5-3D3D-4A1C-8637-03169CFB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FAE2-8569-4F48-9EF3-00A913044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60BB-9666-4191-9485-7B5B7354E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3CC6E-C99F-440F-920F-3F5975C81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6EC59-26D8-41DD-9413-36EE51A2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83A1B-1CF4-4EB1-BFA5-83B359C4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3191A-2DA7-4D6E-8777-B9AFF958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3AB0B-A2BE-4309-8ECF-2D31C600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3450E-0FA9-4E53-87D6-FA638630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B0663-8CF0-42ED-89C2-14CA91F8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D3A1D-6367-4085-8BA2-2524740A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EAEA1-EEFD-4913-91DD-41D1605F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56DA5-E12F-4A62-9C6C-93A8E3C4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63C65-59C6-4F24-B9DB-3CB1014BA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78267-8A71-4604-BB4C-D4A60C296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F8A9E-DD8F-4FC8-80A7-EE0209378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1EEEF-8F2C-45B1-BC79-EE2FF8DA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8E582-FC2E-4314-8ACA-ADE91877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569CA-2B97-441E-9559-D83B15C0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C1BE4-AE59-49CE-AD52-3AED339F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11456-DC3D-4D5A-81D8-6D72444E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5332B-C31D-426E-80AF-0976C924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813E1-DCBF-4DB9-9732-B9AAB403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66C07-1A71-4F43-BDBA-80774F58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1BF4F-12E4-47C1-AB5A-8A8B3211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52706-ADED-478B-82D3-CBFAE1416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73357-C947-41F6-B948-076E6FE2B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E614A-8D78-44A0-B395-B8638E783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AE6D6-D67C-4344-8929-F77B64B0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1DB97-0D7D-4901-B9A6-E6AD4914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FC15A-F77B-4159-B0FD-B89C20BB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CBBB3-2C23-4C2C-B141-9FB7BA71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4B299-1A85-4456-8A18-683A11E7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EEFC1-E698-422C-BDBB-02412C67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99021-9F77-48C2-A5F8-7C86F878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387B3-99A6-4CD6-BF2F-77AEAA31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67E5A-6C60-43A9-A81C-33949DFD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165EB-FAF5-42B9-9844-28060D4AE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B5D33-CDFC-44F4-B7A5-EFFDBCA81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B3A93-16D0-4A73-8623-3E1540965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3B0EE-6CC6-4083-9A33-78C96E0A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41F93-60BC-4DB5-B407-6ED5650D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DD8F4-3888-4C36-A063-C9A5FD88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890F9-2DCB-4ADA-AC14-43FF7E16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B015E-756B-44AB-A1CC-9CDAF3A5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C8743-C8FE-4B8A-9AB0-449A5B3C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AFB1F-3C2E-482E-949A-46C1F82B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CAA9D-9DBF-402A-A5D5-2BDCC72E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98A05-385D-4225-9898-CDE7522A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03203-6CEF-4626-B38C-E8F3150C1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FEB7C-2EE8-4413-A51F-D6A689DD1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75E95-3016-4B4A-9D2F-0C02481B6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D977D-4D40-43A3-8980-6CA1B8B6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4DCF2-0BEB-432C-B61A-16B66E24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35FC-3DF9-40D3-9859-0B6B48EE948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4533-4EEE-4517-A80F-E1C3523B101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3DFE-316A-4B8D-8B99-EAF908E71C8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laranja.png"/>
          <p:cNvPicPr/>
          <p:nvPr/>
        </p:nvPicPr>
        <p:blipFill>
          <a:blip r:embed="rId4"/>
          <a:stretch/>
        </p:blipFill>
        <p:spPr>
          <a:xfrm>
            <a:off x="-138240" y="1484280"/>
            <a:ext cx="9426600" cy="14400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8a1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7923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A66D-8D3D-4760-A5BE-24DD8BF2839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AA9B-2602-4C7A-91B5-1B4EF5FB0BE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7748-6713-4D09-A701-EFB83E3B1E5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A6CD-4575-4D2C-BBFB-123B7852D03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867F-0286-4117-9B7D-FF13F18CAD6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F78A-C54E-4CD9-9455-5535342519A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6400-93F5-414A-8345-2125E731950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C:\Documents and Settings\Marcelo.Raimo\Desktop\pps\tarjas\tarja-laranja.png"/>
          <p:cNvPicPr/>
          <p:nvPr/>
        </p:nvPicPr>
        <p:blipFill>
          <a:blip r:embed="rId1"/>
          <a:stretch/>
        </p:blipFill>
        <p:spPr>
          <a:xfrm>
            <a:off x="-138240" y="1484280"/>
            <a:ext cx="9426600" cy="1440000"/>
          </a:xfrm>
          <a:prstGeom prst="rect">
            <a:avLst/>
          </a:prstGeom>
          <a:ln w="0">
            <a:noFill/>
          </a:ln>
        </p:spPr>
      </p:pic>
      <p:sp>
        <p:nvSpPr>
          <p:cNvPr id="492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tângulo 12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8a1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tângulo 14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7923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ixaDeTexto 8"/>
          <p:cNvSpPr/>
          <p:nvPr/>
        </p:nvSpPr>
        <p:spPr>
          <a:xfrm>
            <a:off x="395280" y="1849320"/>
            <a:ext cx="5545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Calibri"/>
              </a:rPr>
              <a:t>Teolog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3" descr="C:\Documents and Settings\Marcelo.Raimo\Desktop\pps\tarjas\barra-LARANJA.png"/>
          <p:cNvPicPr/>
          <p:nvPr/>
        </p:nvPicPr>
        <p:blipFill>
          <a:blip r:embed="rId2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98" name="Elipse 17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8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9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C:\Documents and Settings\Marcelo.Raimo\Desktop\pps\tarjas\tarja-laranja.png"/>
          <p:cNvPicPr/>
          <p:nvPr/>
        </p:nvPicPr>
        <p:blipFill>
          <a:blip r:embed="rId1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C:\Documents and Settings\Marcelo.Raimo\Desktop\pps\tarjas\barra-LARANJA.png"/>
          <p:cNvPicPr/>
          <p:nvPr/>
        </p:nvPicPr>
        <p:blipFill>
          <a:blip r:embed="rId2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26920" y="1981080"/>
            <a:ext cx="79218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9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10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1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2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19:15Z</dcterms:created>
  <dc:creator>marcelo.raimo</dc:creator>
  <dc:description/>
  <dc:language>en-US</dc:language>
  <cp:lastModifiedBy>marcelo.raimo</cp:lastModifiedBy>
  <dcterms:modified xsi:type="dcterms:W3CDTF">2011-04-19T18:59:19Z</dcterms:modified>
  <cp:revision>2</cp:revision>
  <dc:subject/>
  <dc:title>Slide 1</dc:title>
</cp:coreProperties>
</file>