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B0E2B-9BA5-4996-8B11-3C61503D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18594-AA7C-4583-942F-27B580F7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FBBC6-0C9D-49AC-A1CF-06347B0C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C4FCF-D8EB-4B44-A059-099F5456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B850B-A289-409E-B56D-DF2BFEB2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2B560-0C0D-48F6-B71A-CE779EA0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E2F6C-1305-472D-B331-3D4B48F9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C24B4-2CBE-4C41-9D8D-34EEFD2F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1E54A-3883-4E87-ABD9-AAA93135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7750D-4DD6-49C6-BB25-D5408ABF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17593-7CA7-4F50-84C9-8D2C5C5D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C97C5-80CC-4CA7-84D4-059040A5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1D760-5EB3-4F21-B73C-D7F226FA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50684-EFD1-474A-A901-45DDF6E7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2410F-43A0-4E81-88C5-86D9A3BF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F430C-9D4D-41EB-9E76-D67B4F10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634B7-51F6-462C-A237-484B5149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74C40-6FF9-4CA9-968E-B484719B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3EFC1-87FE-4B8B-B5FF-C1FB752D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58CEE-9E47-4E4F-9966-4533B494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F5423-2DBA-4DD1-A02B-FE092139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07A1C-B627-4627-9AF5-C2BE1262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DA77A-8F4A-473A-9E48-8165D035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500E3-D77B-455E-8EFD-57F1E291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F954E-B011-4A0F-BC14-CB3DAFEB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439C2-4AB2-42F5-B122-EDCEF607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63944-A8CF-4BCF-8F4A-D1C5B308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54A13-151E-4906-A575-B5C1FB63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82B99-F24A-4DB2-9AC8-1E1D6D2D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46C10-C0B7-46BD-9D3E-56A4C3B8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DD4F3-A70F-41C6-97A4-59D324F9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0D484-8C96-4B76-8CEF-5A02C83D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58AA1-1812-41C4-82D8-31D8819A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010A6-0BFD-41AD-A50E-33A1542F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2FAA7-5FF0-468F-9101-2B4EB17E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BAA59-9EBA-4772-8BA6-B36C54C1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FFB85-CC41-4CE0-9E95-B1460D10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23955-758B-48B4-9FC0-0944F62C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999CE-A389-4005-AA80-6117832B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72F23-67BF-43B5-9E61-45CBEC8F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F86AD-3B94-49EF-801F-12C1F0D0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605F1-BAAA-4DA9-9374-6F7BF2CF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A1134-1CE1-474E-BB41-29B55CB7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D0867-524E-4DB8-98D6-81BD48A8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867F7-EE45-4147-99BA-7DB4FC6B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251F-0A1A-4829-802A-CFD47F82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6D02-AAD5-4D49-A66C-77F12C5C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70D-B709-4222-8A3C-0C8991BE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6599-3882-4721-86F2-9BEB3ACC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407-7057-4889-BFB1-EF76FB95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148-98EC-47FF-A0DF-E3310947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960-4DD3-4983-AAE0-A7FCB4DD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DDE-AC95-4AC6-84E3-62E0E28A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ACE-EA0E-4DED-9A0A-0AB24A2F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54F-A364-4127-8505-AFBB76E2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03A-ACFD-4B3C-B5C4-104D39A6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1966-0D9A-41FD-9C9A-EB09BCB3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8BF7-EB9C-4B67-AC47-93DB537C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C5E8-B10B-46E9-BE14-3950EA05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063B-A4A8-4FA9-A06C-EE144156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ED56-7896-461F-98B5-E8E6C6BF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8E23-58FD-4D20-9CC9-AE458B65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0D8C-89E3-448F-97EC-EB80B42C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B295-2E09-4FBB-AA17-C6FD288B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EBB9-B536-4BCF-A48D-9C39BE6A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CF13-CFBC-4078-82B2-8DBA22B3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2CE4-5C47-41AB-A8F7-BE0110E0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1218-9BAB-46D0-80E2-287FCF94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70FD-0F3D-4779-9D06-42ECCC07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602CA-345B-4201-AA4F-00070E8A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9C8F1-1A62-4BBC-AA20-D18EB5D9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DDE0D-D764-4272-984E-9FCE2B43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1F8C3-4ED0-48EB-8C26-C5E0E98A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3A7B6-9F6A-4C3C-8DBA-8A68307A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B7D2C-44CA-4363-9044-909B0A37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F8349-2178-4DF6-8E0F-35DCC822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3C2D2-0D66-4C8F-9BCF-BE07D62A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3DFB6-8A2F-4711-A7E5-B3B3F0C5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EE18D-2EAF-4E18-93E0-AA7E7C43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84270-6F80-45E5-8292-984D8BE2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916BD-4A9A-4F55-B152-2B73E2B1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D1593-F9CF-4A5B-952D-1753DFEE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3E6D0-6B02-4550-AA84-0B3A5A4B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17E91-5536-47F0-B8AD-8E82FC48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C4C3A-805F-462B-BAB8-1CEF2C3B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71D4B-E5C1-4BFC-8088-9B0C5EB6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FCF1D-BD5C-4CD9-8A3B-8FE89F6C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B0B20-AC34-4C0E-9847-4B8BAF01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113AE-6A42-45E6-8A71-9285D486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E02D6-7D18-4715-B1F8-2181DB00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734D1-8257-41F2-B1A4-AA3D2AA3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781FD-A3E3-4452-BD1A-BB98AB50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E153D-5BCE-43CD-B34A-A681EB1A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F8F3C-073F-44B5-A39B-73F6B639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CB8EC-3C00-4052-A64A-6B196094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70934-8D4E-4423-B8B3-20371841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0B35A-795B-4B95-9434-D1D0345C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82A3B-72DC-49F6-B5AE-9F8807D8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21077-2D8A-42A5-B414-719FC607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D0ECB-C24C-4BE5-9271-65F1EFAA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A116E-06A1-400B-BE08-67415249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EB977-9806-4EBA-B767-0A3E5C63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83FEC-E91E-4EEE-A782-81FFBF99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5A4A9-8ACE-4179-9246-8C6E44AF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C0D0F-3BF7-4614-8612-B9C6A42A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6D166-19C0-46DA-8813-BA29456B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E6823-098F-4621-91A0-57325908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6B59B-2CDB-407C-8B88-C07A1AB1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2708A-D444-4AD5-85F8-952BDB49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A5884-EC08-47A4-B676-A2B37298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A5937-C655-427B-B129-CB986031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B881E-02E3-4C29-B560-C10ED86C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0B62A-B8B3-403A-B666-E8D20A81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1BAF4-F095-4805-88AC-8F7B715E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70FD0-850A-4A1A-BF68-8598FEB3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87CB1-92C2-47E8-83E4-A0F48F95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3A142-4C85-46A8-9735-16B9809F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868A6-6C12-49CD-98E8-0BE10FA0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2C2DF-E5F8-40F9-A70A-0D871F5B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12A57-4996-4581-B6E3-927349F6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3E06-63F6-40E4-BF2C-186CA1A9F96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9A84-BC1F-40E9-BE20-8B6779C583E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FEE1-EE47-41F6-B3B2-CC0C7D8ACA2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laranja.png"/>
          <p:cNvPicPr/>
          <p:nvPr/>
        </p:nvPicPr>
        <p:blipFill>
          <a:blip r:embed="rId4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E2BF-E55D-43FF-836A-F35A91FD53F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1FBD-FE8C-4BF6-BA69-6FA4831609C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54B5-834A-4F35-AA42-A4544E1A5F3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F8BA-1BB4-4C3C-A0B5-5EDE0EAB9CE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0A4B-AA73-4376-AF4A-F85595E21EE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506F-773A-4A0A-B9B0-00D78B31309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E800-4AD6-4F0A-A2AB-F5BB9CD37F1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tângulo 12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14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49320"/>
            <a:ext cx="554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Calibri"/>
              </a:rPr>
              <a:t>Teolog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8" name="Elipse 17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8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9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9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10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1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2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9:15Z</dcterms:created>
  <dc:creator>marcelo.raimo</dc:creator>
  <dc:description/>
  <dc:language>en-US</dc:language>
  <cp:lastModifiedBy>marcelo.raimo</cp:lastModifiedBy>
  <dcterms:modified xsi:type="dcterms:W3CDTF">2011-04-19T18:59:19Z</dcterms:modified>
  <cp:revision>2</cp:revision>
  <dc:subject/>
  <dc:title>Slide 1</dc:title>
</cp:coreProperties>
</file>