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742F0-DAC9-4121-B26F-2E022F7F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32B1B-86E6-485E-81AA-DD2B0865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D6742-C687-467E-8438-FA8863D2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8F17B-01C6-4BF6-AFD7-9488AC25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7BE31-C5A5-46D9-A9DA-45F6758E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52A17-8BCD-44E5-8121-D7B0352E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F0A3E-8578-45CC-97E9-CC53F296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81535-E4D2-46F7-BE44-95EA531A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826AC-74BC-4223-8E7E-57C6AD91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8621D-13AE-4314-958F-285B6A38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C8A4E-1EBB-4496-AE22-7009EAB4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E8802-C162-4A64-B5F0-9D014BD4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53AD2-D598-4DE6-B4B2-9FC1ED75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EFDD9-AE46-451E-8467-ABFCDC7D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C8F16-9507-4BDE-B543-DA798A9A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E5D85-7E34-427F-8CCC-CE495717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32441-8E63-42CF-80C1-ECCC7858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60A13-774A-41BD-B9C8-D7B1FE7A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589CD-CE01-40E8-B56A-40AEE4C6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2CDC1-30E3-4003-81D2-115C608E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37C84-917D-490F-A3AC-9927255F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67D87-68BA-42A6-AE39-87841447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83513-7DF0-4FEA-9716-3F18C794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DD0B1-83F1-4C76-92F9-B1A5304A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5BFF9-B8F4-4CE2-8294-6E784094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5F9DB-304A-4460-B55C-AAAD95C3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16221-CC50-42BE-92BA-4C298122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AB5C3-4009-4FF9-AA91-381929CC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96DF8-1E64-45BB-84C0-67A283C0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740F8-5393-43D3-8E2C-147A7456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D8B-81B3-4248-9D43-EE32FD1A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BE8D4-DC70-4F53-BFAE-F7968176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1EEFF-5C27-42DE-887A-1C1B8359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A3756-CFBC-4F71-9E31-5EFC75DE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B1825-99F6-4DCB-9B28-33C966C6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ACAB0-C698-41C3-8D11-FD4187A0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1A5A5-5945-48FA-AFE4-5E19D831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2625A-B6AE-4D22-B066-5B76E671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891E8-0E9F-407F-A059-4E4D1369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F8946-EECD-4D33-871D-B6FC2D17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56E78-DD0A-42AC-9285-382D998E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01E1-CC38-4245-8F9B-C9C3F2F0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CBC1E-6F16-4152-9289-4CC41FD2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1FB4F-7D63-4199-860A-74CDDEC9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B1862-4A83-4E60-9971-5F222DFB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7C322-45FD-43E4-986F-5AFEACC5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43C2B-9A81-46DA-9E4B-CB6CEA1D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5FEF0-F17B-4499-A469-645160D1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603DB-D0BA-4C0E-B595-3236F34F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99B14-6ED0-4441-A452-CD156FA2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4A1D8-12B3-4830-860F-74756A6F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3E64D-EBB8-4748-A45E-8C28FD8A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263F-2E0E-4085-9C9B-2E27449A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5C955-9685-4EB0-B48A-169D0C62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49AD8-CDE2-4C6D-9B65-240C087D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DF9D8-2B19-4DAE-A51C-4733CC23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6F9E1-C7FE-4433-8C30-124E7403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1D2FB-A24E-44BF-AB21-6B89AA8B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0AAE5-71B8-4ADF-BC3A-0E8CEDC6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615B4-F8F5-4431-B247-80C85584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09B-3D07-40A6-95DC-A2669F98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EE8-90DF-468B-9332-834D7E42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6C2D-C694-4B2A-9F08-4E8839A3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E08-D5C6-4415-8D0F-318B6E75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B7A-F000-4BEA-A1D7-1AEF1CE8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1994-EE58-47EA-B86D-D987D0EB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643-E5E9-4600-BA39-990FF0D7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01F-1687-4DF2-9107-49F91EA6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E302-F9EE-405B-AEA1-485BF677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FC89-11CF-4136-8A8B-F923C640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EE1C-96A3-4035-998C-46A7E51A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0B65-7ED9-46DB-BB28-E4152C3A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E4BD-2A18-445D-8109-8DA4077D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A725-B0CE-4037-B259-FE598D5A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BA06-18DD-434F-9ED0-11A501FE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E549-35A4-46EC-9E14-097A4CCD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F14D-BD50-41A9-BEE1-B9AFC04A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A9BB-51D8-42A7-BBAB-85AC57AA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380F-112B-467B-9D89-F34455CE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BE75-585E-4107-A734-8E9D11B9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F415-A864-4633-B64F-A7B9C4DA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B116B-F192-4268-A843-1ACAD777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0591-CA09-4144-B89C-4385A8CB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7474A-F690-4868-B36B-445A3EA7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47E1-F748-4304-8758-6ECAA76F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95296-187A-4E59-8A86-4DD698BB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330C2-1220-42A2-8EE6-50F90F28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29D4-3950-454B-8F75-47E3B508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F854E-892A-4CC4-B980-46F11658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05F9C-949E-402C-9338-E8B4CAA0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5B0A5-840C-4F71-8534-7CD9BBAD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FA7AA-E860-439E-8A90-6CACB3F5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D2635-0F63-4AC1-B178-7966AFB1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80D47-E47B-486C-A694-2D3339A0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57E59-A230-4B01-8B6E-289687D6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C823F-75CF-4346-B0D5-3F019A86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E7A51-658F-4245-B366-28B28DE4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CE597-9768-4BCF-892B-2778B99A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9607F-B2A1-452B-8620-43B7D81E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CE0B7-15AD-4B84-A5CE-483FEAC1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DDE8D-38AC-49ED-ADBE-34436DE5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DABB3-A72E-4F94-82BE-E8CD8D9C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DF7E6-DE44-4787-B0D5-694F2F4C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E7C2B-7FBF-4EAE-87EC-CA6704D5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D93A4-6E15-4B2E-9097-D5D19DE2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ECE3B-6FE1-422E-ABCF-B99578E1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146DC-4BE0-4F61-A710-3856322A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56213-20FE-4745-A76D-9891AF17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95750-CBE2-4E50-A5E1-3B465043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5EF05-9EC6-404D-A215-75D66291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29743-D767-46FD-85AA-7612B1C8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50D5B-B87D-4834-BEE6-215BD6FB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2B4D9-8392-4BDC-94B8-B1C1CC4F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C62E7-6F40-47F2-ABAD-FF9B0609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F0050-FF04-4950-9CC6-066C0E7A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D2C10-1AEB-4B8E-9D57-2A19C54E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6C69A-76CA-4759-9BC1-FD6ED890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87559-5E1E-4E7E-9253-D63BA446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A0DA9-AA11-42FD-BFFA-DA49CBE3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8606E-C3B2-4F87-A7C3-4D34F6A0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39459-003B-4F79-A49D-A1E5A7A5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CD1AA-8324-4270-BC61-7E89B0BA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F3951-51B8-41CE-A4D5-78A9180F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6D42C-2AFD-4BD1-8DB3-B26146DA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5D50A-9CAB-49BA-887F-AD69520E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FBED4-17D8-4062-BC6C-B9B39AFE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C7DEA-16A6-419D-B465-76EA0782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8035A-EF08-4223-8B2F-E21BA703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16BFA-2484-4300-8BAA-4C969DDA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22C2E-CFE6-48F7-9271-DF8A535B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C5A88-B997-48A3-8A88-CCC900D7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EC30E-85FD-46E8-AB32-C128022A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F6CD-9876-4EE6-9809-B99F4D06954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1B18-E819-4E32-A3AB-CBC29CB57B2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9BA4-F822-40BA-89A9-4DBC5818D63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A8B6-BDAA-4863-BE98-03ED6066905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587E-E3F6-4EAA-8CFA-B824A6932BE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Marcelo.Raimo\Desktop\pps\tarjas\tarja_azul.png"/>
          <p:cNvPicPr/>
          <p:nvPr/>
        </p:nvPicPr>
        <p:blipFill>
          <a:blip r:embed="rId4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Marcelo.Raimo\Desktop\barra.png"/>
          <p:cNvPicPr/>
          <p:nvPr/>
        </p:nvPicPr>
        <p:blipFill>
          <a:blip r:embed="rId5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8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551F-A66C-469A-B290-39089923E36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8941-F308-4E48-B5B2-0767C59D550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B86B-207F-4783-86B9-90CBEED6E93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9C4B-4D17-4267-A657-56D83881F41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F440-7FAF-4F15-B0DE-69358306C0A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F82F-9788-47DC-B94E-30AD0FB8BA4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Marcelo.Raimo\Desktop\pps\tarjas\tarja_azul.png"/>
          <p:cNvPicPr/>
          <p:nvPr/>
        </p:nvPicPr>
        <p:blipFill>
          <a:blip r:embed="rId1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534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7375e"/>
                </a:solidFill>
                <a:latin typeface="Calibri"/>
              </a:rPr>
              <a:t>Profª Natacha Pou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537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Administ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tângulo 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Introdução ao Sistema de Informação e Aplic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120680" y="836640"/>
            <a:ext cx="8023320" cy="6021360"/>
          </a:xfrm>
          <a:prstGeom prst="rect">
            <a:avLst/>
          </a:prstGeom>
          <a:ln w="0">
            <a:noFill/>
          </a:ln>
        </p:spPr>
      </p:pic>
      <p:sp>
        <p:nvSpPr>
          <p:cNvPr id="544" name="Retângulo 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116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ixaDeTexto 8"/>
          <p:cNvSpPr/>
          <p:nvPr/>
        </p:nvSpPr>
        <p:spPr>
          <a:xfrm>
            <a:off x="395280" y="71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ixaDeTexto 9"/>
          <p:cNvSpPr/>
          <p:nvPr/>
        </p:nvSpPr>
        <p:spPr>
          <a:xfrm>
            <a:off x="395280" y="148428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Sistemas de Informação baseado em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Internet, extranet 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A Empresa como Sistema Ab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- Software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e </a:t>
            </a: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lecomun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Rede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Documents and Settings\Marcelo.Raimo\Desktop\pps\tarjas\tarja_azul.png"/>
          <p:cNvPicPr/>
          <p:nvPr/>
        </p:nvPicPr>
        <p:blipFill>
          <a:blip r:embed="rId2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C:\Documents and Settings\Marcelo.Raimo\Desktop\pps\imagens-estudos\logo_branco_ead.png"/>
          <p:cNvPicPr/>
          <p:nvPr/>
        </p:nvPicPr>
        <p:blipFill>
          <a:blip r:embed="rId3"/>
          <a:stretch/>
        </p:blipFill>
        <p:spPr>
          <a:xfrm>
            <a:off x="6919920" y="71280"/>
            <a:ext cx="2174760" cy="635040"/>
          </a:xfrm>
          <a:prstGeom prst="rect">
            <a:avLst/>
          </a:prstGeom>
          <a:ln w="0">
            <a:noFill/>
          </a:ln>
        </p:spPr>
      </p:pic>
      <p:sp>
        <p:nvSpPr>
          <p:cNvPr id="54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06:28Z</dcterms:created>
  <dc:creator>marcelo.raimo</dc:creator>
  <dc:description/>
  <dc:language>en-US</dc:language>
  <cp:lastModifiedBy>marcelo.raimo</cp:lastModifiedBy>
  <dcterms:modified xsi:type="dcterms:W3CDTF">2011-04-19T18:55:34Z</dcterms:modified>
  <cp:revision>3</cp:revision>
  <dc:subject/>
  <dc:title>Slide 1</dc:title>
</cp:coreProperties>
</file>