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1C0BA-374E-4D33-8AD2-3DD8FB7E5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F0D3EE-00D7-4AD6-BF8E-703F5DD66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535893-BC44-45DE-8E51-32D9DED1A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9A4B38-ABCC-413E-9BFC-46489FBB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6658E-1CCC-4D73-862C-71FDF1BA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C8FB9-A0FB-42F2-912F-2ACFD945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52F3C-6A88-494F-B106-9680CD932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B8055D-D935-4BC4-BB72-CDE472A3C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6CC80B-4FC5-461E-A4A1-A7547848F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496B08-D30E-4B6C-A670-14D7E650B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28DA5D-19D6-4C52-B4A2-4A363FC9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C8354-1E66-42F7-B3A7-9F81DBC1F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9FB593-A3F8-4672-B583-BDA631D57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668235-72FA-4DD9-B677-2DCD9D203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E486A2-2C1D-486B-B5A4-D2556430D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ABAE1B-CDCF-464F-8DE7-0FC9E932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261DA3-BAE8-4530-AF75-135EB1D1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57004C-8E96-4839-8CB7-F9D16DF0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B9ED19-2408-421B-9CF2-9F9333765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90D9CC-DB04-4CCE-BCA6-7A7E2F7E9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2CF97D-02C7-4072-876E-B5D71D66A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EEE64A-A805-4138-948A-697B6DDDE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1AFF45-2830-4063-93AE-2972B5643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362C72-1988-465F-B9F1-E84649E40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4F751C-3D16-4DB0-A9FC-9DACE0BC8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A248D3-2C55-4B3D-8B53-84C06FAD6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45CF98-B4BF-4B32-A806-5E1AE4461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6E1A97-93C1-4B64-9FFB-465EECC6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151950-9846-4106-95A5-EE8E8E49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D8D4C8-031B-4A70-999E-07664E32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027E-3ACA-4556-B5E9-390FEA776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F5EBAB-D540-4BA7-975F-7F935771C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5D08B9-B946-42CC-96C9-4974770A7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F4E5B4-4070-4D03-AA8A-65F4C75C5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6FBA17-FE4E-488C-8A90-90CDEBFCD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F1D6BA-0549-4238-B2FB-0A9151871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753C99-201D-4CF8-A820-6FEAE5941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2FB738-1C4D-4114-99CA-58E290CEB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14F2B0-B31C-4D8C-A87C-45B486E9B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C6B4B0-82FD-4CA2-AD2C-BF65E6CBD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4BAF6C-BDC2-4628-8E0A-BBA60BB4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7E83-FC9D-4C84-B575-36CAC94E6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BF6C72-BE56-4E23-8D91-D67EFB9E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424EFD-FD40-4026-A871-E4C57B71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9AD56C-3967-49F4-A602-6915BCDF4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AE1ED1-26B5-4DF0-93FB-08EBB7770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E7B44F-E2DE-4766-9961-E62A56017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915E3B-6EC5-4F17-91BC-8A4C09569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1EEBC5-3ADD-417B-95FB-FC1CD4521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4B8DD6-B34B-4F5D-B467-EDC8D3794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C8C613-557B-4920-9153-97DC63874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8FC87D-E209-4794-8672-89A991E8A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BCFD-7C2D-4CF0-A975-127478149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4C9A86-6B70-493F-BB14-5ED7D8EA3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76BE38-CC90-435F-8EF2-FD2F8C17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3ABA93-D812-487F-B7CE-A62B5E9F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02BCB9-7910-497C-84C2-CCF28F48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39EA6C-E7C8-4275-9C0F-A2D9C86C6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67F3F4-65DB-4320-B13F-9048EE9E7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CF2133-793B-4603-B91D-1E9DABC0F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BDB3-1888-4516-9131-3B9151097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CCD4-5412-45E1-B13C-F04EFEE45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53CD-BA2C-4E20-A99A-76987CDCF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9314-BFA8-4096-9CB7-175E1EE5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3609-62BC-414A-896E-8595E7CC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D2DB-A75D-4C28-8386-94C05AF2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3817-2AC8-47F6-B9BF-957700EF9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9234-3B3C-4BC2-8CA3-85CB40A8E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7F03-809E-4144-9FC1-FD29BDA64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F99F1-D34D-4051-B928-4DFD3F764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D2E64-84E7-401D-8D17-4ABADCD77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577A0-9C72-46A0-8B96-0B560C795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0A587-BD83-4C9F-A96A-373954F5F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E83FC-99D4-45AE-9D81-147965BA9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AD82A-886C-468F-9B4B-1672B5FAF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86F0D-A7A3-4DA5-BAA8-A6D9F9F7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A4242-6732-4B5A-9F35-0E8885B9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DA8D0-F52A-4309-9247-47B0F7B5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A5410-90E0-457B-9CA2-241E75786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B1315-6C92-4DE7-B75C-17E9881B5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82AD5-1143-44E3-8C2C-881E2B21E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0DF8C-22E9-43AA-B2AB-A60085057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36E2F-C1C2-4144-9768-85227BBC8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2F077-54D5-49CA-963B-0A47B81EA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35C23-D9EC-464E-81BE-07FEED6D7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681B4-75A7-4C87-84B1-2CD787934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C24B1-50F4-42CD-88BD-31103F832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43FD4-5FF5-4CEE-8BFA-0B294302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85818-74E9-4B0C-AC15-58072DA2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C5D09-C07A-4983-AC96-14D3E601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E0EFE-B087-4503-B8D8-4BC2326C7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DA17A-5627-413E-8160-3609BA193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92975-DC7E-46EF-BB5E-629C3E0CD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B1524-FEF2-4013-96DC-82F0630B2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B665D-95C7-470F-95F5-11A4F8C8B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D6113-862E-481E-BAEA-0719BF247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DA1B8-E5D4-4B23-B3EA-E6999D7F0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1F822-FD61-4083-88C1-E744CEEE4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BDE23-C0CE-47A4-95AE-89AEB6B5C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FD68A-20EB-4B02-9456-ACEC9E99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F16A8-0359-4949-A33E-1DFBC85B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906B9-01DE-4F68-8439-F2F44F22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CDE29-F4FA-4DD9-B52C-D18D66A06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5CC96-42CF-44A0-813C-4F9505585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A7F20-8D30-46A8-BE1E-C31DAE94D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8DBB5-E399-4A48-8CF4-16F57878A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E97BE-44AB-4C78-BB2C-E60E8A81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D32FE-FA2A-4A2C-83BF-93BE50E12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633C2-0C2D-42BB-A4CB-3AA776106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6F5C8-7541-41BC-8360-8D3D611A2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27E9B-6063-4331-AEF5-112A50F51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B7710-4FD2-4C7D-BB43-EB9ADCEE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83D99-FFE5-4711-894E-CA4B07FB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929FF-F8E9-4C41-B2EB-4A4CE709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960BD-F28C-496E-8679-8D417DF73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F7B86-4310-4588-922A-B367D566B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ED2D0-AE5F-4741-A4B6-8FE3D8DD2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83F67-7336-46A0-A844-982AC5FE8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8C8E6-4A1F-43C8-8FC8-3E362F74F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1034A-C672-4FF8-BF07-DB447659E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3D2782-0D78-4FC7-9B8C-836ABCE60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8D834-4C0B-4C26-8DD3-B1CD30240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17216-4FCD-43BA-9C06-85F5F1D31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87A71-D3A7-4EFE-80BF-E3118A02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C57F6-DA01-4034-B170-427EAB4E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A68E1-AA2E-43BE-9F69-F6A08A46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64E66-B820-46AB-8895-0AAFAF7C4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2A799-3A59-4B5A-982C-B0EBAB445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7938D-54F0-4382-9D45-B6EFDCC53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FF06E-DA24-4F68-AED3-3A92862E9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B24F0E-2248-473B-8654-63EA9828F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8D7742-259D-4D4A-9CFD-D96E7B334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37028-FF9E-4387-8187-2B53B98D335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DD2E-D582-4103-8C39-81261DD27B6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61C55-FFCB-4364-9170-EF4BED538CF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213F8-6C9D-42BC-AAE1-1A78F1CDD63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CDDB9-8068-4B49-B534-741963AE0C13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Documents and Settings\Marcelo.Raimo\Desktop\pps\tarjas\tarja_azul.png"/>
          <p:cNvPicPr/>
          <p:nvPr/>
        </p:nvPicPr>
        <p:blipFill>
          <a:blip r:embed="rId4"/>
          <a:stretch/>
        </p:blipFill>
        <p:spPr>
          <a:xfrm>
            <a:off x="-22320" y="1512720"/>
            <a:ext cx="9242640" cy="1411560"/>
          </a:xfrm>
          <a:prstGeom prst="rect">
            <a:avLst/>
          </a:prstGeom>
          <a:ln w="0">
            <a:noFill/>
          </a:ln>
        </p:spPr>
      </p:pic>
      <p:sp>
        <p:nvSpPr>
          <p:cNvPr id="82" name="Retângulo 4"/>
          <p:cNvSpPr/>
          <p:nvPr/>
        </p:nvSpPr>
        <p:spPr>
          <a:xfrm>
            <a:off x="0" y="1762200"/>
            <a:ext cx="9144000" cy="792000"/>
          </a:xfrm>
          <a:prstGeom prst="rect">
            <a:avLst/>
          </a:prstGeom>
          <a:solidFill>
            <a:srgbClr val="435778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C:\Documents and Settings\Marcelo.Raimo\Desktop\barra.png"/>
          <p:cNvPicPr/>
          <p:nvPr/>
        </p:nvPicPr>
        <p:blipFill>
          <a:blip r:embed="rId5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sp>
        <p:nvSpPr>
          <p:cNvPr id="84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BFCA1-7091-40C6-90D0-B13CF52DD61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D6609-12D0-4B28-B3E7-F137F2BF3BB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BDF46-127D-4909-B0BF-F9B581E4964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61303-B6B0-4E4D-A859-5375041EBBD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559BC-95EA-4F71-BBF1-965FE86CDE7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3F091-A5EF-418C-92F2-E04DD614D1A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C:\Documents and Settings\Marcelo.Raimo\Desktop\pps\tarjas\tarja_azul.png"/>
          <p:cNvPicPr/>
          <p:nvPr/>
        </p:nvPicPr>
        <p:blipFill>
          <a:blip r:embed="rId1"/>
          <a:stretch/>
        </p:blipFill>
        <p:spPr>
          <a:xfrm>
            <a:off x="-22320" y="1512720"/>
            <a:ext cx="9242640" cy="1411560"/>
          </a:xfrm>
          <a:prstGeom prst="rect">
            <a:avLst/>
          </a:prstGeom>
          <a:ln w="0">
            <a:noFill/>
          </a:ln>
        </p:spPr>
      </p:pic>
      <p:sp>
        <p:nvSpPr>
          <p:cNvPr id="534" name="Retângulo 4"/>
          <p:cNvSpPr/>
          <p:nvPr/>
        </p:nvSpPr>
        <p:spPr>
          <a:xfrm>
            <a:off x="0" y="1762200"/>
            <a:ext cx="9144000" cy="792000"/>
          </a:xfrm>
          <a:prstGeom prst="rect">
            <a:avLst/>
          </a:prstGeom>
          <a:solidFill>
            <a:srgbClr val="435778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17375e"/>
                </a:solidFill>
                <a:latin typeface="Calibri"/>
              </a:rPr>
              <a:t>Profª Natacha Poug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sp>
        <p:nvSpPr>
          <p:cNvPr id="537" name="CaixaDeTexto 8"/>
          <p:cNvSpPr/>
          <p:nvPr/>
        </p:nvSpPr>
        <p:spPr>
          <a:xfrm>
            <a:off x="395280" y="183348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Administr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tângulo 8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Introdução ao Sistema de Informação e Aplicaç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5" descr="C:\Documents and Settings\Marcelo.Raimo\Desktop\pps\imagens-estudos\palm.png"/>
          <p:cNvPicPr/>
          <p:nvPr/>
        </p:nvPicPr>
        <p:blipFill>
          <a:blip r:embed="rId1"/>
          <a:stretch/>
        </p:blipFill>
        <p:spPr>
          <a:xfrm>
            <a:off x="1120680" y="836640"/>
            <a:ext cx="8023320" cy="6021360"/>
          </a:xfrm>
          <a:prstGeom prst="rect">
            <a:avLst/>
          </a:prstGeom>
          <a:ln w="0">
            <a:noFill/>
          </a:ln>
        </p:spPr>
      </p:pic>
      <p:sp>
        <p:nvSpPr>
          <p:cNvPr id="544" name="Retângulo 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solidFill>
            <a:srgbClr val="116d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CaixaDeTexto 8"/>
          <p:cNvSpPr/>
          <p:nvPr/>
        </p:nvSpPr>
        <p:spPr>
          <a:xfrm>
            <a:off x="395280" y="7128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Objetivos da A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CaixaDeTexto 9"/>
          <p:cNvSpPr/>
          <p:nvPr/>
        </p:nvSpPr>
        <p:spPr>
          <a:xfrm>
            <a:off x="395280" y="1484280"/>
            <a:ext cx="8929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Teoria Geral dos Sist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Sistemas de Informação baseado em comput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Internet, extranet e intra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A Empresa como Sistema Abe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17375e"/>
                </a:solidFill>
                <a:latin typeface="Calibri"/>
              </a:rPr>
              <a:t>- Software</a:t>
            </a: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 e </a:t>
            </a:r>
            <a:r>
              <a:rPr b="0" i="1" lang="pt-BR" sz="2400" spc="-1" strike="noStrike">
                <a:solidFill>
                  <a:srgbClr val="17375e"/>
                </a:solidFill>
                <a:latin typeface="Calibri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Telecomunicaçõ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Rede de Comput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2" descr="C:\Documents and Settings\Marcelo.Raimo\Desktop\pps\tarjas\tarja_azul.png"/>
          <p:cNvPicPr/>
          <p:nvPr/>
        </p:nvPicPr>
        <p:blipFill>
          <a:blip r:embed="rId2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3" descr="C:\Documents and Settings\Marcelo.Raimo\Desktop\pps\imagens-estudos\logo_branco_ead.png"/>
          <p:cNvPicPr/>
          <p:nvPr/>
        </p:nvPicPr>
        <p:blipFill>
          <a:blip r:embed="rId3"/>
          <a:stretch/>
        </p:blipFill>
        <p:spPr>
          <a:xfrm>
            <a:off x="6919920" y="71280"/>
            <a:ext cx="2174760" cy="635040"/>
          </a:xfrm>
          <a:prstGeom prst="rect">
            <a:avLst/>
          </a:prstGeom>
          <a:ln w="0">
            <a:noFill/>
          </a:ln>
        </p:spPr>
      </p:pic>
      <p:sp>
        <p:nvSpPr>
          <p:cNvPr id="549" name="Elipse 9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CaixaDeTexto 10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CaixaDeTexto 11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06:28Z</dcterms:created>
  <dc:creator>marcelo.raimo</dc:creator>
  <dc:description/>
  <dc:language>en-US</dc:language>
  <cp:lastModifiedBy>marcelo.raimo</cp:lastModifiedBy>
  <dcterms:modified xsi:type="dcterms:W3CDTF">2011-04-19T18:55:34Z</dcterms:modified>
  <cp:revision>3</cp:revision>
  <dc:subject/>
  <dc:title>Slide 1</dc:title>
</cp:coreProperties>
</file>