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1DD93-E902-4F19-A587-CBB3E722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D5878-B1C5-4B96-AC81-04723019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1E40B-4100-4B30-865D-F92CF953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0B41E-F613-48CF-B12C-E37593B0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D7CCB-857E-4153-8144-E940CFEB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1EA2A-C82E-4761-ACE5-05148BA7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54F47-5B80-4741-8760-E35C2694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5B68E-69C1-4556-8129-704F8A0C4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B6289-CBB0-45E1-AC27-B9E2AA39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D8F43-A2C5-4F46-83A0-62B07501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7B9F4-CABB-4CD5-B753-0CD13584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E4B01-552F-445F-A245-BD2BF227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EC168-070C-4628-AB77-AF4DE030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DBABD-E4DD-4872-B01A-C9390BE0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76E80-2948-43CB-98D0-AFA7C491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F3774-BD90-4BD8-A525-009CCDCD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FC4DC-2CB0-44A1-A482-A530BA48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A766D-136C-4ED1-AE08-F2F04419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3A957-32E2-474E-9BE9-F1D664CA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BEF4D-E29B-4909-A92C-FEB19F82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C890F-838B-4713-A645-FC05E7610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3C189-E514-4D77-837A-89FF2A5E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E9FA4-199B-44E9-9F35-3473AD9C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C998F-5103-49D9-BEF9-E33F3E78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DB618-0C8E-4A0A-B9D9-CA9E7E48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33D46-A26D-4CE5-A8CB-AFCFAF68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F5966-FDF5-4A39-9772-76A8D7B4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04F6B-1059-4E70-BE17-5AE61DCD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05AB6-DEBB-4FBE-B934-ED84B90C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4264F-B9F2-4323-91DE-C56C1183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713D8-249C-4FB1-BBF3-BA5CD836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C3B50-E336-44D6-AC75-912C689C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4F885-EEC1-40EF-8C6F-1D0D8FBFC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39166-70FE-40FC-9F31-3132E69E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312BD-D879-420D-9A44-A43447D3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8F394-C783-49D1-B97B-E7F7F806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7E80B-7059-4AE7-B80B-BDDF8785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759E7-BD5F-4324-A2AC-1A322BA8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ABA82-7785-4C04-BC26-AD7BFD0A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670A9-8BAA-46C7-A6B1-98885246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FD632-BDC0-49FE-AFCF-34CA53FE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0D383-B865-4017-A6DE-477C3268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2C0CD-8CB7-4A42-AE1D-4AA536E2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FC581-8304-4788-86EC-E18DCB0B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DEEF3-170F-4C61-802D-42A64EEC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516F-E003-40D8-A8A1-A974824E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DD93-9A0C-44E9-B433-465CA4B1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30E5-C357-439B-9FCA-9062A80C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E11E-496A-4DF1-A4CD-DAF3C505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05E6-799B-4ECA-B2D3-E9B6E421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0F1A-F26F-424B-A671-561C8DA7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AC63-42E3-41FA-B0CD-B35EA4E8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9E6C-771F-47BE-A545-85E6756B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30FD-EEA3-4EEA-BD30-6BC63544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23BC-8192-49F8-A28E-17895FB3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93E9-851C-4B06-8917-7100E920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5FB5-60A2-4F9B-AA96-6351CDB5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BF29-CE4D-4592-9F3C-584858E8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F53A-228C-4886-B8F3-8ED94453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B395-FC9B-4285-935A-1C5D6236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2FD0-D1DA-4072-8EF3-8C6C5CA3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5F65-4725-4924-9E51-B9C23FEF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7A0E-C861-41A4-8A2B-EA421BAF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1987-9D48-454A-8001-4D010D02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56FB-B0E8-4FB4-ACFC-66D9FC59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313C-0F00-4DA0-A068-A4BF0C23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9F49-BE45-4B54-BED2-7DB3EF57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A744-4191-4CC0-B63A-7E806C36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B357-754C-4D8C-BDBB-68701916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FD543-B3EA-4295-86F0-00C5ECBE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1F85D-4B28-4C64-8B0E-829934F5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B4DE7-6A27-406B-ADAA-E130818B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329FE-D142-45F8-B2F3-2DB49487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14EA7-41D3-4759-B97F-482465E3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1AB13-DBB9-4201-926E-503FB141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AE615-3BCA-4C08-BE93-9F936DF9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18845-662E-4680-A9CE-247DCDBB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34941-F26F-4658-B206-5A1B0850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DDF10-F68C-489D-AD2B-A554D7CA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2B3D9-2662-423D-8001-00ED5F40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63627-3445-45D9-B12A-4570566E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47AC1-D193-48CC-9AB0-9D85FEF1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C9AE3-8031-41DC-AF2C-CA06DF39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CF9F3-D963-4A24-9714-965DA8FD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9C5E9-84F6-4F19-B886-B83B09E8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4CF65-2DD9-40CD-8C2C-7399A4DD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A0451-0D42-4AB5-BC95-BB4589EE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4F1F2-A927-46E6-A295-BE8EDA1F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8355F-3736-45F9-B00B-921B957A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2EC2C-6EC5-4B2F-8F04-7ACC8BFF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7B197-CD78-47AF-ADFD-400AC8FC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33CE8-6823-4046-B4DD-119DBB23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15740-D8C5-403B-8395-0191499A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51296-72F6-480E-8E26-83D6A109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A3A69-E52C-4ABA-AF69-3A96855B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27EC7-CD0F-40E0-A4BD-24B185D8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155FD-039B-4641-9E05-CE37E2B9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2A106-7072-4D01-819D-8AC67346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1BCE3-9336-4DE9-9F5E-C629B168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A84C7-7C30-49EF-BADA-CAFB974D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13AAD-5908-4341-B207-3294D74F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4B5D9-AEB1-4B26-835A-E054BD20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AEC31-4282-4139-AEC1-0F0566C8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83251-5FED-49F1-AC4A-AC8A2842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4F170-13FF-4691-90D8-7E66D2BDF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483E7-5762-4BDD-8933-3C01D831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A9B8E-5F42-4501-9363-D700F831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0FFEE-C643-4B82-AB2A-C53B0BED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BC414-5D3B-418F-A802-C049784F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50168-7E7E-41EF-8EDB-F2DF0C2B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3F562-2A69-405D-BC59-2F375EC8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7CC51-71FC-4D0E-BA1A-7B712CED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7C8CA-85B1-441E-9A89-AB566A59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DA0A4-2985-4685-89B8-BAC17440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B396F-F1CA-4C52-8B88-33436857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3B421-A1F5-4B1F-B464-3419C5B73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B759A-9EF6-49F0-9084-1B6CBD09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87F06-A216-4D73-B9EE-13F52B68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412F8-FBB1-40CD-9F02-E5B186C0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8B01B-E4D3-4B26-9D0E-99AABF24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D939-49D7-42EA-9520-4529592E752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2E55-ED74-401A-90CC-2692232B32C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D9A8-4038-4935-B7A6-0001545593E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0" name="Retângulo 3"/>
          <p:cNvSpPr/>
          <p:nvPr/>
        </p:nvSpPr>
        <p:spPr>
          <a:xfrm>
            <a:off x="0" y="5329080"/>
            <a:ext cx="9144000" cy="1629000"/>
          </a:xfrm>
          <a:prstGeom prst="rect">
            <a:avLst/>
          </a:prstGeom>
          <a:solidFill>
            <a:srgbClr val="fee654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2" descr="C:\Documents and Settings\Marcelo.Raimo\Desktop\pps\tarjas\tarja_ciencias-sociais.png"/>
          <p:cNvPicPr/>
          <p:nvPr/>
        </p:nvPicPr>
        <p:blipFill>
          <a:blip r:embed="rId4"/>
          <a:stretch/>
        </p:blipFill>
        <p:spPr>
          <a:xfrm>
            <a:off x="-108000" y="148428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deb7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56F3-2188-419B-9359-1FA9A95B308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F12A-F8BC-44A3-B6E1-8D503C99C36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260F-21CD-42A4-9F2E-83AD1E02A84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BDCE-63DF-4508-B9DE-19ACC274A9C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D838-45F8-40D9-AA2A-11D117D1B6E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5C40-161B-4C0F-AE23-FEC5932DE0D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EF0B-514B-48FB-9876-3633B723A35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ee654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d0d0d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" descr="C:\Documents and Settings\Marcelo.Raimo\Desktop\pps\tarjas\tarja_ciencias-sociais.png"/>
          <p:cNvPicPr/>
          <p:nvPr/>
        </p:nvPicPr>
        <p:blipFill>
          <a:blip r:embed="rId1"/>
          <a:stretch/>
        </p:blipFill>
        <p:spPr>
          <a:xfrm>
            <a:off x="-108000" y="148428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95" name="Retângulo 7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deb7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Ciências So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-1126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332000" y="996840"/>
            <a:ext cx="7812000" cy="58626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13320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9"/>
          <p:cNvSpPr/>
          <p:nvPr/>
        </p:nvSpPr>
        <p:spPr>
          <a:xfrm>
            <a:off x="289080" y="1279440"/>
            <a:ext cx="867564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6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Elipse 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7:13Z</dcterms:created>
  <dc:creator>marcelo.raimo</dc:creator>
  <dc:description/>
  <dc:language>en-US</dc:language>
  <cp:lastModifiedBy>marcelo.raimo</cp:lastModifiedBy>
  <dcterms:modified xsi:type="dcterms:W3CDTF">2011-04-19T19:00:29Z</dcterms:modified>
  <cp:revision>3</cp:revision>
  <dc:subject/>
  <dc:title>Slide 1</dc:title>
</cp:coreProperties>
</file>