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D415F-5821-449C-8D19-45697FC0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E6D5E-CDA5-4903-BC1C-09B753AB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E5051-83D1-4015-A312-0A2B1A44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3164E-A85C-4DD6-8ECE-E72BBAE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644D-435B-444B-A8A2-FA023000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2E3F1-899B-42ED-8E14-0B7B8AF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0BA9-D2BF-4DB0-9D94-700BFAF3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EA1F-1522-4025-A80B-220F6DD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96C32-F0CA-46AE-961C-9499D62CB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7F883-6347-4763-92BE-30BAF1B8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4113F-DE4A-4D81-8DBF-EE874DF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AD3A-CB10-4F0D-9EA7-6F427FB7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FDCF1-EB01-4678-90ED-C4EA3C9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88A13-8132-4151-8D77-7DB930B5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6B6B-D452-4CEE-A718-7E04BF08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EF83D-B9EF-4A86-8F9E-56D49915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5B3B0-2670-45CE-AFF4-FF816F09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B90CB-0909-4B5B-9217-00CE2A5F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7931-0FC0-40FE-8BA2-3BF28D91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C072F-A01E-4F4B-ACA3-BAF58F70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A6264-F352-4D28-84DD-0292468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D2883-A652-49B2-97C5-27D94FAC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6F370-FE0D-4CCC-90CD-279538C2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7809D-1555-4C6A-8761-181946D7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E77AB-5004-4F95-9D50-925C7C25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56A5B-A459-4ED6-A7C3-3254AA46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08B6E-64AE-4519-B40F-444FC658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6953D-53F1-4938-8D57-92DDA7DF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ED68C-880C-411C-8B59-3F52E085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0011F-903F-4B37-8BC6-FA9984B6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D06B-53CF-47DB-BB49-C809A572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7B217-A4F4-417A-9769-490002D9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81793-0081-44C3-BD65-C866EDEA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D59FA-CCF9-487B-A7ED-498B2620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015B4-7E2A-4028-9A98-875924C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9B5C8-8C92-4503-A475-C149D44D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12B9B-D615-4B0D-8E46-9DAE5544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5B2BE4-1A64-4F50-B0DF-5E48BCBA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8D0CB-FDEB-4393-9180-063A18D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A2C97-7BBB-4D61-88AE-ACAF701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184902-8661-4CF6-A8E3-8B34CD90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4E627-7DD5-4B00-909F-0E1F55C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FFF38-C1F7-4BB4-B673-EF08FA0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432E0-9CD3-45CA-B7D2-C5146DD1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BD8A5-8579-4C65-836E-CB0D6062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2D2-BF26-460D-85E9-DE10F2D3F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005-7B3E-472F-B38C-CA265F56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389-FF78-40BF-AE7E-4774EAF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5D7B-5A47-446C-8777-76916C3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978-E460-4C55-B23F-957E3F2E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7F0-B250-42CC-B032-A9F3EC6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E8AD-4D80-4D88-AE33-329C8E1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83D-8856-4823-8FF9-5054451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F157-F2AB-4714-86CA-C232A6D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3AA-36F7-4F70-A02A-1B3F5B3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A10-9829-4CE1-8370-BA8B67A3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491E-7A3E-4051-8A3F-B5AA0A38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A838-60C6-48C4-AEFA-DDA06B1B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D15B-B71C-41D7-A838-AE66B4EC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C87E-4303-47B6-AC65-5421E903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193F-E8EE-4697-A410-FD761F9B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8441-5A86-4629-B7C0-E6E73B8D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EE61-8D53-4C81-8EF4-8F47CC6D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FF41-00EF-4400-AF66-2752CA9A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246D-7F0C-4F20-8E54-0CEAE1A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43C7-7BE3-45E9-8774-63BE859F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88A9-6C24-4320-BEDA-5208C9B6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EAA1-42A7-4500-95A2-47AFD5AE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B469-C521-41DD-911C-DC81514A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1ABF5-FE45-4B47-8E7A-D166E674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376E-EFA7-46E2-8B23-366F351D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4866-C49B-4896-9851-47F184F9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CF112-CB35-4F7C-9EDD-C136CCDB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6AF77-2A72-41CA-8EC0-3AB4A1A1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DD3E-465B-426C-9DC9-760DB5CD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BC5A-C2D1-4885-8DBA-B0047C0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4F13-47EC-48E2-B935-D49474FD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FA78-1E7A-4631-9170-93EE14A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4B33E-C8F1-473B-ABB6-8243D3BA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0669-6897-458E-BBCA-D47FC24B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6E13-0258-4582-AA2E-D51CCBF3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6A077-C252-4A7D-8F25-078720D8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C493A-B89B-490B-91EE-9941FE41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CF2FB-D5C1-4041-AF08-A0DFF3D3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A511-6E46-4771-BBB5-B09EA643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90A7C-787B-43DF-9E7A-A725E44D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56F4-B23C-4532-BE8E-8B2C6EC3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4CF2-4937-4B62-976A-FDF259F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F59F-AB0E-4C92-B440-C1B83C4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343D5-502E-4AA2-B18D-6FB8DAC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D94D6-EE08-4CB9-AA31-C50B49D0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5DE8-79EE-4538-9DB3-AB070C90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B6C26-8C5C-4326-80DF-A7E7855E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3F8A-E8EB-46DF-9DEA-6A7E77AE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840C2-E9BC-4BD0-A3BC-CC56212B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2CA3B-A181-465B-926D-E5C9B86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228E0-820E-4AAB-9E7E-0AAF5223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597F-DAD7-4F80-94E3-6D50338C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1CD8-8ECC-471F-A3EC-A46190D1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23F2F-8214-4FE1-9843-64620AA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1669-5BAB-40DF-8EBF-D4CEC0B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52E4-42F6-4B90-8FFB-F3AB639F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7200B-C566-421B-9EBA-CA436B68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A129-8B55-4F51-98EE-D7D08AAB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3ED2-8774-46D0-A063-A1A8B721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982EA-A9E2-44CA-B11D-A2A1AF4E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A4F1D-8F44-4DDC-9C67-E94DE05B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8E36-9AF9-4901-8CEA-DE8FDF8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31934-4406-4B4D-A30B-5BBD905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FCDCB-2881-4632-BADC-B826DB1B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61330-84F5-42D9-982A-D4B99063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8E768-174A-409A-B4E5-0B79CCB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5F01E-44AA-40AA-810E-9EE72FF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5F29B-FF8C-433C-918F-EC8DE04C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E00BC-6985-45B0-8DF2-1AD100A6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4759-4506-4BCE-A6EE-302929AC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EA372-CD81-4E52-9190-F011468F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6A8D9-1BB6-40F4-A55F-43661D31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87A83-0560-4BD8-AC4B-11EBBBE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D887A-0F65-4EA0-B53F-A624772D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E63-BAFD-4671-877F-DEF47690E5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8256-45B5-40C2-BB9F-BEE1573178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8663-1E5B-4569-BA14-5C69AC03BB2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329080"/>
            <a:ext cx="9144000" cy="1629000"/>
          </a:xfrm>
          <a:prstGeom prst="rect">
            <a:avLst/>
          </a:prstGeom>
          <a:solidFill>
            <a:srgbClr val="fee654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C:\Documents and Settings\Marcelo.Raimo\Desktop\pps\tarjas\tarja_ciencias-sociais.png"/>
          <p:cNvPicPr/>
          <p:nvPr/>
        </p:nvPicPr>
        <p:blipFill>
          <a:blip r:embed="rId4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230E-8385-4CBD-862F-B89C1E9EF28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0DCC-6920-4441-8FFD-488E17F983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EE6D-DB5A-4299-87E7-156F221F909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10A-0714-4D16-A58A-D0D571286E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D64F-E2BC-401D-8D4A-0F38A59746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369-B9CE-40A0-9154-86F457191E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C67-8DA7-4DEF-ABE5-32118E56AA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ee654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d0d0d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C:\Documents and Settings\Marcelo.Raimo\Desktop\pps\tarjas\tarja_ciencias-sociais.png"/>
          <p:cNvPicPr/>
          <p:nvPr/>
        </p:nvPicPr>
        <p:blipFill>
          <a:blip r:embed="rId1"/>
          <a:stretch/>
        </p:blipFill>
        <p:spPr>
          <a:xfrm>
            <a:off x="-108000" y="148428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495" name="Retângulo 7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deb7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Ciências So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-11268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imagens-estudos\palm.png"/>
          <p:cNvPicPr/>
          <p:nvPr/>
        </p:nvPicPr>
        <p:blipFill>
          <a:blip r:embed="rId1"/>
          <a:stretch/>
        </p:blipFill>
        <p:spPr>
          <a:xfrm>
            <a:off x="1332000" y="996840"/>
            <a:ext cx="7812000" cy="5862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9" descr="C:\Documents and Settings\Marcelo.Raimo\Desktop\pps\tarjas\barra-amarela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C:\Documents and Settings\Marcelo.Raimo\Desktop\pps\tarjas\tarja_ciencias-sociais.png"/>
          <p:cNvPicPr/>
          <p:nvPr/>
        </p:nvPicPr>
        <p:blipFill>
          <a:blip r:embed="rId3"/>
          <a:stretch/>
        </p:blipFill>
        <p:spPr>
          <a:xfrm>
            <a:off x="-22320" y="6381720"/>
            <a:ext cx="9252000" cy="14130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1332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Objetivos da A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9"/>
          <p:cNvSpPr/>
          <p:nvPr/>
        </p:nvSpPr>
        <p:spPr>
          <a:xfrm>
            <a:off x="289080" y="1279440"/>
            <a:ext cx="8675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oria Geral dos Sist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Sistemas de Informação baseado em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Internet, extranet e intra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A Empresa como Sistema Aber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- Software</a:t>
            </a: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 e </a:t>
            </a:r>
            <a:r>
              <a:rPr b="0" i="1" lang="pt-BR" sz="2600" spc="-1" strike="noStrike">
                <a:solidFill>
                  <a:srgbClr val="10253f"/>
                </a:solidFill>
                <a:latin typeface="Calibri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Telecomunicaç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10253f"/>
                </a:solidFill>
                <a:latin typeface="Calibri"/>
              </a:rPr>
              <a:t>- Rede de Comput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Elipse 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aixaDeTexto 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7:13Z</dcterms:created>
  <dc:creator>marcelo.raimo</dc:creator>
  <dc:description/>
  <dc:language>en-US</dc:language>
  <cp:lastModifiedBy>marcelo.raimo</cp:lastModifiedBy>
  <dcterms:modified xsi:type="dcterms:W3CDTF">2011-04-19T19:00:29Z</dcterms:modified>
  <cp:revision>3</cp:revision>
  <dc:subject/>
  <dc:title>Slide 1</dc:title>
</cp:coreProperties>
</file>