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CD66DF-3F86-4712-851E-1EED617B3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55C731-C6A5-4B3F-BF04-566EAD2EE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DBEA83-4E90-4B56-92D9-A276F2D99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91DC2A-DE47-4111-960E-8069B2D86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CDE1AD-281E-4F8B-A3F0-AF0F88DA3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C598F1-469B-4D71-BEBD-458079FAC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9751F8-4A50-4BAD-B486-CACCDB320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311E88-6076-43FF-8494-356B5A2D1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470D4B-8D63-463F-909E-5BF7D9586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C6BC33-AA50-4F3D-83FA-55774D91E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99D5EB-730F-4D5E-B75E-14DB35407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7668E9-2B93-4946-B113-5E8BD904F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B63233-D4B4-4F92-A8E5-0DD922687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779B46-A304-4306-8CA4-D1BB2E600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0B9DFD-13D0-4507-BA75-D7E911E76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90F3FD-1C11-4299-873C-5F9365202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A2687E-ED82-4635-AD26-24B4AD118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AD9453-D546-458D-93A4-CB0596CEF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C33D36-07D0-44AC-8456-AD344629A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A51813-8B39-48B5-A747-07F4AB174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AD32A6-64AB-4609-8DE9-A98AAA617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F7C474-5E43-47BB-9490-537D922E5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0CEA09-09AE-4CBF-A688-4C20B165C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3BFE71-E02B-4375-AF59-663F7B9AA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1EDDC2-8F1A-4C47-B2CD-07CC8F462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1249DF-BBF5-4B09-BA50-4A4B54041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5F9AC9-2CF3-4CDA-A3C3-E29E133C2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38A8ED-5419-4F16-9379-D21981338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13E2A3-7811-4A2E-AA0D-C320D8FA6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5069B1-E847-4074-82E9-BB7EB1328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92CC1A-89D0-4A7D-A2FF-DD24CB064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E82838-1286-4947-B117-C7E1E9F90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E1BE4D-E196-4F7F-81E3-BB717D2B8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BE357C-8BEA-46DD-963B-B3087620A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D6DEC9-3FFF-4EF1-99BF-4D2350D4A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AF8256-61B7-4507-B681-8828F979B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ED3CCF-EDFF-4348-A2C4-0889729EE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9CA232-7141-4724-B990-5120F7391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C93714-57C8-46AC-84CC-6B18C5AF0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27C3FE-3084-453B-83FA-8BEA36B30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B18323-7B24-4F0F-BAAA-A42ED6418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C2A0E5-23EC-4D04-9AC8-0989118DF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F90797-D3FF-4D7C-A3AF-D393D9786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D473E7-6881-4B0D-86EC-DCF86873A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04259E-6F1D-41B8-940C-0F2EDF797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37B66-D998-4993-8879-F3742B1E3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035A7-5597-4D1B-8BF8-65464655E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09AF8-E3CE-40FF-BAD2-85D76A113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7D7B3-8DF8-4C55-97AE-F098E960F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0D491-5082-4A68-826E-BD09EC101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BD4A9-9234-4131-AC7B-4F1009B4B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1EFD5-F131-49A3-ADBB-0119C26B6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5FC27-8AEE-45E4-BEAE-E2A934DC2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43003-E15B-43E1-BCFD-7BB02BB97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091B1-4654-4E0F-8764-B3A9FAF51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4BEF6-8FF5-4A25-971E-AEF2035BC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3E2DA-3D85-458A-B15F-CFAFA9854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409C4-4A6C-4683-B0AD-1575F4BE9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46B1C-0DB0-45E9-A6F8-921CA89D4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6DBA5-192A-4DD2-BEA6-70DFBE5B4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AC634-31C1-406F-87D6-437D0FAA6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6BA35-B6B5-4CE8-A30C-562161B40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B41D5-E236-42E4-9261-1D51976BD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F7E21-FB40-49B8-9172-793B067B6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009C6-687D-4369-9973-38876C7E0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7F02A-4479-41D4-BD39-01B07D5B5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E42F6-E648-4908-8DF8-FA4548092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27EB6-26E3-457B-9706-75AD8F0C9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D160B-A5C2-4E22-A8A1-D38DAF93C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7F87F6-D629-417E-B92E-EABF998B1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4ACD89-7625-4A79-88AB-C71F7883C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630F81-20B4-4A2C-B958-1F2E22B1E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111638-BDEE-4A2F-9755-0EE1D4F7C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3ED628-F22C-4623-B9A9-FD94F5B76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AF6E3B-8077-4376-8B07-06C015584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4BA090-CEA6-4737-9D34-FBA3E67D2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9AFCFA-B877-4435-A756-CCA901200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E3144D-1B2E-4430-A504-B632D4C44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7F0E49-06C6-4AC0-B6EA-7988EC8B8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EE243A-9DC2-42D1-B544-1DB4CB58C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8140FF-695E-47C8-B7D4-BFE31ECD6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B6B790-9176-4357-BC94-6FB4DA055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77E8AB-A740-4345-B957-BFB86E422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1154B1-6FE0-4A3D-92E7-C48F851F2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E8556D-1BFA-4840-9B4A-AA44431AD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652A17-3964-4E91-A5BD-D3BEF7A2D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592774-70F5-4387-B9B5-32D47983A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923AD5-A4DC-4072-9AD9-9C05B4DDB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5E8888-1EF2-4F55-89EC-CB0D25A2B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AD1ABE-3D3B-4E06-B9D5-ED52682EC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93DB7D-1458-4E8A-A3A0-8C6D2B059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AC627D-1CE3-4472-B6F9-1010A4594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2B8DC9-A68F-40E4-852A-099C2071C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7F94A7-6E77-461A-947F-0F240FDF7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998C33-0084-45A0-874B-AF3C1B8E4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9E08DB-0887-408D-B5A7-F80F4FB64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04641D-9974-474C-80D9-710A65513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66AFA4-A83B-4B86-B822-6AF7AD10F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E52D01-C187-4BFE-9C08-DF11D7DAF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85CD09-155E-4695-AC25-D65D1ED0C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3148F6-82F4-40F8-A723-EB8365212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ED53DB-3EDB-4E10-A7BB-325B3DADD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938F06-2F84-4D19-A8DB-B684018BD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A0E916-7854-40CF-81A9-B5C7FB47F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4EA8EC-BFD6-4CD5-89C7-122413D3E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2E567A-0747-40AA-AE6D-294946332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06E8E2-CA9A-42AF-818D-17FFD0540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303A32-D2E5-4E17-B00C-7F7486E14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828551-CAF1-494F-8F95-4D8487853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D394E3-2B0A-4C25-A2B0-0F9050DA1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1B2A7F-A06D-45B2-AEC7-8316BB7A4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5EFEE9-1C2D-486F-9AFF-80868939E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844713-69E8-4A19-8392-FC9E812B1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DA9ED0-7A12-413D-A492-6E81A597B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4B21C0-1019-4E5B-97C3-F518B73EB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CBBB69-8483-455F-8C72-7A9CD36AC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1D7460-8ED5-4CB8-850A-4AA81DE2F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20645A-F446-45C4-AC58-22C29B1FE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2A0DAB-3270-4548-B145-F83B54D2E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DD829E-8199-4366-A64E-98490D905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C:\Documents and Settings\Marcelo.Raimo\Desktop\pps\tarjas\barra-amarela.png"/>
          <p:cNvPicPr/>
          <p:nvPr/>
        </p:nvPicPr>
        <p:blipFill>
          <a:blip r:embed="rId2"/>
          <a:stretch/>
        </p:blipFill>
        <p:spPr>
          <a:xfrm>
            <a:off x="0" y="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C:\Documents and Settings\Marcelo.Raimo\Desktop\pps\tarjas\tarja_ciencias-sociais.png"/>
          <p:cNvPicPr/>
          <p:nvPr/>
        </p:nvPicPr>
        <p:blipFill>
          <a:blip r:embed="rId3"/>
          <a:stretch/>
        </p:blipFill>
        <p:spPr>
          <a:xfrm>
            <a:off x="-22320" y="6381720"/>
            <a:ext cx="9252000" cy="1413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Picture 9" descr="C:\Documents and Settings\Marcelo.Raimo\Desktop\pps\tarjas\barra-amarela.png"/>
          <p:cNvPicPr/>
          <p:nvPr/>
        </p:nvPicPr>
        <p:blipFill>
          <a:blip r:embed="rId2"/>
          <a:stretch/>
        </p:blipFill>
        <p:spPr>
          <a:xfrm>
            <a:off x="0" y="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2" descr="C:\Documents and Settings\Marcelo.Raimo\Desktop\pps\tarjas\tarja_ciencias-sociais.png"/>
          <p:cNvPicPr/>
          <p:nvPr/>
        </p:nvPicPr>
        <p:blipFill>
          <a:blip r:embed="rId3"/>
          <a:stretch/>
        </p:blipFill>
        <p:spPr>
          <a:xfrm>
            <a:off x="-22320" y="6381720"/>
            <a:ext cx="9252000" cy="1413000"/>
          </a:xfrm>
          <a:prstGeom prst="rect">
            <a:avLst/>
          </a:prstGeom>
          <a:ln w="0">
            <a:noFill/>
          </a:ln>
        </p:spPr>
      </p:pic>
      <p:sp>
        <p:nvSpPr>
          <p:cNvPr id="370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4C35A-BB2F-4EC0-819E-C121E1FA981D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Picture 9" descr="C:\Documents and Settings\Marcelo.Raimo\Desktop\pps\tarjas\barra-amarela.png"/>
          <p:cNvPicPr/>
          <p:nvPr/>
        </p:nvPicPr>
        <p:blipFill>
          <a:blip r:embed="rId2"/>
          <a:stretch/>
        </p:blipFill>
        <p:spPr>
          <a:xfrm>
            <a:off x="0" y="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2" descr="C:\Documents and Settings\Marcelo.Raimo\Desktop\pps\tarjas\tarja_ciencias-sociais.png"/>
          <p:cNvPicPr/>
          <p:nvPr/>
        </p:nvPicPr>
        <p:blipFill>
          <a:blip r:embed="rId3"/>
          <a:stretch/>
        </p:blipFill>
        <p:spPr>
          <a:xfrm>
            <a:off x="-22320" y="6381720"/>
            <a:ext cx="9252000" cy="1413000"/>
          </a:xfrm>
          <a:prstGeom prst="rect">
            <a:avLst/>
          </a:prstGeom>
          <a:ln w="0">
            <a:noFill/>
          </a:ln>
        </p:spPr>
      </p:pic>
      <p:sp>
        <p:nvSpPr>
          <p:cNvPr id="411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5A39B-DC4A-49AD-85CE-7A6183667EB7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Picture 9" descr="C:\Documents and Settings\Marcelo.Raimo\Desktop\pps\tarjas\barra-amarela.png"/>
          <p:cNvPicPr/>
          <p:nvPr/>
        </p:nvPicPr>
        <p:blipFill>
          <a:blip r:embed="rId2"/>
          <a:stretch/>
        </p:blipFill>
        <p:spPr>
          <a:xfrm>
            <a:off x="0" y="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2" descr="C:\Documents and Settings\Marcelo.Raimo\Desktop\pps\tarjas\tarja_ciencias-sociais.png"/>
          <p:cNvPicPr/>
          <p:nvPr/>
        </p:nvPicPr>
        <p:blipFill>
          <a:blip r:embed="rId3"/>
          <a:stretch/>
        </p:blipFill>
        <p:spPr>
          <a:xfrm>
            <a:off x="-22320" y="6381720"/>
            <a:ext cx="9252000" cy="1413000"/>
          </a:xfrm>
          <a:prstGeom prst="rect">
            <a:avLst/>
          </a:prstGeom>
          <a:ln w="0">
            <a:noFill/>
          </a:ln>
        </p:spPr>
      </p:pic>
      <p:sp>
        <p:nvSpPr>
          <p:cNvPr id="452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16EF7-023D-4ADB-B923-0E88AF55C255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Picture 9" descr="C:\Documents and Settings\Marcelo.Raimo\Desktop\pps\tarjas\barra-amarela.png"/>
          <p:cNvPicPr/>
          <p:nvPr/>
        </p:nvPicPr>
        <p:blipFill>
          <a:blip r:embed="rId2"/>
          <a:stretch/>
        </p:blipFill>
        <p:spPr>
          <a:xfrm>
            <a:off x="0" y="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39" name="Picture 2" descr="C:\Documents and Settings\Marcelo.Raimo\Desktop\pps\tarjas\tarja_ciencias-sociais.png"/>
          <p:cNvPicPr/>
          <p:nvPr/>
        </p:nvPicPr>
        <p:blipFill>
          <a:blip r:embed="rId3"/>
          <a:stretch/>
        </p:blipFill>
        <p:spPr>
          <a:xfrm>
            <a:off x="-22320" y="6381720"/>
            <a:ext cx="9252000" cy="1413000"/>
          </a:xfrm>
          <a:prstGeom prst="rect">
            <a:avLst/>
          </a:prstGeom>
          <a:ln w="0">
            <a:noFill/>
          </a:ln>
        </p:spPr>
      </p:pic>
      <p:sp>
        <p:nvSpPr>
          <p:cNvPr id="40" name="Retângulo 3"/>
          <p:cNvSpPr/>
          <p:nvPr/>
        </p:nvSpPr>
        <p:spPr>
          <a:xfrm>
            <a:off x="0" y="5329080"/>
            <a:ext cx="9144000" cy="1629000"/>
          </a:xfrm>
          <a:prstGeom prst="rect">
            <a:avLst/>
          </a:prstGeom>
          <a:solidFill>
            <a:srgbClr val="fee654">
              <a:alpha val="9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2" descr="C:\Documents and Settings\Marcelo.Raimo\Desktop\pps\tarjas\tarja_ciencias-sociais.png"/>
          <p:cNvPicPr/>
          <p:nvPr/>
        </p:nvPicPr>
        <p:blipFill>
          <a:blip r:embed="rId4"/>
          <a:stretch/>
        </p:blipFill>
        <p:spPr>
          <a:xfrm>
            <a:off x="-108000" y="1484280"/>
            <a:ext cx="9252000" cy="1413000"/>
          </a:xfrm>
          <a:prstGeom prst="rect">
            <a:avLst/>
          </a:prstGeom>
          <a:ln w="0">
            <a:noFill/>
          </a:ln>
        </p:spPr>
      </p:pic>
      <p:sp>
        <p:nvSpPr>
          <p:cNvPr id="42" name="Retângulo 5"/>
          <p:cNvSpPr/>
          <p:nvPr/>
        </p:nvSpPr>
        <p:spPr>
          <a:xfrm>
            <a:off x="0" y="1789200"/>
            <a:ext cx="9144000" cy="792000"/>
          </a:xfrm>
          <a:prstGeom prst="rect">
            <a:avLst/>
          </a:prstGeom>
          <a:solidFill>
            <a:srgbClr val="fdeb7f">
              <a:alpha val="8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9" descr="C:\Documents and Settings\Marcelo.Raimo\Desktop\pps\tarjas\barra-amarela.png"/>
          <p:cNvPicPr/>
          <p:nvPr/>
        </p:nvPicPr>
        <p:blipFill>
          <a:blip r:embed="rId2"/>
          <a:stretch/>
        </p:blipFill>
        <p:spPr>
          <a:xfrm>
            <a:off x="0" y="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" descr="C:\Documents and Settings\Marcelo.Raimo\Desktop\pps\tarjas\tarja_ciencias-sociais.png"/>
          <p:cNvPicPr/>
          <p:nvPr/>
        </p:nvPicPr>
        <p:blipFill>
          <a:blip r:embed="rId3"/>
          <a:stretch/>
        </p:blipFill>
        <p:spPr>
          <a:xfrm>
            <a:off x="-22320" y="6381720"/>
            <a:ext cx="9252000" cy="14130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80593-4FCD-4F56-91BF-FD92C8899773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9" descr="C:\Documents and Settings\Marcelo.Raimo\Desktop\pps\tarjas\barra-amarela.png"/>
          <p:cNvPicPr/>
          <p:nvPr/>
        </p:nvPicPr>
        <p:blipFill>
          <a:blip r:embed="rId2"/>
          <a:stretch/>
        </p:blipFill>
        <p:spPr>
          <a:xfrm>
            <a:off x="0" y="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2" descr="C:\Documents and Settings\Marcelo.Raimo\Desktop\pps\tarjas\tarja_ciencias-sociais.png"/>
          <p:cNvPicPr/>
          <p:nvPr/>
        </p:nvPicPr>
        <p:blipFill>
          <a:blip r:embed="rId3"/>
          <a:stretch/>
        </p:blipFill>
        <p:spPr>
          <a:xfrm>
            <a:off x="-22320" y="6381720"/>
            <a:ext cx="9252000" cy="14130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B2075-552A-4F5E-A7B7-BCE2EB127508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9" descr="C:\Documents and Settings\Marcelo.Raimo\Desktop\pps\tarjas\barra-amarela.png"/>
          <p:cNvPicPr/>
          <p:nvPr/>
        </p:nvPicPr>
        <p:blipFill>
          <a:blip r:embed="rId2"/>
          <a:stretch/>
        </p:blipFill>
        <p:spPr>
          <a:xfrm>
            <a:off x="0" y="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2" descr="C:\Documents and Settings\Marcelo.Raimo\Desktop\pps\tarjas\tarja_ciencias-sociais.png"/>
          <p:cNvPicPr/>
          <p:nvPr/>
        </p:nvPicPr>
        <p:blipFill>
          <a:blip r:embed="rId3"/>
          <a:stretch/>
        </p:blipFill>
        <p:spPr>
          <a:xfrm>
            <a:off x="-22320" y="6381720"/>
            <a:ext cx="9252000" cy="141300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7076C-93EC-41FF-823B-11390BCCA255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9" descr="C:\Documents and Settings\Marcelo.Raimo\Desktop\pps\tarjas\barra-amarela.png"/>
          <p:cNvPicPr/>
          <p:nvPr/>
        </p:nvPicPr>
        <p:blipFill>
          <a:blip r:embed="rId2"/>
          <a:stretch/>
        </p:blipFill>
        <p:spPr>
          <a:xfrm>
            <a:off x="0" y="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2" descr="C:\Documents and Settings\Marcelo.Raimo\Desktop\pps\tarjas\tarja_ciencias-sociais.png"/>
          <p:cNvPicPr/>
          <p:nvPr/>
        </p:nvPicPr>
        <p:blipFill>
          <a:blip r:embed="rId3"/>
          <a:stretch/>
        </p:blipFill>
        <p:spPr>
          <a:xfrm>
            <a:off x="-22320" y="6381720"/>
            <a:ext cx="9252000" cy="141300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0A153-BC2C-4FA3-810B-B50C1E52904D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Picture 9" descr="C:\Documents and Settings\Marcelo.Raimo\Desktop\pps\tarjas\barra-amarela.png"/>
          <p:cNvPicPr/>
          <p:nvPr/>
        </p:nvPicPr>
        <p:blipFill>
          <a:blip r:embed="rId2"/>
          <a:stretch/>
        </p:blipFill>
        <p:spPr>
          <a:xfrm>
            <a:off x="0" y="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2" descr="C:\Documents and Settings\Marcelo.Raimo\Desktop\pps\tarjas\tarja_ciencias-sociais.png"/>
          <p:cNvPicPr/>
          <p:nvPr/>
        </p:nvPicPr>
        <p:blipFill>
          <a:blip r:embed="rId3"/>
          <a:stretch/>
        </p:blipFill>
        <p:spPr>
          <a:xfrm>
            <a:off x="-22320" y="6381720"/>
            <a:ext cx="9252000" cy="1413000"/>
          </a:xfrm>
          <a:prstGeom prst="rect">
            <a:avLst/>
          </a:prstGeom>
          <a:ln w="0">
            <a:noFill/>
          </a:ln>
        </p:spPr>
      </p:pic>
      <p:sp>
        <p:nvSpPr>
          <p:cNvPr id="247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C503E-B048-4222-BCCC-E9AC4E7F2668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Picture 9" descr="C:\Documents and Settings\Marcelo.Raimo\Desktop\pps\tarjas\barra-amarela.png"/>
          <p:cNvPicPr/>
          <p:nvPr/>
        </p:nvPicPr>
        <p:blipFill>
          <a:blip r:embed="rId2"/>
          <a:stretch/>
        </p:blipFill>
        <p:spPr>
          <a:xfrm>
            <a:off x="0" y="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2" descr="C:\Documents and Settings\Marcelo.Raimo\Desktop\pps\tarjas\tarja_ciencias-sociais.png"/>
          <p:cNvPicPr/>
          <p:nvPr/>
        </p:nvPicPr>
        <p:blipFill>
          <a:blip r:embed="rId3"/>
          <a:stretch/>
        </p:blipFill>
        <p:spPr>
          <a:xfrm>
            <a:off x="-22320" y="6381720"/>
            <a:ext cx="9252000" cy="1413000"/>
          </a:xfrm>
          <a:prstGeom prst="rect">
            <a:avLst/>
          </a:prstGeom>
          <a:ln w="0">
            <a:noFill/>
          </a:ln>
        </p:spPr>
      </p:pic>
      <p:sp>
        <p:nvSpPr>
          <p:cNvPr id="288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68B1B-0921-4937-8941-D5122B676FBE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Picture 9" descr="C:\Documents and Settings\Marcelo.Raimo\Desktop\pps\tarjas\barra-amarela.png"/>
          <p:cNvPicPr/>
          <p:nvPr/>
        </p:nvPicPr>
        <p:blipFill>
          <a:blip r:embed="rId2"/>
          <a:stretch/>
        </p:blipFill>
        <p:spPr>
          <a:xfrm>
            <a:off x="0" y="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2" descr="C:\Documents and Settings\Marcelo.Raimo\Desktop\pps\tarjas\tarja_ciencias-sociais.png"/>
          <p:cNvPicPr/>
          <p:nvPr/>
        </p:nvPicPr>
        <p:blipFill>
          <a:blip r:embed="rId3"/>
          <a:stretch/>
        </p:blipFill>
        <p:spPr>
          <a:xfrm>
            <a:off x="-22320" y="6381720"/>
            <a:ext cx="9252000" cy="1413000"/>
          </a:xfrm>
          <a:prstGeom prst="rect">
            <a:avLst/>
          </a:prstGeom>
          <a:ln w="0">
            <a:noFill/>
          </a:ln>
        </p:spPr>
      </p:pic>
      <p:sp>
        <p:nvSpPr>
          <p:cNvPr id="329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CF579-6D17-4EE3-957D-F67DA1F89355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Retângulo 3"/>
          <p:cNvSpPr/>
          <p:nvPr/>
        </p:nvSpPr>
        <p:spPr>
          <a:xfrm>
            <a:off x="0" y="5229360"/>
            <a:ext cx="9144000" cy="1628640"/>
          </a:xfrm>
          <a:prstGeom prst="rect">
            <a:avLst/>
          </a:prstGeom>
          <a:solidFill>
            <a:srgbClr val="fee654">
              <a:alpha val="7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CaixaDeTexto 9"/>
          <p:cNvSpPr/>
          <p:nvPr/>
        </p:nvSpPr>
        <p:spPr>
          <a:xfrm>
            <a:off x="6296040" y="2925720"/>
            <a:ext cx="633564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10253f"/>
                </a:solidFill>
                <a:latin typeface="Calibri"/>
              </a:rPr>
              <a:t>Profª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CaixaDeTexto 8"/>
          <p:cNvSpPr/>
          <p:nvPr/>
        </p:nvSpPr>
        <p:spPr>
          <a:xfrm>
            <a:off x="1430280" y="5400720"/>
            <a:ext cx="640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d0d0d"/>
                </a:solidFill>
                <a:latin typeface="Calibri"/>
              </a:rPr>
              <a:t>Mercado global, Mídia e Relações de po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4" name="Picture 2" descr="C:\Documents and Settings\Marcelo.Raimo\Desktop\pps\tarjas\tarja_ciencias-sociais.png"/>
          <p:cNvPicPr/>
          <p:nvPr/>
        </p:nvPicPr>
        <p:blipFill>
          <a:blip r:embed="rId1"/>
          <a:stretch/>
        </p:blipFill>
        <p:spPr>
          <a:xfrm>
            <a:off x="-108000" y="1484280"/>
            <a:ext cx="9252000" cy="1413000"/>
          </a:xfrm>
          <a:prstGeom prst="rect">
            <a:avLst/>
          </a:prstGeom>
          <a:ln w="0">
            <a:noFill/>
          </a:ln>
        </p:spPr>
      </p:pic>
      <p:sp>
        <p:nvSpPr>
          <p:cNvPr id="495" name="Retângulo 7"/>
          <p:cNvSpPr/>
          <p:nvPr/>
        </p:nvSpPr>
        <p:spPr>
          <a:xfrm>
            <a:off x="0" y="1789200"/>
            <a:ext cx="9144000" cy="792000"/>
          </a:xfrm>
          <a:prstGeom prst="rect">
            <a:avLst/>
          </a:prstGeom>
          <a:solidFill>
            <a:srgbClr val="fdeb7f">
              <a:alpha val="8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CaixaDeTexto 8"/>
          <p:cNvSpPr/>
          <p:nvPr/>
        </p:nvSpPr>
        <p:spPr>
          <a:xfrm>
            <a:off x="395280" y="1833480"/>
            <a:ext cx="55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Calibri"/>
              </a:rPr>
              <a:t>Ciências Socia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7" name="Picture 9" descr="C:\Documents and Settings\Marcelo.Raimo\Desktop\pps\tarjas\barra-amarela.png"/>
          <p:cNvPicPr/>
          <p:nvPr/>
        </p:nvPicPr>
        <p:blipFill>
          <a:blip r:embed="rId2"/>
          <a:stretch/>
        </p:blipFill>
        <p:spPr>
          <a:xfrm>
            <a:off x="0" y="-112680"/>
            <a:ext cx="9144000" cy="1020600"/>
          </a:xfrm>
          <a:prstGeom prst="rect">
            <a:avLst/>
          </a:prstGeom>
          <a:ln w="0">
            <a:noFill/>
          </a:ln>
        </p:spPr>
      </p:pic>
      <p:sp>
        <p:nvSpPr>
          <p:cNvPr id="498" name="Elipse 10"/>
          <p:cNvSpPr/>
          <p:nvPr/>
        </p:nvSpPr>
        <p:spPr>
          <a:xfrm>
            <a:off x="-96840" y="3147840"/>
            <a:ext cx="2305080" cy="23036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CaixaDeTexto 11"/>
          <p:cNvSpPr/>
          <p:nvPr/>
        </p:nvSpPr>
        <p:spPr>
          <a:xfrm>
            <a:off x="76320" y="3776760"/>
            <a:ext cx="1942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xemplo Ca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CaixaDeTexto 12"/>
          <p:cNvSpPr/>
          <p:nvPr/>
        </p:nvSpPr>
        <p:spPr>
          <a:xfrm>
            <a:off x="93600" y="4842000"/>
            <a:ext cx="19432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Apenas para exemplo; descarte este slid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1" name="Picture 3" descr="C:\Documents and Settings\Marcelo.Raimo\Desktop\pps\imagens-estudos\palm.png"/>
          <p:cNvPicPr/>
          <p:nvPr/>
        </p:nvPicPr>
        <p:blipFill>
          <a:blip r:embed="rId1"/>
          <a:stretch/>
        </p:blipFill>
        <p:spPr>
          <a:xfrm>
            <a:off x="1332000" y="996840"/>
            <a:ext cx="7812000" cy="5862600"/>
          </a:xfrm>
          <a:prstGeom prst="rect">
            <a:avLst/>
          </a:prstGeom>
          <a:ln w="0">
            <a:noFill/>
          </a:ln>
        </p:spPr>
      </p:pic>
      <p:pic>
        <p:nvPicPr>
          <p:cNvPr id="502" name="Picture 9" descr="C:\Documents and Settings\Marcelo.Raimo\Desktop\pps\tarjas\barra-amarela.png"/>
          <p:cNvPicPr/>
          <p:nvPr/>
        </p:nvPicPr>
        <p:blipFill>
          <a:blip r:embed="rId2"/>
          <a:stretch/>
        </p:blipFill>
        <p:spPr>
          <a:xfrm>
            <a:off x="0" y="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503" name="Picture 2" descr="C:\Documents and Settings\Marcelo.Raimo\Desktop\pps\tarjas\tarja_ciencias-sociais.png"/>
          <p:cNvPicPr/>
          <p:nvPr/>
        </p:nvPicPr>
        <p:blipFill>
          <a:blip r:embed="rId3"/>
          <a:stretch/>
        </p:blipFill>
        <p:spPr>
          <a:xfrm>
            <a:off x="-22320" y="6381720"/>
            <a:ext cx="9252000" cy="1413000"/>
          </a:xfrm>
          <a:prstGeom prst="rect">
            <a:avLst/>
          </a:prstGeom>
          <a:ln w="0">
            <a:noFill/>
          </a:ln>
        </p:spPr>
      </p:pic>
      <p:sp>
        <p:nvSpPr>
          <p:cNvPr id="504" name="CaixaDeTexto 8"/>
          <p:cNvSpPr/>
          <p:nvPr/>
        </p:nvSpPr>
        <p:spPr>
          <a:xfrm>
            <a:off x="395280" y="133200"/>
            <a:ext cx="55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10253f"/>
                </a:solidFill>
                <a:latin typeface="Calibri"/>
              </a:rPr>
              <a:t>- Objetivos da Aul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CaixaDeTexto 9"/>
          <p:cNvSpPr/>
          <p:nvPr/>
        </p:nvSpPr>
        <p:spPr>
          <a:xfrm>
            <a:off x="289080" y="1279440"/>
            <a:ext cx="8675640" cy="42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10253f"/>
                </a:solidFill>
                <a:latin typeface="Calibri"/>
              </a:rPr>
              <a:t>- Teoria Geral dos Sistem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10253f"/>
                </a:solidFill>
                <a:latin typeface="Calibri"/>
              </a:rPr>
              <a:t>- Sistemas de Informação baseado em computador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10253f"/>
                </a:solidFill>
                <a:latin typeface="Calibri"/>
              </a:rPr>
              <a:t>- Internet, extranet e intran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10253f"/>
                </a:solidFill>
                <a:latin typeface="Calibri"/>
              </a:rPr>
              <a:t>- A Empresa como Sistema Abert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600" spc="-1" strike="noStrike">
                <a:solidFill>
                  <a:srgbClr val="10253f"/>
                </a:solidFill>
                <a:latin typeface="Calibri"/>
              </a:rPr>
              <a:t>- Software</a:t>
            </a:r>
            <a:r>
              <a:rPr b="0" lang="pt-BR" sz="2600" spc="-1" strike="noStrike">
                <a:solidFill>
                  <a:srgbClr val="10253f"/>
                </a:solidFill>
                <a:latin typeface="Calibri"/>
              </a:rPr>
              <a:t> e </a:t>
            </a:r>
            <a:r>
              <a:rPr b="0" i="1" lang="pt-BR" sz="2600" spc="-1" strike="noStrike">
                <a:solidFill>
                  <a:srgbClr val="10253f"/>
                </a:solidFill>
                <a:latin typeface="Calibri"/>
              </a:rPr>
              <a:t>Hardwa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10253f"/>
                </a:solidFill>
                <a:latin typeface="Calibri"/>
              </a:rPr>
              <a:t>- Telecomunicaçõe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10253f"/>
                </a:solidFill>
                <a:latin typeface="Calibri"/>
              </a:rPr>
              <a:t>- Rede de Computador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Elipse 8"/>
          <p:cNvSpPr/>
          <p:nvPr/>
        </p:nvSpPr>
        <p:spPr>
          <a:xfrm>
            <a:off x="6840360" y="765000"/>
            <a:ext cx="2303640" cy="23036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CaixaDeTexto 9"/>
          <p:cNvSpPr/>
          <p:nvPr/>
        </p:nvSpPr>
        <p:spPr>
          <a:xfrm>
            <a:off x="7012080" y="1393920"/>
            <a:ext cx="194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xemplo Conteú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CaixaDeTexto 10"/>
          <p:cNvSpPr/>
          <p:nvPr/>
        </p:nvSpPr>
        <p:spPr>
          <a:xfrm>
            <a:off x="7029360" y="2457360"/>
            <a:ext cx="1944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Apenas para exemplo; descarte este slid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9T18:17:13Z</dcterms:created>
  <dc:creator>marcelo.raimo</dc:creator>
  <dc:description/>
  <dc:language>en-US</dc:language>
  <cp:lastModifiedBy>marcelo.raimo</cp:lastModifiedBy>
  <dcterms:modified xsi:type="dcterms:W3CDTF">2011-04-19T19:00:29Z</dcterms:modified>
  <cp:revision>3</cp:revision>
  <dc:subject/>
  <dc:title>Slide 1</dc:title>
</cp:coreProperties>
</file>