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0EE-82F2-487B-96C6-3433F2E4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48B-A87B-4F89-B2E5-1D9BD1C5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11F-EB91-4144-968F-B2949303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D495-CA8F-4382-BE04-D99F8C87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D39A-22BC-4BC7-9E3E-5A86579D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AB6-D88A-4D48-A448-1DB31348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FA9-4D6A-4CF9-A7DF-98A416DF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76B-BA98-4FD2-849D-C4DB7A70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FE4-46AD-4370-9924-1B30247C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B8BA-96CD-46C3-AFB1-9A9234F0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554F-B865-46E1-85DF-03D7FF59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EED-A2E3-4C1F-A32F-0B899B94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6B84-DAB4-4007-9FF7-B735B3B5B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64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4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4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64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30Z</dcterms:created>
  <dc:creator>IMS</dc:creator>
  <dc:description/>
  <dc:language>en-US</dc:language>
  <cp:lastModifiedBy>IMS</cp:lastModifiedBy>
  <dcterms:modified xsi:type="dcterms:W3CDTF">2008-09-09T17:30:42Z</dcterms:modified>
  <cp:revision>3</cp:revision>
  <dc:subject/>
  <dc:title>Slide 1</dc:title>
</cp:coreProperties>
</file>