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607-8B3A-4866-B7B1-2D934120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15F3-AC77-4589-AA31-4112ED56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C182-34F8-41CA-983F-AF40A00B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D84-C7D0-418E-AAF4-8B64B41E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7CC7-F3C6-42FA-82FF-F4C7594D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0BD7-2236-4B98-B7C8-47983756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1FFD-504D-4B51-9296-A0CD75EF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A0C5-9759-4008-BAF7-E0AC9D0F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8B19-E8E5-4DCC-BEE6-5964E853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C450-2D13-4D39-8379-D0E293F9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56C6-47A2-442B-A8BD-35357609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FFC7-AA7C-4CC4-98F7-ADC15D36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52D0-A5D7-4B1F-A296-87132413B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47Z</dcterms:created>
  <dc:creator>IMS</dc:creator>
  <dc:description/>
  <dc:language>en-US</dc:language>
  <cp:lastModifiedBy>IMS</cp:lastModifiedBy>
  <dcterms:modified xsi:type="dcterms:W3CDTF">2008-09-09T17:27:57Z</dcterms:modified>
  <cp:revision>2</cp:revision>
  <dc:subject/>
  <dc:title>Slide 1</dc:title>
</cp:coreProperties>
</file>