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8943-128D-4BF2-BD5E-A008FCA75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2BDB-EBF0-4D3D-A013-246EB3AB1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FCD2-88C1-433E-B39F-A003ADCD3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B4FE-E11E-4DA2-B3CF-5CC263124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684D-3868-47AA-B89B-F5559AE1B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D3EA-1E82-4E15-9D70-0F2598D2A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8C89-C746-4934-8A29-FEAD691EB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6F84-622E-4F4C-B097-74B13A146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276E-18BC-4403-ADA8-5D0646B10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522C-9B82-413C-A7B2-29F72741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4307-B5BD-4FB9-BB09-EB5000CEE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4283-5047-4586-A0A5-14CF0EC1B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33226-1648-4F7B-9917-DAA23A380D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2360" y="2133720"/>
            <a:ext cx="450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48"/>
                </a:solidFill>
                <a:latin typeface="Arial"/>
              </a:rPr>
              <a:t>Matéria: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508464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1394200">
            <a:off x="5651280" y="6890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Curso: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1919160"/>
            <a:ext cx="857880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48"/>
                </a:solidFill>
                <a:latin typeface="Arial"/>
              </a:rPr>
              <a:t>Texto -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456552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48"/>
                </a:solidFill>
                <a:latin typeface="Arial"/>
              </a:rPr>
              <a:t>Destaque- Arial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4508640"/>
            <a:ext cx="1584360" cy="86364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040" y="1031760"/>
            <a:ext cx="81820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48"/>
                </a:solidFill>
                <a:latin typeface="Arial"/>
              </a:rPr>
              <a:t>Título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7:27:47Z</dcterms:created>
  <dc:creator>IMS</dc:creator>
  <dc:description/>
  <dc:language>en-US</dc:language>
  <cp:lastModifiedBy>IMS</cp:lastModifiedBy>
  <dcterms:modified xsi:type="dcterms:W3CDTF">2008-09-09T17:27:57Z</dcterms:modified>
  <cp:revision>2</cp:revision>
  <dc:subject/>
  <dc:title>Slide 1</dc:title>
</cp:coreProperties>
</file>