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9E91-767D-42B8-B897-49235081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08B1-65D7-4888-B9CD-7B984CF2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C553-CDB7-48AE-B1C8-98B837E5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40D7-8233-4539-8C75-888562F8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83C6-FE11-4E47-8A5A-2E7CC5B4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611F-3CDC-49BE-A76C-B804F6C2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971F-4744-4ABD-9A8F-2E991314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59A0-2DF8-4F67-AF6C-A2CB4E19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E5B6-3799-4D9E-A3C0-C34553F9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A2C2-6B60-444B-AF5D-B5154672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124A-A6B9-48D4-AD94-95F1DB8A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C74E-DCFC-4B2C-99A5-33C88435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5457-45F7-42DE-BC8C-7C22DC292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47Z</dcterms:created>
  <dc:creator>IMS</dc:creator>
  <dc:description/>
  <dc:language>en-US</dc:language>
  <cp:lastModifiedBy>IMS</cp:lastModifiedBy>
  <dcterms:modified xsi:type="dcterms:W3CDTF">2008-09-09T17:27:57Z</dcterms:modified>
  <cp:revision>2</cp:revision>
  <dc:subject/>
  <dc:title>Slide 1</dc:title>
</cp:coreProperties>
</file>