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708B-C03D-42BA-B177-A5578BB7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800F-8CA8-470E-914E-0316713B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F1B8-89DD-4328-A195-690A54BC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E919-F6E0-4B11-9694-0EF964C5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9C23-BD4D-4CC0-8F31-C875318D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9FA-E9FD-4326-BDFC-E83DA37A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E090-483F-469A-9EC0-55D9D509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919B-8BBB-485E-85AB-DC80B46D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8D67-4C7A-45B5-8E53-5B6F770B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D521-9C93-44F4-B9BF-72BBFA21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CF41-8DF6-4752-8E8D-BCD1E605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5B7D-F8EA-425E-83F8-6AB7EB12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3271-2B0B-415B-8CE9-D9A08EC79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31:03Z</dcterms:modified>
  <cp:revision>4</cp:revision>
  <dc:subject/>
  <dc:title>Slide 1</dc:title>
</cp:coreProperties>
</file>