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3D78-E13F-4B1C-B1FB-FB81B98B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5B5-E6E5-4BDC-97E8-C9AAA5DE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F8D-AD99-4C27-872D-DB6C62ED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8568-7DFC-4BA2-83C0-3A4F6E32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BDD-B527-498F-BA75-35248E48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2AB3-77C3-4E3D-9BEE-9F9F6D94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4026-CFA3-4727-A009-6BC8864D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02B-615B-4D00-BDE3-9E7D29F6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E18-D820-48F3-9831-CD7EBCF4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092-88E3-4F73-B84F-BBEC20D1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B016-FECC-4D7F-92FE-5FD2CA3B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2195-C498-4E13-A2F8-6B60DDD9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B87A-0B59-4774-BB05-F2B7F220C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31:03Z</dcterms:modified>
  <cp:revision>4</cp:revision>
  <dc:subject/>
  <dc:title>Slide 1</dc:title>
</cp:coreProperties>
</file>