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34B-1EB8-4303-ACBB-B8EDC085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519-56A9-4183-BDA6-37B6CA66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0024-A9B1-4AE5-9B23-A14953D3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330C-B022-4626-81C9-F0770D3BE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4FAE-BDE6-4088-A802-9B0D040C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450-2BDB-4D69-BCE3-4BEE24D6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9B7-E25A-435D-9784-E7670FED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66D-FB23-4B74-B316-984F8838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3383-81BF-430C-AAB8-990790FC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FADC-1056-40C5-90E0-AC22470D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F295-C68C-4C59-8E57-475AC9C8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779-8880-413E-9BA3-FD9FD773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50C6-FF5D-4417-92F5-A6F0652BC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18:25Z</dcterms:created>
  <dc:creator>IMS</dc:creator>
  <dc:description/>
  <dc:language>en-US</dc:language>
  <cp:lastModifiedBy>IMS</cp:lastModifiedBy>
  <dcterms:modified xsi:type="dcterms:W3CDTF">2008-09-09T17:31:03Z</dcterms:modified>
  <cp:revision>4</cp:revision>
  <dc:subject/>
  <dc:title>Slide 1</dc:title>
</cp:coreProperties>
</file>